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12.wmf" ContentType="image/x-wmf"/>
  <Override PartName="/ppt/media/image21.jpeg" ContentType="image/jpeg"/>
  <Override PartName="/ppt/media/image16.jpeg" ContentType="image/jpeg"/>
  <Override PartName="/ppt/media/image20.png" ContentType="image/png"/>
  <Override PartName="/ppt/media/image2.jpeg" ContentType="image/jpeg"/>
  <Override PartName="/ppt/media/image3.png" ContentType="image/png"/>
  <Override PartName="/ppt/media/image18.jpeg" ContentType="image/jpeg"/>
  <Override PartName="/ppt/media/image17.wmf" ContentType="image/x-wmf"/>
  <Override PartName="/ppt/media/image15.png" ContentType="image/png"/>
  <Override PartName="/ppt/media/image5.jpeg" ContentType="image/jpeg"/>
  <Override PartName="/ppt/media/image14.png" ContentType="image/png"/>
  <Override PartName="/ppt/media/image4.jpeg" ContentType="image/jpe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62000" y="88423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89CBF3B-EAE2-4A31-B947-316390152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7280" y="703080"/>
            <a:ext cx="462456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292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and third generation technologies are primarily are designed for mobility systems. However, based on a paper by researchers at Erricson we conclude that even for a fixed system the system capacity would be at most double what is shown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x’s performance shown is based on a 2x15 MHz layout with 1 MHz guard bands (therefore 2x13 MHz of usable spectrum for data). For a system with 16 antennas and a spectral spreading factor 2, the baseline performance for traffic (4 bits/tone) is 0.92 bps/Hz per user. It is conceivable that the 32 degrees of freedom could support 32 users, in which case the capacity is 29.6 bps/Hz. Although conceivable, supporting 32 users is not likely. Simulations for a single cell indicate that the number of simultaneous users with 32 DOFs is about 16, which corresponds to 14.8 bps/Hz. For an embedded cell with a suburban Hata/COST-231 propagation model, simulations indicate that the number of simultaneous users with 32 DOFs is about 9. This corresponds to 8.3 bps/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rtopright4" descr=""/>
          <p:cNvPicPr/>
          <p:nvPr/>
        </p:nvPicPr>
        <p:blipFill>
          <a:blip r:embed="rId2"/>
          <a:stretch/>
        </p:blipFill>
        <p:spPr>
          <a:xfrm>
            <a:off x="3495600" y="0"/>
            <a:ext cx="5648400" cy="714240"/>
          </a:xfrm>
          <a:prstGeom prst="rect">
            <a:avLst/>
          </a:prstGeom>
          <a:ln w="0">
            <a:noFill/>
          </a:ln>
        </p:spPr>
      </p:pic>
      <p:pic>
        <p:nvPicPr>
          <p:cNvPr id="1" name="left_image" descr=""/>
          <p:cNvPicPr/>
          <p:nvPr/>
        </p:nvPicPr>
        <p:blipFill>
          <a:blip r:embed="rId3"/>
          <a:stretch/>
        </p:blipFill>
        <p:spPr>
          <a:xfrm>
            <a:off x="0" y="736560"/>
            <a:ext cx="2736720" cy="963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7661160" y="6541920"/>
            <a:ext cx="11336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27680" y="6541920"/>
            <a:ext cx="9464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6340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beamreachcolor" descr=""/>
          <p:cNvPicPr/>
          <p:nvPr/>
        </p:nvPicPr>
        <p:blipFill>
          <a:blip r:embed="rId5"/>
          <a:stretch/>
        </p:blipFill>
        <p:spPr>
          <a:xfrm>
            <a:off x="446040" y="147600"/>
            <a:ext cx="2276640" cy="5763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57200" y="1123920"/>
            <a:ext cx="0" cy="55339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11336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66452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674200" y="6388200"/>
            <a:ext cx="469800" cy="46980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750160" y="6464160"/>
            <a:ext cx="330480" cy="330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81960" y="651204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1760-AAC8-47A7-A64D-33C0EDC1FD0A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" descr=""/>
          <p:cNvPicPr/>
          <p:nvPr/>
        </p:nvPicPr>
        <p:blipFill>
          <a:blip r:embed="rId2"/>
          <a:stretch/>
        </p:blipFill>
        <p:spPr>
          <a:xfrm>
            <a:off x="0" y="1654200"/>
            <a:ext cx="9144000" cy="374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462880" y="651528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5E07-CAAD-4852-B0A6-FBC0C20E3A04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eamreachcolor" descr=""/>
          <p:cNvPicPr/>
          <p:nvPr/>
        </p:nvPicPr>
        <p:blipFill>
          <a:blip r:embed="rId3"/>
          <a:stretch/>
        </p:blipFill>
        <p:spPr>
          <a:xfrm>
            <a:off x="1989000" y="2081160"/>
            <a:ext cx="2457720" cy="622440"/>
          </a:xfrm>
          <a:prstGeom prst="rect">
            <a:avLst/>
          </a:prstGeom>
          <a:ln w="0">
            <a:noFill/>
          </a:ln>
        </p:spPr>
      </p:pic>
      <p:pic>
        <p:nvPicPr>
          <p:cNvPr id="53" name="extending" descr=""/>
          <p:cNvPicPr/>
          <p:nvPr/>
        </p:nvPicPr>
        <p:blipFill>
          <a:blip r:embed="rId4"/>
          <a:stretch/>
        </p:blipFill>
        <p:spPr>
          <a:xfrm>
            <a:off x="4838760" y="2197080"/>
            <a:ext cx="2876400" cy="488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8576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62440" y="3757680"/>
            <a:ext cx="34725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NLOS in the microwave b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CDMA vs OFD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ernard Aboussou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VP 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heim, 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857760" y="365040"/>
          <a:ext cx="142848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7760" y="365040"/>
                    <a:ext cx="14284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55720" y="365040"/>
            <a:ext cx="53974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mPlex™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base_combo" descr=""/>
          <p:cNvPicPr/>
          <p:nvPr/>
        </p:nvPicPr>
        <p:blipFill>
          <a:blip r:embed="rId1"/>
          <a:stretch/>
        </p:blipFill>
        <p:spPr>
          <a:xfrm>
            <a:off x="3648240" y="1233360"/>
            <a:ext cx="2638440" cy="2546640"/>
          </a:xfrm>
          <a:prstGeom prst="rect">
            <a:avLst/>
          </a:prstGeom>
          <a:ln w="0">
            <a:noFill/>
          </a:ln>
        </p:spPr>
      </p:pic>
      <p:pic>
        <p:nvPicPr>
          <p:cNvPr id="151" name="group%201%20inside%20with%20laptop" descr=""/>
          <p:cNvPicPr/>
          <p:nvPr/>
        </p:nvPicPr>
        <p:blipFill>
          <a:blip r:embed="rId2"/>
          <a:stretch/>
        </p:blipFill>
        <p:spPr>
          <a:xfrm>
            <a:off x="7340760" y="1420920"/>
            <a:ext cx="1217520" cy="1825560"/>
          </a:xfrm>
          <a:prstGeom prst="rect">
            <a:avLst/>
          </a:prstGeom>
          <a:ln w="0">
            <a:noFill/>
          </a:ln>
        </p:spPr>
      </p:pic>
      <p:pic>
        <p:nvPicPr>
          <p:cNvPr id="152" name="config-gif" descr=""/>
          <p:cNvPicPr/>
          <p:nvPr/>
        </p:nvPicPr>
        <p:blipFill>
          <a:blip r:embed="rId3"/>
          <a:stretch/>
        </p:blipFill>
        <p:spPr>
          <a:xfrm>
            <a:off x="6580080" y="4392720"/>
            <a:ext cx="2360880" cy="1716120"/>
          </a:xfrm>
          <a:prstGeom prst="rect">
            <a:avLst/>
          </a:prstGeom>
          <a:ln w="0">
            <a:noFill/>
          </a:ln>
        </p:spPr>
      </p:pic>
      <p:pic>
        <p:nvPicPr>
          <p:cNvPr id="153" name="remote1" descr=""/>
          <p:cNvPicPr/>
          <p:nvPr/>
        </p:nvPicPr>
        <p:blipFill>
          <a:blip r:embed="rId4"/>
          <a:stretch/>
        </p:blipFill>
        <p:spPr>
          <a:xfrm>
            <a:off x="1041480" y="1384200"/>
            <a:ext cx="1752480" cy="17528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995400" y="4306680"/>
            <a:ext cx="470700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In local trial: Feb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First customer trial in US: Q2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12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540ac"/>
                </a:solidFill>
                <a:latin typeface="Arial"/>
              </a:rPr>
              <a:t>Commercial availability: Q3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3400" y="5934240"/>
            <a:ext cx="4780080" cy="39888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ease come visit us at booth 1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956880" y="1555200"/>
            <a:ext cx="7628040" cy="452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link budget &amp; low fade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link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spectral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spectrum flex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ll concurr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o compromise with BeamPlex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44280" y="1403280"/>
            <a:ext cx="7628040" cy="532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Coverage: Link Budget &amp; fade margin not cell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verage, availability, height of antennas, building penetration l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agation model: Cost 231, Erceg B/ C, Tree canopy with diff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 rate assumed</a:t>
            </a: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Capacity: Mb/s per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 of modulation, co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-cell scen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ll radius and spectral efficiency assum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Spectrum efficiency: Mb/s/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E and cost of instal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rastructure cost per subscriber and cost of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t of spect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Product 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 Evaluation Crite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0560" y="774360"/>
            <a:ext cx="7029720" cy="43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amReach Networks’ S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5040" y="2371680"/>
            <a:ext cx="311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27511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ofdm_nt" descr=""/>
          <p:cNvPicPr/>
          <p:nvPr/>
        </p:nvPicPr>
        <p:blipFill>
          <a:blip r:embed="rId1"/>
          <a:stretch/>
        </p:blipFill>
        <p:spPr>
          <a:xfrm>
            <a:off x="5308560" y="1181160"/>
            <a:ext cx="3708360" cy="5257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578560" y="196344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Time Di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Duplex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3320" y="2820960"/>
            <a:ext cx="16858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tacked Carr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pectr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60960" y="371772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ntenna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91360" y="3394080"/>
            <a:ext cx="16858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Q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R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97520" y="1629720"/>
            <a:ext cx="16862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OFD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58120" y="242388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Mod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8200" y="1487160"/>
            <a:ext cx="4757760" cy="343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Based on Adaptive MultiBeam OFDM (AMB-OFD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ptive beamforming and null st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Delivers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link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spectral e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ow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aunching BeamPlex™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2000" y="5451480"/>
            <a:ext cx="3586320" cy="52056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Comprom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98880" y="279000"/>
            <a:ext cx="58291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4840" y="1992240"/>
            <a:ext cx="4790880" cy="345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Beamforming and Spectral combi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Optimal M-branch diversity comb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antenna at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4 dB fade margin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Huge increase in useable path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in cell area by factor of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 for indoor installab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>
            <a:lum contrast="12000"/>
          </a:blip>
          <a:srcRect l="0" t="0" r="0" b="7137"/>
          <a:stretch/>
        </p:blipFill>
        <p:spPr>
          <a:xfrm>
            <a:off x="4762440" y="2136600"/>
            <a:ext cx="4381560" cy="2811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765680" y="5066640"/>
            <a:ext cx="437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bability Distribution of SNR (dB) for M 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44280" y="1923480"/>
            <a:ext cx="7628040" cy="367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 fontScale="99000"/>
          </a:bodyPr>
          <a:p>
            <a:pPr marL="282960" indent="-28296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Near symmetrical link rates at cell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 Mb/s down, net of MAC &amp; PHY overh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 Mb/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1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Sub-rate services and settable SLAs</a:t>
            </a:r>
            <a:r>
              <a:rPr b="1" lang="en-US" sz="2000" spc="-1" strike="noStrike">
                <a:solidFill>
                  <a:srgbClr val="4540a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Very high capacity per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able up to 220 Mb/s in 24 MHz of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usands of subscri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 to 10 times intra-cell frequency r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frequency reuse in adjacent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 Rate &amp; Capac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87760" y="723600"/>
            <a:ext cx="62625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tral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87480" y="2030400"/>
          <a:ext cx="7623000" cy="355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7480" y="2030400"/>
                    <a:ext cx="7623000" cy="35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of AMB-OFDM vs 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78840" y="4875120"/>
            <a:ext cx="2593080" cy="94752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ectral ef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MA: 0.5- 0.75 b/s/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DM: 9 b/s/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2280" y="4951440"/>
            <a:ext cx="2122200" cy="94752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MA: 24-27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DM: 220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95440" y="1434960"/>
          <a:ext cx="3792240" cy="240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5440" y="1434960"/>
                    <a:ext cx="37922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4657680" y="1455840"/>
          <a:ext cx="4291200" cy="23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57680" y="1455840"/>
                    <a:ext cx="4291200" cy="23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3833280" y="3986280"/>
            <a:ext cx="12870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18360" y="211608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34720" y="2941560"/>
            <a:ext cx="100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B-OF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71440" y="76212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CPE &amp; 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14640" y="1933560"/>
            <a:ext cx="13510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ypic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utdoor Instal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46760" y="591516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adius (m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130400" y="1708200"/>
            <a:ext cx="2152440" cy="2385000"/>
            <a:chOff x="1130400" y="1708200"/>
            <a:chExt cx="2152440" cy="2385000"/>
          </a:xfrm>
        </p:grpSpPr>
        <p:sp>
          <p:nvSpPr>
            <p:cNvPr id="136" name=""/>
            <p:cNvSpPr/>
            <p:nvPr/>
          </p:nvSpPr>
          <p:spPr>
            <a:xfrm>
              <a:off x="1320480" y="3755880"/>
              <a:ext cx="188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ae00"/>
                  </a:solidFill>
                  <a:latin typeface="Arial"/>
                </a:rPr>
                <a:t>Cell distrib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7" name=""/>
            <p:cNvGraphicFramePr/>
            <p:nvPr/>
          </p:nvGraphicFramePr>
          <p:xfrm>
            <a:off x="1130400" y="1708200"/>
            <a:ext cx="2152440" cy="1942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30400" y="1708200"/>
                      <a:ext cx="2152440" cy="19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9" name=""/>
            <p:cNvSpPr/>
            <p:nvPr/>
          </p:nvSpPr>
          <p:spPr>
            <a:xfrm>
              <a:off x="1600920" y="2403360"/>
              <a:ext cx="12139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door Instal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09200" y="1857240"/>
              <a:ext cx="135108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Outdoor Instal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272120" y="1219320"/>
            <a:ext cx="4681440" cy="2835000"/>
          </a:xfrm>
          <a:prstGeom prst="rect">
            <a:avLst/>
          </a:prstGeom>
          <a:ln w="0">
            <a:noFill/>
          </a:ln>
        </p:spPr>
      </p:pic>
      <p:pic>
        <p:nvPicPr>
          <p:cNvPr id="142" name="6c" descr=""/>
          <p:cNvPicPr/>
          <p:nvPr/>
        </p:nvPicPr>
        <p:blipFill>
          <a:blip r:embed="rId4"/>
          <a:stretch/>
        </p:blipFill>
        <p:spPr>
          <a:xfrm>
            <a:off x="7142040" y="4348080"/>
            <a:ext cx="1204920" cy="1500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136640" y="5864400"/>
            <a:ext cx="97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Outd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52760" y="4098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Ind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2640" y="4308480"/>
            <a:ext cx="642168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y integrated, ASIC based C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options to minimize truck rolls and maximize cell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indoor with window mounted 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x of indoor and outdoor eaves mounted for larger cell radiu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cost per subscr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38160" y="1563840"/>
          <a:ext cx="7631280" cy="44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563840"/>
                    <a:ext cx="76312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9T12:05:52Z</dcterms:created>
  <dc:creator>Phil Kelly</dc:creator>
  <dc:description/>
  <dc:language>en-US</dc:language>
  <cp:lastModifiedBy>Karen Crain</cp:lastModifiedBy>
  <cp:lastPrinted>2000-12-08T01:40:16Z</cp:lastPrinted>
  <dcterms:modified xsi:type="dcterms:W3CDTF">2002-02-08T22:41:35Z</dcterms:modified>
  <cp:revision>814</cp:revision>
  <dc:subject>Investor Presentation</dc:subject>
  <dc:title>Radix Technologies</dc:title>
</cp:coreProperties>
</file>