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C878FC3-0B34-4154-81EA-93E2139D8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19522-B83F-4199-BF36-EC5A0121E1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54D85902-443F-434D-BBF4-21175209A9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C90A79CC-7ACE-4F33-9760-82B2A0C2F4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58D56517-6323-493D-B60F-4CA1B3E59C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4A2966-4503-4CCE-A5E6-694CFEBF54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1041CE-A1A6-4082-BC69-43D8552CD5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01A703-C93C-4B17-8436-B16CBA53EB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935868DB-30CC-46B9-98AD-67CD027E97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F9CBAD8B-6286-4164-8F02-EA7BACFE5A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F50E0288-13F7-441B-B0DA-341D095789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F4BB2D2-1146-40D7-BF13-4EA20B4AB5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3EB4B8F-B71E-4191-B649-A18E00C57D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FD5F3A43-AB70-4F8D-B999-884A5DCA77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10B4F2BD-7E0D-4477-B980-2AD87D8830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452D4A1A-B373-4E39-919B-EE2F4FC88E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58BF2588-1FC0-44D3-94F2-2618309FFD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428D2AD0-566E-4C28-9CFA-067DCD2340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6B809E6-3588-445A-9B77-5AFA36033D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21182947-FB01-4C03-8F48-551648BAC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A27ED329-E9BB-4FC8-BBCA-8970A3DB62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3316C22-B347-4288-9A35-446CE92B28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AAC3A9A-0131-499F-BE46-945F9BA820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3CEB37C1-DB42-43F2-A5B0-40923B45EC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A11AB69-DDDC-4F43-A12A-F8B751A3FE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D49D-6584-40D3-B973-2AB38BD8A93C}"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7406-FEFC-41F6-883D-83D1C0910A9E}"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5741-D67A-4AFB-9F5E-9DA0F783AE41}" type="datetime3">
              <a:rPr b="0" lang="en-US" sz="2800" spc="-1" strike="noStrike">
                <a:solidFill>
                  <a:srgbClr val="ffffff"/>
                </a:solidFill>
                <a:latin typeface="Arial"/>
              </a:rPr>
              <a:t>July 29,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5E0A960-7768-49AB-B3DC-14F947EB707C}"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1B2BE97-FF84-40E9-A5FA-65EE047BCA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0C735A84-4AFF-422A-8DEC-ACC2914D06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FAD2BCC-295B-447A-9621-DFDE8701E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F052E56-F2E4-4B83-B31F-DDBF48DFF1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AFE8824-A25C-48F2-8222-FFD4C2929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2379F6A-7EDB-448C-AA53-715BB3289E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059268C-4FC5-4DDB-A9F5-288FA9A0B4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63D7B2D-86A1-4346-B86C-F913F73D7E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ACB62A0-A967-40CA-9444-19CCD5334E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39F9BF8-ABBB-4F52-82B5-52ED652FBB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03F6E183-C5FC-47A8-8CB0-E1DC6D64EB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5E6C9BE-1BA3-4A0E-8999-8E0B6F35BF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DF43DD97-73E1-4147-9469-4A29F99C271D}"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BA68341-17A2-470F-B7C4-080127E788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16E8CC27-BA2B-4A70-8A4E-CC84A2A1AC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EC130BB1-630D-4C77-848A-738917B0B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559DC8A-859B-4DB8-9F7D-2C64308A8A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C9B8BC4-91F8-4C97-A4A5-1CB909D9BE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5FAEB93-47FD-417A-B9CE-0F5C846B41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6E936FFA-5E46-4964-89AF-266F14D994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