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9.wmf" ContentType="image/x-wmf"/>
  <Override PartName="/ppt/media/image31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4.jpeg" ContentType="image/jpeg"/>
  <Override PartName="/ppt/media/image8.wmf" ContentType="image/x-wmf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4475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475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96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18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884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4475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18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884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4475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96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475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lick to edit the title text format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333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457DE-C6DF-4AD4-B961-2AE3673BE1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315200" y="228600"/>
            <a:ext cx="1555920" cy="40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" name=""/>
          <p:cNvGraphicFramePr/>
          <p:nvPr/>
        </p:nvGraphicFramePr>
        <p:xfrm>
          <a:off x="3906720" y="2522520"/>
          <a:ext cx="857520" cy="743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06720" y="2522520"/>
                    <a:ext cx="8575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"/>
          <p:cNvSpPr/>
          <p:nvPr/>
        </p:nvSpPr>
        <p:spPr>
          <a:xfrm>
            <a:off x="1033560" y="6645240"/>
            <a:ext cx="12063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C622993A-6FB8-46F6-A053-166A5999C333}" type="slidenum">
              <a:rPr b="0" lang="en-US" sz="800" spc="-1" strike="noStrike">
                <a:solidFill>
                  <a:srgbClr val="6e0043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6e0043"/>
                </a:solidFill>
                <a:latin typeface="Arial"/>
              </a:rPr>
              <a:t> HNS-239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725360" y="6675480"/>
            <a:ext cx="1137600" cy="1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600" spc="-1" strike="noStrike">
                <a:solidFill>
                  <a:srgbClr val="6e0043"/>
                </a:solidFill>
                <a:latin typeface="Arial"/>
              </a:rPr>
              <a:t>HUGHES PROPRIETARY I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Aireach%20temp12sidebar" descr=""/>
          <p:cNvPicPr/>
          <p:nvPr/>
        </p:nvPicPr>
        <p:blipFill>
          <a:blip r:embed="rId6"/>
          <a:stretch/>
        </p:blipFill>
        <p:spPr>
          <a:xfrm>
            <a:off x="0" y="0"/>
            <a:ext cx="11034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image" Target="../media/image23.wmf"/><Relationship Id="rId7" Type="http://schemas.openxmlformats.org/officeDocument/2006/relationships/image" Target="../media/image24.wmf"/><Relationship Id="rId8" Type="http://schemas.openxmlformats.org/officeDocument/2006/relationships/image" Target="../media/image25.wmf"/><Relationship Id="rId9" Type="http://schemas.openxmlformats.org/officeDocument/2006/relationships/image" Target="../media/image26.wm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19320" y="1905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ing the Efficiency of a BFWA Network by Optimizing Frequency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4038480"/>
            <a:ext cx="6400800" cy="198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ebruary 13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ck Rozmary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ughes Network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717 Exploration La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rmantown, Maryland 209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rozmaryn@hns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twork Expansion Approaches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equency Expa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 - 90° S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Channel Sets Per S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User Effici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ll Spli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 - 45° S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Channel Set Per S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Gain - Greater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Loss in Spectral Effici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600200" y="685800"/>
            <a:ext cx="7086600" cy="5715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600200" y="1344600"/>
            <a:ext cx="657216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066680" y="457200"/>
            <a:ext cx="7391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90º Sector, 2 Channel Reuse Perform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219320" y="1219320"/>
            <a:ext cx="7391160" cy="5052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8001000" y="1219320"/>
            <a:ext cx="96192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219320" y="685800"/>
            <a:ext cx="7232400" cy="57913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219320" y="685800"/>
            <a:ext cx="72324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143000" y="457200"/>
            <a:ext cx="7162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45º Sector, 4 Channe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143000" y="1219320"/>
            <a:ext cx="7467480" cy="5106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8077320" y="1676520"/>
            <a:ext cx="961920" cy="950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086600" y="6019920"/>
            <a:ext cx="1523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3352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45º Sector, 4 Channel Hist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02560" y="6513480"/>
            <a:ext cx="6620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29-Oct-2001  12:52 J.Rozmary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02560" y="6513480"/>
            <a:ext cx="6620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29-Oct-2001  12:52 J.Rozmary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16280" y="1108080"/>
            <a:ext cx="6435720" cy="506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16280" y="1108080"/>
            <a:ext cx="6435720" cy="50688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1628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8620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5612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203880" y="1108080"/>
            <a:ext cx="180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27560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5200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16280" y="617688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16280" y="566424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16280" y="515772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16280" y="465120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16280" y="414504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16280" y="363996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16280" y="313380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16280" y="262728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16280" y="212076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16280" y="161460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16280" y="110808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16280" y="1108080"/>
            <a:ext cx="643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16280" y="6176880"/>
            <a:ext cx="643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835200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91628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16280" y="6176880"/>
            <a:ext cx="643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91628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191628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1628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96480" y="61959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98620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8620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967840" y="61959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05612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05612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9276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13396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3396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6916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6203880" y="6111360"/>
            <a:ext cx="1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203880" y="1108080"/>
            <a:ext cx="180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4052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727560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27560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21044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835200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5200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28864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16280" y="617688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8286480" y="617688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45360" y="61246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16280" y="566424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8286480" y="566424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49440" y="56116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16280" y="515772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8286480" y="515772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49440" y="510552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16280" y="465120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8286480" y="465120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49440" y="460044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16280" y="414504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8286480" y="414504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49440" y="40942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16280" y="363996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8286480" y="363996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49440" y="358776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16280" y="313380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8286480" y="313380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49440" y="308124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16280" y="262728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8286480" y="262728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49440" y="25750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16280" y="212076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286480" y="212076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49440" y="206856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16280" y="161460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8286480" y="161460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49440" y="156204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916280" y="110808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8286480" y="110808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18200" y="1057320"/>
            <a:ext cx="22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16280" y="1108080"/>
            <a:ext cx="643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16280" y="6176880"/>
            <a:ext cx="643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835200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91628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128680" y="3840120"/>
            <a:ext cx="6229440" cy="2336760"/>
          </a:xfrm>
          <a:custGeom>
            <a:avLst/>
            <a:gdLst/>
            <a:ahLst/>
            <a:rect l="l" t="t" r="r" b="b"/>
            <a:pathLst>
              <a:path w="3924" h="1472">
                <a:moveTo>
                  <a:pt x="0" y="1472"/>
                </a:moveTo>
                <a:lnTo>
                  <a:pt x="135" y="1472"/>
                </a:lnTo>
                <a:lnTo>
                  <a:pt x="270" y="1472"/>
                </a:lnTo>
                <a:lnTo>
                  <a:pt x="405" y="1472"/>
                </a:lnTo>
                <a:lnTo>
                  <a:pt x="540" y="1472"/>
                </a:lnTo>
                <a:lnTo>
                  <a:pt x="675" y="1472"/>
                </a:lnTo>
                <a:lnTo>
                  <a:pt x="810" y="1472"/>
                </a:lnTo>
                <a:lnTo>
                  <a:pt x="945" y="1472"/>
                </a:lnTo>
                <a:lnTo>
                  <a:pt x="1080" y="1472"/>
                </a:lnTo>
                <a:lnTo>
                  <a:pt x="1214" y="1472"/>
                </a:lnTo>
                <a:lnTo>
                  <a:pt x="1349" y="1472"/>
                </a:lnTo>
                <a:lnTo>
                  <a:pt x="1484" y="1472"/>
                </a:lnTo>
                <a:lnTo>
                  <a:pt x="1619" y="1472"/>
                </a:lnTo>
                <a:lnTo>
                  <a:pt x="1754" y="1431"/>
                </a:lnTo>
                <a:lnTo>
                  <a:pt x="1893" y="1361"/>
                </a:lnTo>
                <a:lnTo>
                  <a:pt x="2028" y="1316"/>
                </a:lnTo>
                <a:lnTo>
                  <a:pt x="2163" y="1292"/>
                </a:lnTo>
                <a:lnTo>
                  <a:pt x="2298" y="1272"/>
                </a:lnTo>
                <a:lnTo>
                  <a:pt x="2433" y="1259"/>
                </a:lnTo>
                <a:lnTo>
                  <a:pt x="2567" y="1194"/>
                </a:lnTo>
                <a:lnTo>
                  <a:pt x="2702" y="1043"/>
                </a:lnTo>
                <a:lnTo>
                  <a:pt x="2837" y="936"/>
                </a:lnTo>
                <a:lnTo>
                  <a:pt x="2972" y="867"/>
                </a:lnTo>
                <a:lnTo>
                  <a:pt x="3107" y="801"/>
                </a:lnTo>
                <a:lnTo>
                  <a:pt x="3242" y="752"/>
                </a:lnTo>
                <a:lnTo>
                  <a:pt x="3377" y="568"/>
                </a:lnTo>
                <a:lnTo>
                  <a:pt x="3512" y="368"/>
                </a:lnTo>
                <a:lnTo>
                  <a:pt x="3646" y="229"/>
                </a:lnTo>
                <a:lnTo>
                  <a:pt x="3781" y="135"/>
                </a:lnTo>
                <a:lnTo>
                  <a:pt x="3920" y="4"/>
                </a:lnTo>
                <a:lnTo>
                  <a:pt x="3924" y="0"/>
                </a:ln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626280" y="958680"/>
            <a:ext cx="3358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tive C/I Cumulative Histogram for 8-Sector Plan vs. Double Frequency 4-Sector Pla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858920" y="6416640"/>
            <a:ext cx="601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 (d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6200000">
            <a:off x="994320" y="3504960"/>
            <a:ext cx="799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b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128680" y="1108080"/>
            <a:ext cx="6023160" cy="5068800"/>
          </a:xfrm>
          <a:custGeom>
            <a:avLst/>
            <a:gdLst/>
            <a:ahLst/>
            <a:rect l="l" t="t" r="r" b="b"/>
            <a:pathLst>
              <a:path w="3794" h="3193">
                <a:moveTo>
                  <a:pt x="0" y="3193"/>
                </a:moveTo>
                <a:lnTo>
                  <a:pt x="135" y="3193"/>
                </a:lnTo>
                <a:lnTo>
                  <a:pt x="270" y="3193"/>
                </a:lnTo>
                <a:lnTo>
                  <a:pt x="405" y="3193"/>
                </a:lnTo>
                <a:lnTo>
                  <a:pt x="540" y="3193"/>
                </a:lnTo>
                <a:lnTo>
                  <a:pt x="675" y="3193"/>
                </a:lnTo>
                <a:lnTo>
                  <a:pt x="810" y="3193"/>
                </a:lnTo>
                <a:lnTo>
                  <a:pt x="945" y="3176"/>
                </a:lnTo>
                <a:lnTo>
                  <a:pt x="1080" y="3148"/>
                </a:lnTo>
                <a:lnTo>
                  <a:pt x="1214" y="3107"/>
                </a:lnTo>
                <a:lnTo>
                  <a:pt x="1349" y="3074"/>
                </a:lnTo>
                <a:lnTo>
                  <a:pt x="1484" y="3050"/>
                </a:lnTo>
                <a:lnTo>
                  <a:pt x="1619" y="3029"/>
                </a:lnTo>
                <a:lnTo>
                  <a:pt x="1754" y="2948"/>
                </a:lnTo>
                <a:lnTo>
                  <a:pt x="1893" y="2821"/>
                </a:lnTo>
                <a:lnTo>
                  <a:pt x="2028" y="2674"/>
                </a:lnTo>
                <a:lnTo>
                  <a:pt x="2163" y="2457"/>
                </a:lnTo>
                <a:lnTo>
                  <a:pt x="2298" y="2277"/>
                </a:lnTo>
                <a:lnTo>
                  <a:pt x="2433" y="2118"/>
                </a:lnTo>
                <a:lnTo>
                  <a:pt x="2567" y="1954"/>
                </a:lnTo>
                <a:lnTo>
                  <a:pt x="2702" y="1787"/>
                </a:lnTo>
                <a:lnTo>
                  <a:pt x="2837" y="1566"/>
                </a:lnTo>
                <a:lnTo>
                  <a:pt x="2972" y="1349"/>
                </a:lnTo>
                <a:lnTo>
                  <a:pt x="3107" y="1120"/>
                </a:lnTo>
                <a:lnTo>
                  <a:pt x="3242" y="916"/>
                </a:lnTo>
                <a:lnTo>
                  <a:pt x="3377" y="736"/>
                </a:lnTo>
                <a:lnTo>
                  <a:pt x="3512" y="524"/>
                </a:lnTo>
                <a:lnTo>
                  <a:pt x="3646" y="282"/>
                </a:lnTo>
                <a:lnTo>
                  <a:pt x="3781" y="13"/>
                </a:lnTo>
                <a:lnTo>
                  <a:pt x="3794" y="0"/>
                </a:lnTo>
              </a:path>
            </a:pathLst>
          </a:custGeom>
          <a:noFill/>
          <a:ln w="38160">
            <a:solidFill>
              <a:srgbClr val="ff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7270920" y="2590560"/>
            <a:ext cx="0" cy="37335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949040" y="5029200"/>
            <a:ext cx="53341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905120" y="2590920"/>
            <a:ext cx="533376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723920" y="1980360"/>
            <a:ext cx="26359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quency Expansion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628320" y="5333040"/>
            <a:ext cx="187524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ll Splitting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1677960" y="2133720"/>
            <a:ext cx="3130200" cy="3200400"/>
            <a:chOff x="1677960" y="2133720"/>
            <a:chExt cx="3130200" cy="3200400"/>
          </a:xfrm>
        </p:grpSpPr>
        <p:grpSp>
          <p:nvGrpSpPr>
            <p:cNvPr id="209" name=""/>
            <p:cNvGrpSpPr/>
            <p:nvPr/>
          </p:nvGrpSpPr>
          <p:grpSpPr>
            <a:xfrm>
              <a:off x="1681920" y="2133720"/>
              <a:ext cx="517680" cy="539280"/>
              <a:chOff x="1681920" y="2133720"/>
              <a:chExt cx="517680" cy="539280"/>
            </a:xfrm>
          </p:grpSpPr>
          <p:sp>
            <p:nvSpPr>
              <p:cNvPr id="210" name=""/>
              <p:cNvSpPr/>
              <p:nvPr/>
            </p:nvSpPr>
            <p:spPr>
              <a:xfrm>
                <a:off x="1681920" y="213372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68624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2169000" y="2133720"/>
              <a:ext cx="536760" cy="539280"/>
              <a:chOff x="2169000" y="2133720"/>
              <a:chExt cx="536760" cy="539280"/>
            </a:xfrm>
          </p:grpSpPr>
          <p:sp>
            <p:nvSpPr>
              <p:cNvPr id="213" name=""/>
              <p:cNvSpPr/>
              <p:nvPr/>
            </p:nvSpPr>
            <p:spPr>
              <a:xfrm>
                <a:off x="2188440" y="2133720"/>
                <a:ext cx="51732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16900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1677960" y="2660760"/>
              <a:ext cx="521280" cy="539280"/>
              <a:chOff x="1677960" y="2660760"/>
              <a:chExt cx="521280" cy="539280"/>
            </a:xfrm>
          </p:grpSpPr>
          <p:sp>
            <p:nvSpPr>
              <p:cNvPr id="216" name=""/>
              <p:cNvSpPr/>
              <p:nvPr/>
            </p:nvSpPr>
            <p:spPr>
              <a:xfrm>
                <a:off x="1681920" y="2660760"/>
                <a:ext cx="51732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67796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2168640" y="2660760"/>
              <a:ext cx="537120" cy="539280"/>
              <a:chOff x="2168640" y="2660760"/>
              <a:chExt cx="537120" cy="539280"/>
            </a:xfrm>
          </p:grpSpPr>
          <p:sp>
            <p:nvSpPr>
              <p:cNvPr id="219" name=""/>
              <p:cNvSpPr/>
              <p:nvPr/>
            </p:nvSpPr>
            <p:spPr>
              <a:xfrm>
                <a:off x="2188440" y="2660760"/>
                <a:ext cx="51732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16864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1684440" y="3200040"/>
              <a:ext cx="520200" cy="539280"/>
              <a:chOff x="1684440" y="3200040"/>
              <a:chExt cx="520200" cy="539280"/>
            </a:xfrm>
          </p:grpSpPr>
          <p:sp>
            <p:nvSpPr>
              <p:cNvPr id="222" name=""/>
              <p:cNvSpPr/>
              <p:nvPr/>
            </p:nvSpPr>
            <p:spPr>
              <a:xfrm>
                <a:off x="1687320" y="3200040"/>
                <a:ext cx="51732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68444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2168640" y="3200040"/>
              <a:ext cx="537120" cy="539280"/>
              <a:chOff x="2168640" y="3200040"/>
              <a:chExt cx="537120" cy="539280"/>
            </a:xfrm>
          </p:grpSpPr>
          <p:sp>
            <p:nvSpPr>
              <p:cNvPr id="225" name=""/>
              <p:cNvSpPr/>
              <p:nvPr/>
            </p:nvSpPr>
            <p:spPr>
              <a:xfrm>
                <a:off x="2188440" y="3200040"/>
                <a:ext cx="51732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16864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1681920" y="3727800"/>
              <a:ext cx="517680" cy="539280"/>
              <a:chOff x="1681920" y="3727800"/>
              <a:chExt cx="517680" cy="539280"/>
            </a:xfrm>
          </p:grpSpPr>
          <p:sp>
            <p:nvSpPr>
              <p:cNvPr id="228" name=""/>
              <p:cNvSpPr/>
              <p:nvPr/>
            </p:nvSpPr>
            <p:spPr>
              <a:xfrm>
                <a:off x="1681920" y="372780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686240" y="37278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2169000" y="3727800"/>
              <a:ext cx="536760" cy="539280"/>
              <a:chOff x="2169000" y="3727800"/>
              <a:chExt cx="536760" cy="539280"/>
            </a:xfrm>
          </p:grpSpPr>
          <p:sp>
            <p:nvSpPr>
              <p:cNvPr id="231" name=""/>
              <p:cNvSpPr/>
              <p:nvPr/>
            </p:nvSpPr>
            <p:spPr>
              <a:xfrm>
                <a:off x="2188440" y="3727800"/>
                <a:ext cx="51732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169000" y="37278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1681920" y="4267080"/>
              <a:ext cx="517680" cy="539280"/>
              <a:chOff x="1681920" y="4267080"/>
              <a:chExt cx="517680" cy="539280"/>
            </a:xfrm>
          </p:grpSpPr>
          <p:sp>
            <p:nvSpPr>
              <p:cNvPr id="234" name=""/>
              <p:cNvSpPr/>
              <p:nvPr/>
            </p:nvSpPr>
            <p:spPr>
              <a:xfrm>
                <a:off x="1681920" y="426708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68624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2169000" y="4267080"/>
              <a:ext cx="536760" cy="539280"/>
              <a:chOff x="2169000" y="4267080"/>
              <a:chExt cx="536760" cy="539280"/>
            </a:xfrm>
          </p:grpSpPr>
          <p:sp>
            <p:nvSpPr>
              <p:cNvPr id="237" name=""/>
              <p:cNvSpPr/>
              <p:nvPr/>
            </p:nvSpPr>
            <p:spPr>
              <a:xfrm>
                <a:off x="2188440" y="4267080"/>
                <a:ext cx="51732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16900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1684440" y="4794840"/>
              <a:ext cx="520200" cy="539280"/>
              <a:chOff x="1684440" y="4794840"/>
              <a:chExt cx="520200" cy="539280"/>
            </a:xfrm>
          </p:grpSpPr>
          <p:sp>
            <p:nvSpPr>
              <p:cNvPr id="240" name=""/>
              <p:cNvSpPr/>
              <p:nvPr/>
            </p:nvSpPr>
            <p:spPr>
              <a:xfrm>
                <a:off x="1687320" y="4794840"/>
                <a:ext cx="51732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6844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2168640" y="4794840"/>
              <a:ext cx="537120" cy="539280"/>
              <a:chOff x="2168640" y="4794840"/>
              <a:chExt cx="537120" cy="539280"/>
            </a:xfrm>
          </p:grpSpPr>
          <p:sp>
            <p:nvSpPr>
              <p:cNvPr id="243" name=""/>
              <p:cNvSpPr/>
              <p:nvPr/>
            </p:nvSpPr>
            <p:spPr>
              <a:xfrm>
                <a:off x="2188440" y="4794840"/>
                <a:ext cx="51732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1686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2124360" y="259416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167200" y="3705480"/>
              <a:ext cx="96480" cy="100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67200" y="477252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2707560" y="2133720"/>
              <a:ext cx="536760" cy="539280"/>
              <a:chOff x="2707560" y="2133720"/>
              <a:chExt cx="536760" cy="539280"/>
            </a:xfrm>
          </p:grpSpPr>
          <p:sp>
            <p:nvSpPr>
              <p:cNvPr id="249" name=""/>
              <p:cNvSpPr/>
              <p:nvPr/>
            </p:nvSpPr>
            <p:spPr>
              <a:xfrm>
                <a:off x="2727360" y="2133720"/>
                <a:ext cx="51696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70756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2707920" y="2660760"/>
              <a:ext cx="536400" cy="539280"/>
              <a:chOff x="2707920" y="2660760"/>
              <a:chExt cx="536400" cy="539280"/>
            </a:xfrm>
          </p:grpSpPr>
          <p:sp>
            <p:nvSpPr>
              <p:cNvPr id="252" name=""/>
              <p:cNvSpPr/>
              <p:nvPr/>
            </p:nvSpPr>
            <p:spPr>
              <a:xfrm>
                <a:off x="2727360" y="2660760"/>
                <a:ext cx="51696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7079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3245040" y="2133720"/>
              <a:ext cx="517680" cy="539280"/>
              <a:chOff x="3245040" y="2133720"/>
              <a:chExt cx="517680" cy="539280"/>
            </a:xfrm>
          </p:grpSpPr>
          <p:sp>
            <p:nvSpPr>
              <p:cNvPr id="255" name=""/>
              <p:cNvSpPr/>
              <p:nvPr/>
            </p:nvSpPr>
            <p:spPr>
              <a:xfrm>
                <a:off x="3245040" y="213372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25080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3238560" y="2660760"/>
              <a:ext cx="523800" cy="539280"/>
              <a:chOff x="3238560" y="2660760"/>
              <a:chExt cx="523800" cy="539280"/>
            </a:xfrm>
          </p:grpSpPr>
          <p:sp>
            <p:nvSpPr>
              <p:cNvPr id="258" name=""/>
              <p:cNvSpPr/>
              <p:nvPr/>
            </p:nvSpPr>
            <p:spPr>
              <a:xfrm>
                <a:off x="3244680" y="2660760"/>
                <a:ext cx="51768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23856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3191400" y="259416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3784320" y="2133720"/>
              <a:ext cx="517680" cy="539280"/>
              <a:chOff x="3784320" y="2133720"/>
              <a:chExt cx="517680" cy="539280"/>
            </a:xfrm>
          </p:grpSpPr>
          <p:sp>
            <p:nvSpPr>
              <p:cNvPr id="262" name=""/>
              <p:cNvSpPr/>
              <p:nvPr/>
            </p:nvSpPr>
            <p:spPr>
              <a:xfrm>
                <a:off x="3784320" y="213372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78792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787920" y="2660760"/>
              <a:ext cx="519480" cy="539280"/>
              <a:chOff x="3787920" y="2660760"/>
              <a:chExt cx="519480" cy="539280"/>
            </a:xfrm>
          </p:grpSpPr>
          <p:sp>
            <p:nvSpPr>
              <p:cNvPr id="265" name=""/>
              <p:cNvSpPr/>
              <p:nvPr/>
            </p:nvSpPr>
            <p:spPr>
              <a:xfrm>
                <a:off x="3789720" y="2660760"/>
                <a:ext cx="51768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7879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4269600" y="2133720"/>
              <a:ext cx="538560" cy="539280"/>
              <a:chOff x="4269600" y="2133720"/>
              <a:chExt cx="538560" cy="539280"/>
            </a:xfrm>
          </p:grpSpPr>
          <p:sp>
            <p:nvSpPr>
              <p:cNvPr id="268" name=""/>
              <p:cNvSpPr/>
              <p:nvPr/>
            </p:nvSpPr>
            <p:spPr>
              <a:xfrm>
                <a:off x="4290480" y="2133720"/>
                <a:ext cx="51768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26960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4270320" y="2660760"/>
              <a:ext cx="537840" cy="539280"/>
              <a:chOff x="4270320" y="2660760"/>
              <a:chExt cx="537840" cy="539280"/>
            </a:xfrm>
          </p:grpSpPr>
          <p:sp>
            <p:nvSpPr>
              <p:cNvPr id="271" name=""/>
              <p:cNvSpPr/>
              <p:nvPr/>
            </p:nvSpPr>
            <p:spPr>
              <a:xfrm>
                <a:off x="4290480" y="2660760"/>
                <a:ext cx="51768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2703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4226400" y="259416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2707560" y="4267080"/>
              <a:ext cx="536760" cy="539280"/>
              <a:chOff x="2707560" y="4267080"/>
              <a:chExt cx="536760" cy="539280"/>
            </a:xfrm>
          </p:grpSpPr>
          <p:sp>
            <p:nvSpPr>
              <p:cNvPr id="275" name=""/>
              <p:cNvSpPr/>
              <p:nvPr/>
            </p:nvSpPr>
            <p:spPr>
              <a:xfrm>
                <a:off x="2727360" y="4267080"/>
                <a:ext cx="51696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70756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2707920" y="4794840"/>
              <a:ext cx="536400" cy="539280"/>
              <a:chOff x="2707920" y="4794840"/>
              <a:chExt cx="536400" cy="539280"/>
            </a:xfrm>
          </p:grpSpPr>
          <p:sp>
            <p:nvSpPr>
              <p:cNvPr id="278" name=""/>
              <p:cNvSpPr/>
              <p:nvPr/>
            </p:nvSpPr>
            <p:spPr>
              <a:xfrm>
                <a:off x="2727360" y="4794840"/>
                <a:ext cx="51696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70792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3256200" y="4267080"/>
              <a:ext cx="517680" cy="539280"/>
              <a:chOff x="3256200" y="4267080"/>
              <a:chExt cx="517680" cy="539280"/>
            </a:xfrm>
          </p:grpSpPr>
          <p:sp>
            <p:nvSpPr>
              <p:cNvPr id="281" name=""/>
              <p:cNvSpPr/>
              <p:nvPr/>
            </p:nvSpPr>
            <p:spPr>
              <a:xfrm>
                <a:off x="3256200" y="426708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25764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3257640" y="4794840"/>
              <a:ext cx="521280" cy="539280"/>
              <a:chOff x="3257640" y="4794840"/>
              <a:chExt cx="521280" cy="539280"/>
            </a:xfrm>
          </p:grpSpPr>
          <p:sp>
            <p:nvSpPr>
              <p:cNvPr id="284" name=""/>
              <p:cNvSpPr/>
              <p:nvPr/>
            </p:nvSpPr>
            <p:spPr>
              <a:xfrm>
                <a:off x="3261600" y="4794840"/>
                <a:ext cx="51732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2576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3202560" y="477252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3784320" y="4267080"/>
              <a:ext cx="517680" cy="539280"/>
              <a:chOff x="3784320" y="4267080"/>
              <a:chExt cx="517680" cy="539280"/>
            </a:xfrm>
          </p:grpSpPr>
          <p:sp>
            <p:nvSpPr>
              <p:cNvPr id="288" name=""/>
              <p:cNvSpPr/>
              <p:nvPr/>
            </p:nvSpPr>
            <p:spPr>
              <a:xfrm>
                <a:off x="3784320" y="426708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78792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3787920" y="4794840"/>
              <a:ext cx="519480" cy="539280"/>
              <a:chOff x="3787920" y="4794840"/>
              <a:chExt cx="519480" cy="539280"/>
            </a:xfrm>
          </p:grpSpPr>
          <p:sp>
            <p:nvSpPr>
              <p:cNvPr id="291" name=""/>
              <p:cNvSpPr/>
              <p:nvPr/>
            </p:nvSpPr>
            <p:spPr>
              <a:xfrm>
                <a:off x="3789720" y="4794840"/>
                <a:ext cx="51768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78792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4269600" y="4267080"/>
              <a:ext cx="538560" cy="539280"/>
              <a:chOff x="4269600" y="4267080"/>
              <a:chExt cx="538560" cy="539280"/>
            </a:xfrm>
          </p:grpSpPr>
          <p:sp>
            <p:nvSpPr>
              <p:cNvPr id="294" name=""/>
              <p:cNvSpPr/>
              <p:nvPr/>
            </p:nvSpPr>
            <p:spPr>
              <a:xfrm>
                <a:off x="4290480" y="4267080"/>
                <a:ext cx="51768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26960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4270320" y="4794840"/>
              <a:ext cx="537840" cy="539280"/>
              <a:chOff x="4270320" y="4794840"/>
              <a:chExt cx="537840" cy="539280"/>
            </a:xfrm>
          </p:grpSpPr>
          <p:sp>
            <p:nvSpPr>
              <p:cNvPr id="297" name=""/>
              <p:cNvSpPr/>
              <p:nvPr/>
            </p:nvSpPr>
            <p:spPr>
              <a:xfrm>
                <a:off x="4290480" y="4794840"/>
                <a:ext cx="51768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27032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>
              <a:off x="4269240" y="477252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3784320" y="3727800"/>
              <a:ext cx="517680" cy="539280"/>
              <a:chOff x="3784320" y="3727800"/>
              <a:chExt cx="517680" cy="539280"/>
            </a:xfrm>
          </p:grpSpPr>
          <p:sp>
            <p:nvSpPr>
              <p:cNvPr id="301" name=""/>
              <p:cNvSpPr/>
              <p:nvPr/>
            </p:nvSpPr>
            <p:spPr>
              <a:xfrm>
                <a:off x="3784320" y="372780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87920" y="37278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4269600" y="3727800"/>
              <a:ext cx="538560" cy="539280"/>
              <a:chOff x="4269600" y="3727800"/>
              <a:chExt cx="538560" cy="539280"/>
            </a:xfrm>
          </p:grpSpPr>
          <p:sp>
            <p:nvSpPr>
              <p:cNvPr id="304" name=""/>
              <p:cNvSpPr/>
              <p:nvPr/>
            </p:nvSpPr>
            <p:spPr>
              <a:xfrm>
                <a:off x="4290480" y="3727800"/>
                <a:ext cx="51768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269600" y="37278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3787920" y="3200040"/>
              <a:ext cx="519480" cy="539280"/>
              <a:chOff x="3787920" y="3200040"/>
              <a:chExt cx="519480" cy="539280"/>
            </a:xfrm>
          </p:grpSpPr>
          <p:sp>
            <p:nvSpPr>
              <p:cNvPr id="307" name=""/>
              <p:cNvSpPr/>
              <p:nvPr/>
            </p:nvSpPr>
            <p:spPr>
              <a:xfrm>
                <a:off x="3789720" y="3200040"/>
                <a:ext cx="51768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78792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4270320" y="3200040"/>
              <a:ext cx="537840" cy="539280"/>
              <a:chOff x="4270320" y="3200040"/>
              <a:chExt cx="537840" cy="539280"/>
            </a:xfrm>
          </p:grpSpPr>
          <p:sp>
            <p:nvSpPr>
              <p:cNvPr id="310" name=""/>
              <p:cNvSpPr/>
              <p:nvPr/>
            </p:nvSpPr>
            <p:spPr>
              <a:xfrm>
                <a:off x="4290480" y="3200040"/>
                <a:ext cx="51768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27032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>
              <a:off x="4226400" y="366120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06120" y="320004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16200000">
              <a:off x="3234240" y="3210840"/>
              <a:ext cx="539280" cy="5176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245040" y="372780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191400" y="3705480"/>
              <a:ext cx="96480" cy="100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2706120" y="372780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2727360" y="372780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 flipV="1">
              <a:off x="2727360" y="320004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245040" y="320004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 flipV="1">
              <a:off x="3245040" y="372780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5549760" y="2133720"/>
            <a:ext cx="3068280" cy="3200400"/>
            <a:chOff x="5549760" y="2133720"/>
            <a:chExt cx="3068280" cy="3200400"/>
          </a:xfrm>
        </p:grpSpPr>
        <p:grpSp>
          <p:nvGrpSpPr>
            <p:cNvPr id="323" name=""/>
            <p:cNvGrpSpPr/>
            <p:nvPr/>
          </p:nvGrpSpPr>
          <p:grpSpPr>
            <a:xfrm>
              <a:off x="5553360" y="2133720"/>
              <a:ext cx="507240" cy="539280"/>
              <a:chOff x="5553360" y="2133720"/>
              <a:chExt cx="507240" cy="539280"/>
            </a:xfrm>
          </p:grpSpPr>
          <p:sp>
            <p:nvSpPr>
              <p:cNvPr id="324" name=""/>
              <p:cNvSpPr/>
              <p:nvPr/>
            </p:nvSpPr>
            <p:spPr>
              <a:xfrm>
                <a:off x="5553360" y="213372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55444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6030720" y="2133720"/>
              <a:ext cx="526680" cy="539280"/>
              <a:chOff x="6030720" y="2133720"/>
              <a:chExt cx="526680" cy="539280"/>
            </a:xfrm>
          </p:grpSpPr>
          <p:sp>
            <p:nvSpPr>
              <p:cNvPr id="327" name=""/>
              <p:cNvSpPr/>
              <p:nvPr/>
            </p:nvSpPr>
            <p:spPr>
              <a:xfrm>
                <a:off x="6050160" y="213372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03072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5549760" y="2660760"/>
              <a:ext cx="511200" cy="539280"/>
              <a:chOff x="5549760" y="2660760"/>
              <a:chExt cx="511200" cy="539280"/>
            </a:xfrm>
          </p:grpSpPr>
          <p:sp>
            <p:nvSpPr>
              <p:cNvPr id="330" name=""/>
              <p:cNvSpPr/>
              <p:nvPr/>
            </p:nvSpPr>
            <p:spPr>
              <a:xfrm>
                <a:off x="5553720" y="266076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54976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6030720" y="2660760"/>
              <a:ext cx="526680" cy="539280"/>
              <a:chOff x="6030720" y="2660760"/>
              <a:chExt cx="526680" cy="539280"/>
            </a:xfrm>
          </p:grpSpPr>
          <p:sp>
            <p:nvSpPr>
              <p:cNvPr id="333" name=""/>
              <p:cNvSpPr/>
              <p:nvPr/>
            </p:nvSpPr>
            <p:spPr>
              <a:xfrm>
                <a:off x="6050160" y="266076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0307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5554080" y="3200040"/>
              <a:ext cx="512280" cy="539280"/>
              <a:chOff x="5554080" y="3200040"/>
              <a:chExt cx="512280" cy="539280"/>
            </a:xfrm>
          </p:grpSpPr>
          <p:sp>
            <p:nvSpPr>
              <p:cNvPr id="336" name=""/>
              <p:cNvSpPr/>
              <p:nvPr/>
            </p:nvSpPr>
            <p:spPr>
              <a:xfrm>
                <a:off x="5559120" y="32000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55408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6030720" y="3200040"/>
              <a:ext cx="526680" cy="539280"/>
              <a:chOff x="6030720" y="3200040"/>
              <a:chExt cx="526680" cy="539280"/>
            </a:xfrm>
          </p:grpSpPr>
          <p:sp>
            <p:nvSpPr>
              <p:cNvPr id="339" name=""/>
              <p:cNvSpPr/>
              <p:nvPr/>
            </p:nvSpPr>
            <p:spPr>
              <a:xfrm>
                <a:off x="6050160" y="32000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03072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5553360" y="3727800"/>
              <a:ext cx="507240" cy="539280"/>
              <a:chOff x="5553360" y="3727800"/>
              <a:chExt cx="507240" cy="539280"/>
            </a:xfrm>
          </p:grpSpPr>
          <p:sp>
            <p:nvSpPr>
              <p:cNvPr id="342" name=""/>
              <p:cNvSpPr/>
              <p:nvPr/>
            </p:nvSpPr>
            <p:spPr>
              <a:xfrm>
                <a:off x="5553360" y="372780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554440" y="37278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6030720" y="3727800"/>
              <a:ext cx="526680" cy="539280"/>
              <a:chOff x="6030720" y="3727800"/>
              <a:chExt cx="526680" cy="539280"/>
            </a:xfrm>
          </p:grpSpPr>
          <p:sp>
            <p:nvSpPr>
              <p:cNvPr id="345" name=""/>
              <p:cNvSpPr/>
              <p:nvPr/>
            </p:nvSpPr>
            <p:spPr>
              <a:xfrm>
                <a:off x="6050160" y="372780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030720" y="37278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5553360" y="4267080"/>
              <a:ext cx="507240" cy="539280"/>
              <a:chOff x="5553360" y="4267080"/>
              <a:chExt cx="507240" cy="539280"/>
            </a:xfrm>
          </p:grpSpPr>
          <p:sp>
            <p:nvSpPr>
              <p:cNvPr id="348" name=""/>
              <p:cNvSpPr/>
              <p:nvPr/>
            </p:nvSpPr>
            <p:spPr>
              <a:xfrm>
                <a:off x="5553360" y="426708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55444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6030720" y="4267080"/>
              <a:ext cx="526680" cy="539280"/>
              <a:chOff x="6030720" y="4267080"/>
              <a:chExt cx="526680" cy="539280"/>
            </a:xfrm>
          </p:grpSpPr>
          <p:sp>
            <p:nvSpPr>
              <p:cNvPr id="351" name=""/>
              <p:cNvSpPr/>
              <p:nvPr/>
            </p:nvSpPr>
            <p:spPr>
              <a:xfrm>
                <a:off x="6050160" y="426708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03072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5554080" y="4794840"/>
              <a:ext cx="512280" cy="539280"/>
              <a:chOff x="5554080" y="4794840"/>
              <a:chExt cx="512280" cy="539280"/>
            </a:xfrm>
          </p:grpSpPr>
          <p:sp>
            <p:nvSpPr>
              <p:cNvPr id="354" name=""/>
              <p:cNvSpPr/>
              <p:nvPr/>
            </p:nvSpPr>
            <p:spPr>
              <a:xfrm>
                <a:off x="5559120" y="47948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55408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6030720" y="4794840"/>
              <a:ext cx="526680" cy="539280"/>
              <a:chOff x="6030720" y="4794840"/>
              <a:chExt cx="526680" cy="539280"/>
            </a:xfrm>
          </p:grpSpPr>
          <p:sp>
            <p:nvSpPr>
              <p:cNvPr id="357" name=""/>
              <p:cNvSpPr/>
              <p:nvPr/>
            </p:nvSpPr>
            <p:spPr>
              <a:xfrm>
                <a:off x="6050160" y="47948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03072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9" name=""/>
            <p:cNvSpPr/>
            <p:nvPr/>
          </p:nvSpPr>
          <p:spPr>
            <a:xfrm>
              <a:off x="5987160" y="2594160"/>
              <a:ext cx="946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029280" y="3705480"/>
              <a:ext cx="94320" cy="100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029280" y="4772520"/>
              <a:ext cx="9432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2" name=""/>
            <p:cNvGrpSpPr/>
            <p:nvPr/>
          </p:nvGrpSpPr>
          <p:grpSpPr>
            <a:xfrm>
              <a:off x="6559560" y="2133720"/>
              <a:ext cx="526320" cy="539280"/>
              <a:chOff x="6559560" y="2133720"/>
              <a:chExt cx="526320" cy="539280"/>
            </a:xfrm>
          </p:grpSpPr>
          <p:sp>
            <p:nvSpPr>
              <p:cNvPr id="363" name=""/>
              <p:cNvSpPr/>
              <p:nvPr/>
            </p:nvSpPr>
            <p:spPr>
              <a:xfrm>
                <a:off x="6578640" y="213372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55956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6559200" y="2660760"/>
              <a:ext cx="526680" cy="539280"/>
              <a:chOff x="6559200" y="2660760"/>
              <a:chExt cx="526680" cy="539280"/>
            </a:xfrm>
          </p:grpSpPr>
          <p:sp>
            <p:nvSpPr>
              <p:cNvPr id="366" name=""/>
              <p:cNvSpPr/>
              <p:nvPr/>
            </p:nvSpPr>
            <p:spPr>
              <a:xfrm>
                <a:off x="6578640" y="266076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55920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7085880" y="2133720"/>
              <a:ext cx="507240" cy="539280"/>
              <a:chOff x="7085880" y="2133720"/>
              <a:chExt cx="507240" cy="539280"/>
            </a:xfrm>
          </p:grpSpPr>
          <p:sp>
            <p:nvSpPr>
              <p:cNvPr id="369" name=""/>
              <p:cNvSpPr/>
              <p:nvPr/>
            </p:nvSpPr>
            <p:spPr>
              <a:xfrm>
                <a:off x="7085880" y="213372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08768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7081920" y="2660760"/>
              <a:ext cx="511200" cy="539280"/>
              <a:chOff x="7081920" y="2660760"/>
              <a:chExt cx="511200" cy="539280"/>
            </a:xfrm>
          </p:grpSpPr>
          <p:sp>
            <p:nvSpPr>
              <p:cNvPr id="372" name=""/>
              <p:cNvSpPr/>
              <p:nvPr/>
            </p:nvSpPr>
            <p:spPr>
              <a:xfrm>
                <a:off x="7085880" y="266076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0819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4" name=""/>
            <p:cNvSpPr/>
            <p:nvPr/>
          </p:nvSpPr>
          <p:spPr>
            <a:xfrm>
              <a:off x="7033320" y="2594160"/>
              <a:ext cx="9432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7614360" y="2133720"/>
              <a:ext cx="507240" cy="539280"/>
              <a:chOff x="7614360" y="2133720"/>
              <a:chExt cx="507240" cy="539280"/>
            </a:xfrm>
          </p:grpSpPr>
          <p:sp>
            <p:nvSpPr>
              <p:cNvPr id="376" name=""/>
              <p:cNvSpPr/>
              <p:nvPr/>
            </p:nvSpPr>
            <p:spPr>
              <a:xfrm>
                <a:off x="7614360" y="213372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61832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7617240" y="2660760"/>
              <a:ext cx="509760" cy="539280"/>
              <a:chOff x="7617240" y="2660760"/>
              <a:chExt cx="509760" cy="539280"/>
            </a:xfrm>
          </p:grpSpPr>
          <p:sp>
            <p:nvSpPr>
              <p:cNvPr id="379" name=""/>
              <p:cNvSpPr/>
              <p:nvPr/>
            </p:nvSpPr>
            <p:spPr>
              <a:xfrm>
                <a:off x="7619760" y="266076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61724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8091360" y="2133720"/>
              <a:ext cx="526680" cy="539280"/>
              <a:chOff x="8091360" y="2133720"/>
              <a:chExt cx="526680" cy="539280"/>
            </a:xfrm>
          </p:grpSpPr>
          <p:sp>
            <p:nvSpPr>
              <p:cNvPr id="382" name=""/>
              <p:cNvSpPr/>
              <p:nvPr/>
            </p:nvSpPr>
            <p:spPr>
              <a:xfrm>
                <a:off x="8110800" y="213372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809136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8091360" y="2660760"/>
              <a:ext cx="526680" cy="539280"/>
              <a:chOff x="8091360" y="2660760"/>
              <a:chExt cx="526680" cy="539280"/>
            </a:xfrm>
          </p:grpSpPr>
          <p:sp>
            <p:nvSpPr>
              <p:cNvPr id="385" name=""/>
              <p:cNvSpPr/>
              <p:nvPr/>
            </p:nvSpPr>
            <p:spPr>
              <a:xfrm>
                <a:off x="8110800" y="266076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09136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>
              <a:off x="8047800" y="2594160"/>
              <a:ext cx="946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6559560" y="4267080"/>
              <a:ext cx="526320" cy="539280"/>
              <a:chOff x="6559560" y="4267080"/>
              <a:chExt cx="526320" cy="539280"/>
            </a:xfrm>
          </p:grpSpPr>
          <p:sp>
            <p:nvSpPr>
              <p:cNvPr id="389" name=""/>
              <p:cNvSpPr/>
              <p:nvPr/>
            </p:nvSpPr>
            <p:spPr>
              <a:xfrm>
                <a:off x="6578640" y="426708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55956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6559200" y="4794840"/>
              <a:ext cx="526680" cy="539280"/>
              <a:chOff x="6559200" y="4794840"/>
              <a:chExt cx="526680" cy="539280"/>
            </a:xfrm>
          </p:grpSpPr>
          <p:sp>
            <p:nvSpPr>
              <p:cNvPr id="392" name=""/>
              <p:cNvSpPr/>
              <p:nvPr/>
            </p:nvSpPr>
            <p:spPr>
              <a:xfrm>
                <a:off x="6578640" y="47948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55920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7096680" y="4267080"/>
              <a:ext cx="507240" cy="539280"/>
              <a:chOff x="7096680" y="4267080"/>
              <a:chExt cx="507240" cy="539280"/>
            </a:xfrm>
          </p:grpSpPr>
          <p:sp>
            <p:nvSpPr>
              <p:cNvPr id="395" name=""/>
              <p:cNvSpPr/>
              <p:nvPr/>
            </p:nvSpPr>
            <p:spPr>
              <a:xfrm>
                <a:off x="7096680" y="426708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09884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7098840" y="4794840"/>
              <a:ext cx="510480" cy="539280"/>
              <a:chOff x="7098840" y="4794840"/>
              <a:chExt cx="510480" cy="539280"/>
            </a:xfrm>
          </p:grpSpPr>
          <p:sp>
            <p:nvSpPr>
              <p:cNvPr id="398" name=""/>
              <p:cNvSpPr/>
              <p:nvPr/>
            </p:nvSpPr>
            <p:spPr>
              <a:xfrm>
                <a:off x="7102080" y="47948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0988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" name=""/>
            <p:cNvSpPr/>
            <p:nvPr/>
          </p:nvSpPr>
          <p:spPr>
            <a:xfrm>
              <a:off x="7044120" y="4772520"/>
              <a:ext cx="9432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7614360" y="4267080"/>
              <a:ext cx="507240" cy="539280"/>
              <a:chOff x="7614360" y="4267080"/>
              <a:chExt cx="507240" cy="539280"/>
            </a:xfrm>
          </p:grpSpPr>
          <p:sp>
            <p:nvSpPr>
              <p:cNvPr id="402" name=""/>
              <p:cNvSpPr/>
              <p:nvPr/>
            </p:nvSpPr>
            <p:spPr>
              <a:xfrm>
                <a:off x="7614360" y="426708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61832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7617240" y="4794840"/>
              <a:ext cx="509760" cy="539280"/>
              <a:chOff x="7617240" y="4794840"/>
              <a:chExt cx="509760" cy="539280"/>
            </a:xfrm>
          </p:grpSpPr>
          <p:sp>
            <p:nvSpPr>
              <p:cNvPr id="405" name=""/>
              <p:cNvSpPr/>
              <p:nvPr/>
            </p:nvSpPr>
            <p:spPr>
              <a:xfrm>
                <a:off x="7619760" y="47948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6172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8091360" y="4267080"/>
              <a:ext cx="526680" cy="539280"/>
              <a:chOff x="8091360" y="4267080"/>
              <a:chExt cx="526680" cy="539280"/>
            </a:xfrm>
          </p:grpSpPr>
          <p:sp>
            <p:nvSpPr>
              <p:cNvPr id="408" name=""/>
              <p:cNvSpPr/>
              <p:nvPr/>
            </p:nvSpPr>
            <p:spPr>
              <a:xfrm>
                <a:off x="8110800" y="426708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809136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8091360" y="4794840"/>
              <a:ext cx="526680" cy="539280"/>
              <a:chOff x="8091360" y="4794840"/>
              <a:chExt cx="526680" cy="539280"/>
            </a:xfrm>
          </p:grpSpPr>
          <p:sp>
            <p:nvSpPr>
              <p:cNvPr id="411" name=""/>
              <p:cNvSpPr/>
              <p:nvPr/>
            </p:nvSpPr>
            <p:spPr>
              <a:xfrm>
                <a:off x="8110800" y="47948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809136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3" name=""/>
            <p:cNvSpPr/>
            <p:nvPr/>
          </p:nvSpPr>
          <p:spPr>
            <a:xfrm>
              <a:off x="8089920" y="4772520"/>
              <a:ext cx="9432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7614360" y="3727800"/>
              <a:ext cx="507240" cy="539280"/>
              <a:chOff x="7614360" y="3727800"/>
              <a:chExt cx="507240" cy="539280"/>
            </a:xfrm>
          </p:grpSpPr>
          <p:sp>
            <p:nvSpPr>
              <p:cNvPr id="415" name=""/>
              <p:cNvSpPr/>
              <p:nvPr/>
            </p:nvSpPr>
            <p:spPr>
              <a:xfrm>
                <a:off x="7614360" y="372780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618320" y="37278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8091360" y="3727800"/>
              <a:ext cx="526680" cy="539280"/>
              <a:chOff x="8091360" y="3727800"/>
              <a:chExt cx="526680" cy="539280"/>
            </a:xfrm>
          </p:grpSpPr>
          <p:sp>
            <p:nvSpPr>
              <p:cNvPr id="418" name=""/>
              <p:cNvSpPr/>
              <p:nvPr/>
            </p:nvSpPr>
            <p:spPr>
              <a:xfrm>
                <a:off x="8110800" y="372780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8091360" y="37278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7617240" y="3200040"/>
              <a:ext cx="509760" cy="539280"/>
              <a:chOff x="7617240" y="3200040"/>
              <a:chExt cx="509760" cy="539280"/>
            </a:xfrm>
          </p:grpSpPr>
          <p:sp>
            <p:nvSpPr>
              <p:cNvPr id="421" name=""/>
              <p:cNvSpPr/>
              <p:nvPr/>
            </p:nvSpPr>
            <p:spPr>
              <a:xfrm>
                <a:off x="7619760" y="32000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61724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8091360" y="3200040"/>
              <a:ext cx="526680" cy="539280"/>
              <a:chOff x="8091360" y="3200040"/>
              <a:chExt cx="526680" cy="539280"/>
            </a:xfrm>
          </p:grpSpPr>
          <p:sp>
            <p:nvSpPr>
              <p:cNvPr id="424" name=""/>
              <p:cNvSpPr/>
              <p:nvPr/>
            </p:nvSpPr>
            <p:spPr>
              <a:xfrm>
                <a:off x="8110800" y="32000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809136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8047800" y="3661200"/>
              <a:ext cx="946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557760" y="3200040"/>
              <a:ext cx="507240" cy="539280"/>
            </a:xfrm>
            <a:prstGeom prst="rtTriangle">
              <a:avLst/>
            </a:prstGeom>
            <a:solidFill>
              <a:srgbClr val="66cc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7069680" y="3215880"/>
              <a:ext cx="539280" cy="507240"/>
            </a:xfrm>
            <a:prstGeom prst="rtTriangle">
              <a:avLst/>
            </a:prstGeom>
            <a:solidFill>
              <a:srgbClr val="ff66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085880" y="3727800"/>
              <a:ext cx="507240" cy="539280"/>
            </a:xfrm>
            <a:prstGeom prst="rtTriangle">
              <a:avLst/>
            </a:prstGeom>
            <a:solidFill>
              <a:srgbClr val="66cc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6557760" y="3727800"/>
              <a:ext cx="507240" cy="539280"/>
            </a:xfrm>
            <a:prstGeom prst="rtTriangle">
              <a:avLst/>
            </a:prstGeom>
            <a:solidFill>
              <a:srgbClr val="99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6577560" y="3727800"/>
              <a:ext cx="507240" cy="539280"/>
            </a:xfrm>
            <a:prstGeom prst="rtTriangle">
              <a:avLst/>
            </a:prstGeom>
            <a:solidFill>
              <a:srgbClr val="ff66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 flipV="1">
              <a:off x="6577560" y="3200040"/>
              <a:ext cx="507240" cy="53928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7085880" y="3200040"/>
              <a:ext cx="507240" cy="539280"/>
            </a:xfrm>
            <a:prstGeom prst="rtTriangle">
              <a:avLst/>
            </a:prstGeom>
            <a:solidFill>
              <a:srgbClr val="99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 flipV="1">
              <a:off x="7106040" y="3727800"/>
              <a:ext cx="507240" cy="53928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759720" y="320616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349760" y="37616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559560" y="348120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140240" y="398628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193520" y="32000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559560" y="38192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823440" y="39862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349760" y="348120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33320" y="3705480"/>
              <a:ext cx="94320" cy="100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" name=""/>
          <p:cNvSpPr/>
          <p:nvPr/>
        </p:nvSpPr>
        <p:spPr>
          <a:xfrm>
            <a:off x="2743200" y="9907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mP Cel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littin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Frequency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eatures of Genetic Algorithms Planning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135160" y="1981080"/>
            <a:ext cx="618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ideal Hub Pla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3-D Contour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oits Topology and Building Block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ces Spectral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Any Propagation Model or Measur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ed Annealing Frequency Planning Approach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998360" y="1981080"/>
            <a:ext cx="645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Sequential Opti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mentally Improves Signal to Noise Ratio Based Met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es the Possible Values of Available Frequencies in Each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s Local Performance P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izes Selection to Seek Global P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1143000" y="914400"/>
            <a:ext cx="6453360" cy="342900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3"/>
          <a:stretch/>
        </p:blipFill>
        <p:spPr>
          <a:xfrm>
            <a:off x="1501920" y="4572000"/>
            <a:ext cx="3767040" cy="84312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4"/>
          <a:stretch/>
        </p:blipFill>
        <p:spPr>
          <a:xfrm>
            <a:off x="2971800" y="2543040"/>
            <a:ext cx="316080" cy="16848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5"/>
          <a:stretch/>
        </p:blipFill>
        <p:spPr>
          <a:xfrm>
            <a:off x="2446200" y="1940040"/>
            <a:ext cx="897120" cy="126036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6"/>
          <a:stretch/>
        </p:blipFill>
        <p:spPr>
          <a:xfrm>
            <a:off x="5202360" y="1523880"/>
            <a:ext cx="1614240" cy="213840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7"/>
          <a:stretch/>
        </p:blipFill>
        <p:spPr>
          <a:xfrm>
            <a:off x="6705720" y="1828800"/>
            <a:ext cx="2293920" cy="241308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8"/>
          <a:stretch/>
        </p:blipFill>
        <p:spPr>
          <a:xfrm>
            <a:off x="6531120" y="4648320"/>
            <a:ext cx="1881000" cy="111600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9"/>
          <a:stretch/>
        </p:blipFill>
        <p:spPr>
          <a:xfrm>
            <a:off x="5616720" y="4952880"/>
            <a:ext cx="938160" cy="3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genda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mP Frequency Reuse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mP Expansion Frequency Reuse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timizing PmP Frequency Planning Using Genetic Algorithms and Simulated Annealing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timizing PtP Frequency Planning Using Genetic Algorithms and Simulated Annea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" descr=""/>
          <p:cNvPicPr/>
          <p:nvPr/>
        </p:nvPicPr>
        <p:blipFill>
          <a:blip r:embed="rId2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3"/>
          <a:stretch/>
        </p:blipFill>
        <p:spPr>
          <a:xfrm>
            <a:off x="3200400" y="388800"/>
            <a:ext cx="3665520" cy="12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3271680" y="380880"/>
            <a:ext cx="3662640" cy="186696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3233880" y="363600"/>
            <a:ext cx="3624120" cy="253188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3505320" y="380880"/>
            <a:ext cx="3174840" cy="361476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3468600" y="380880"/>
            <a:ext cx="3168720" cy="409896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"/>
          <p:cNvPicPr/>
          <p:nvPr/>
        </p:nvPicPr>
        <p:blipFill>
          <a:blip r:embed="rId2"/>
          <a:stretch/>
        </p:blipFill>
        <p:spPr>
          <a:xfrm>
            <a:off x="3465360" y="380880"/>
            <a:ext cx="3195720" cy="542304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" descr=""/>
          <p:cNvPicPr/>
          <p:nvPr/>
        </p:nvPicPr>
        <p:blipFill>
          <a:blip r:embed="rId2"/>
          <a:stretch/>
        </p:blipFill>
        <p:spPr>
          <a:xfrm>
            <a:off x="3492360" y="380880"/>
            <a:ext cx="3122640" cy="560880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3505320" y="380880"/>
            <a:ext cx="3541680" cy="642456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" descr=""/>
          <p:cNvPicPr/>
          <p:nvPr/>
        </p:nvPicPr>
        <p:blipFill>
          <a:blip r:embed="rId2"/>
          <a:stretch/>
        </p:blipFill>
        <p:spPr>
          <a:xfrm>
            <a:off x="1371600" y="609480"/>
            <a:ext cx="663732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1600200" y="685800"/>
            <a:ext cx="73087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96920" y="609120"/>
            <a:ext cx="64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enefits of Optimized Frequency Planning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22093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ized Use of Expensive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r Throughput per MHz Efficienc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izes Network “Exclusion Zon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imizes System Interference and Ou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imizes System Throughput with Expanded Use of Higher Order Constellation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" descr=""/>
          <p:cNvPicPr/>
          <p:nvPr/>
        </p:nvPicPr>
        <p:blipFill>
          <a:blip r:embed="rId2"/>
          <a:stretch/>
        </p:blipFill>
        <p:spPr>
          <a:xfrm>
            <a:off x="685800" y="533520"/>
            <a:ext cx="8763120" cy="600696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2598480" y="303840"/>
            <a:ext cx="442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andomized Standard Hub Lay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421080" y="166068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595760" y="190512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546880" y="2057400"/>
            <a:ext cx="759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543800" y="182880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223040" y="298764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483320" y="365760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867280" y="373392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486400" y="259092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191120" y="2590920"/>
            <a:ext cx="7596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827440" y="3032280"/>
            <a:ext cx="7596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505320" y="4191120"/>
            <a:ext cx="7596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680000" y="393876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716360" y="456408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887560" y="495288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851440" y="505296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620120" y="4952880"/>
            <a:ext cx="759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1122840" y="638496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8:42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122840" y="638496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8:43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676520" y="1219320"/>
            <a:ext cx="6735600" cy="485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676520" y="1219320"/>
            <a:ext cx="6735600" cy="48528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67652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9576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91644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04360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16428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28352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8412120" y="1219320"/>
            <a:ext cx="180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676520" y="607212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676520" y="558000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676520" y="509580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676520" y="461160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676520" y="412920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676520" y="364500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676520" y="315288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676520" y="267012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676520" y="218592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676520" y="170352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676520" y="121932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676520" y="1219320"/>
            <a:ext cx="6735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676520" y="6072120"/>
            <a:ext cx="6735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8412120" y="1219320"/>
            <a:ext cx="180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1676520" y="1219320"/>
            <a:ext cx="144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676520" y="6072120"/>
            <a:ext cx="6735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1676520" y="1219320"/>
            <a:ext cx="144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167652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67652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77240" y="6097680"/>
            <a:ext cx="5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279576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79576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780640" y="60976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391644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91644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84984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504360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04360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97844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616428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16428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09768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728352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28352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1836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8412120" y="6003720"/>
            <a:ext cx="180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412120" y="1219320"/>
            <a:ext cx="180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834552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676520" y="607212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8343720" y="607212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453320" y="60040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676520" y="558000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8343720" y="558000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265040" y="551196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676520" y="509580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8343720" y="509580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265040" y="502776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676520" y="461160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8343720" y="461160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265040" y="454500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676520" y="412920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8343720" y="412920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265040" y="406080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676520" y="364500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8343720" y="364500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265040" y="357840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676520" y="315288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8343720" y="315288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265040" y="30862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676520" y="267012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8343720" y="267012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265040" y="26020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676520" y="218592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8343720" y="218592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265040" y="211932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676520" y="170352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8343720" y="170352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265040" y="163512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676520" y="121932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8343720" y="121932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338840" y="1150920"/>
            <a:ext cx="22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676520" y="1219320"/>
            <a:ext cx="6735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676520" y="6072120"/>
            <a:ext cx="6735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8412120" y="1219320"/>
            <a:ext cx="180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1676520" y="1219320"/>
            <a:ext cx="144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897200" y="3713040"/>
            <a:ext cx="6522840" cy="2359080"/>
          </a:xfrm>
          <a:custGeom>
            <a:avLst/>
            <a:gdLst/>
            <a:ahLst/>
            <a:rect l="l" t="t" r="r" b="b"/>
            <a:pathLst>
              <a:path w="4109" h="1486">
                <a:moveTo>
                  <a:pt x="0" y="1486"/>
                </a:moveTo>
                <a:lnTo>
                  <a:pt x="139" y="1486"/>
                </a:lnTo>
                <a:lnTo>
                  <a:pt x="283" y="1486"/>
                </a:lnTo>
                <a:lnTo>
                  <a:pt x="422" y="1486"/>
                </a:lnTo>
                <a:lnTo>
                  <a:pt x="566" y="1486"/>
                </a:lnTo>
                <a:lnTo>
                  <a:pt x="705" y="1475"/>
                </a:lnTo>
                <a:lnTo>
                  <a:pt x="849" y="1469"/>
                </a:lnTo>
                <a:lnTo>
                  <a:pt x="988" y="1464"/>
                </a:lnTo>
                <a:lnTo>
                  <a:pt x="1133" y="1459"/>
                </a:lnTo>
                <a:lnTo>
                  <a:pt x="1272" y="1453"/>
                </a:lnTo>
                <a:lnTo>
                  <a:pt x="1416" y="1437"/>
                </a:lnTo>
                <a:lnTo>
                  <a:pt x="1555" y="1411"/>
                </a:lnTo>
                <a:lnTo>
                  <a:pt x="1699" y="1389"/>
                </a:lnTo>
                <a:lnTo>
                  <a:pt x="1838" y="1384"/>
                </a:lnTo>
                <a:lnTo>
                  <a:pt x="1982" y="1352"/>
                </a:lnTo>
                <a:lnTo>
                  <a:pt x="2121" y="1320"/>
                </a:lnTo>
                <a:lnTo>
                  <a:pt x="2260" y="1277"/>
                </a:lnTo>
                <a:lnTo>
                  <a:pt x="2404" y="1245"/>
                </a:lnTo>
                <a:lnTo>
                  <a:pt x="2543" y="1197"/>
                </a:lnTo>
                <a:lnTo>
                  <a:pt x="2688" y="1149"/>
                </a:lnTo>
                <a:lnTo>
                  <a:pt x="2827" y="1090"/>
                </a:lnTo>
                <a:lnTo>
                  <a:pt x="2971" y="1005"/>
                </a:lnTo>
                <a:lnTo>
                  <a:pt x="3110" y="914"/>
                </a:lnTo>
                <a:lnTo>
                  <a:pt x="3254" y="818"/>
                </a:lnTo>
                <a:lnTo>
                  <a:pt x="3393" y="695"/>
                </a:lnTo>
                <a:lnTo>
                  <a:pt x="3537" y="604"/>
                </a:lnTo>
                <a:lnTo>
                  <a:pt x="3676" y="465"/>
                </a:lnTo>
                <a:lnTo>
                  <a:pt x="3820" y="331"/>
                </a:lnTo>
                <a:lnTo>
                  <a:pt x="3959" y="155"/>
                </a:lnTo>
                <a:lnTo>
                  <a:pt x="4104" y="5"/>
                </a:lnTo>
                <a:lnTo>
                  <a:pt x="4109" y="0"/>
                </a:lnTo>
              </a:path>
            </a:pathLst>
          </a:custGeom>
          <a:noFill/>
          <a:ln w="38160">
            <a:solidFill>
              <a:srgbClr val="00ff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230640" y="1023840"/>
            <a:ext cx="364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mparative C/I Cumulative Histogram for Genetic Algorithm Frequency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58840" y="6303960"/>
            <a:ext cx="601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 (d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rot="16200000">
            <a:off x="745200" y="3522960"/>
            <a:ext cx="799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b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897200" y="2789280"/>
            <a:ext cx="6522840" cy="3282840"/>
          </a:xfrm>
          <a:custGeom>
            <a:avLst/>
            <a:gdLst/>
            <a:ahLst/>
            <a:rect l="l" t="t" r="r" b="b"/>
            <a:pathLst>
              <a:path w="4109" h="2068">
                <a:moveTo>
                  <a:pt x="0" y="2068"/>
                </a:moveTo>
                <a:lnTo>
                  <a:pt x="139" y="2068"/>
                </a:lnTo>
                <a:lnTo>
                  <a:pt x="283" y="2068"/>
                </a:lnTo>
                <a:lnTo>
                  <a:pt x="422" y="2068"/>
                </a:lnTo>
                <a:lnTo>
                  <a:pt x="566" y="2068"/>
                </a:lnTo>
                <a:lnTo>
                  <a:pt x="705" y="2068"/>
                </a:lnTo>
                <a:lnTo>
                  <a:pt x="849" y="2068"/>
                </a:lnTo>
                <a:lnTo>
                  <a:pt x="988" y="2068"/>
                </a:lnTo>
                <a:lnTo>
                  <a:pt x="1133" y="2057"/>
                </a:lnTo>
                <a:lnTo>
                  <a:pt x="1272" y="2051"/>
                </a:lnTo>
                <a:lnTo>
                  <a:pt x="1416" y="2041"/>
                </a:lnTo>
                <a:lnTo>
                  <a:pt x="1555" y="2030"/>
                </a:lnTo>
                <a:lnTo>
                  <a:pt x="1699" y="2003"/>
                </a:lnTo>
                <a:lnTo>
                  <a:pt x="1838" y="1955"/>
                </a:lnTo>
                <a:lnTo>
                  <a:pt x="1982" y="1913"/>
                </a:lnTo>
                <a:lnTo>
                  <a:pt x="2121" y="1843"/>
                </a:lnTo>
                <a:lnTo>
                  <a:pt x="2260" y="1763"/>
                </a:lnTo>
                <a:lnTo>
                  <a:pt x="2404" y="1656"/>
                </a:lnTo>
                <a:lnTo>
                  <a:pt x="2543" y="1544"/>
                </a:lnTo>
                <a:lnTo>
                  <a:pt x="2688" y="1448"/>
                </a:lnTo>
                <a:lnTo>
                  <a:pt x="2827" y="1335"/>
                </a:lnTo>
                <a:lnTo>
                  <a:pt x="2971" y="1181"/>
                </a:lnTo>
                <a:lnTo>
                  <a:pt x="3110" y="1074"/>
                </a:lnTo>
                <a:lnTo>
                  <a:pt x="3254" y="951"/>
                </a:lnTo>
                <a:lnTo>
                  <a:pt x="3393" y="801"/>
                </a:lnTo>
                <a:lnTo>
                  <a:pt x="3537" y="646"/>
                </a:lnTo>
                <a:lnTo>
                  <a:pt x="3676" y="491"/>
                </a:lnTo>
                <a:lnTo>
                  <a:pt x="3820" y="336"/>
                </a:lnTo>
                <a:lnTo>
                  <a:pt x="3959" y="187"/>
                </a:lnTo>
                <a:lnTo>
                  <a:pt x="4104" y="5"/>
                </a:lnTo>
                <a:lnTo>
                  <a:pt x="410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250040" y="1270080"/>
            <a:ext cx="1101960" cy="31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250040" y="1270080"/>
            <a:ext cx="1101960" cy="3142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250040" y="127008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250040" y="158436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8352000" y="1269720"/>
            <a:ext cx="144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7250040" y="1269720"/>
            <a:ext cx="180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250040" y="158436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7250040" y="1269720"/>
            <a:ext cx="180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50040" y="127008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250040" y="158436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8352000" y="1269720"/>
            <a:ext cx="144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7250040" y="1269720"/>
            <a:ext cx="180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14000" y="1287360"/>
            <a:ext cx="61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Genetic 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19760" y="1422360"/>
            <a:ext cx="642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tandard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308720" y="1355760"/>
            <a:ext cx="195480" cy="1440"/>
          </a:xfrm>
          <a:prstGeom prst="line">
            <a:avLst/>
          </a:prstGeom>
          <a:ln w="0">
            <a:solidFill>
              <a:srgbClr val="00ff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308720" y="1500120"/>
            <a:ext cx="19548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7277040" y="4122360"/>
            <a:ext cx="0" cy="1981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1690560" y="4046400"/>
            <a:ext cx="55627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1690560" y="4808520"/>
            <a:ext cx="55627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719400" y="5036040"/>
            <a:ext cx="174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500800" y="343584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137240" y="608400"/>
            <a:ext cx="74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erformance Comparison of Standard Vs. Genetic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3198600" y="456120"/>
            <a:ext cx="31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int-to-Point Link 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504440" y="6302520"/>
            <a:ext cx="63612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29-Oct-2001  17:1 J.Rozmary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055960" y="1343160"/>
            <a:ext cx="5905440" cy="464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055960" y="1343160"/>
            <a:ext cx="5905440" cy="464976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77020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88944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00868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12144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24068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055960" y="5992920"/>
            <a:ext cx="590544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055960" y="5057640"/>
            <a:ext cx="590544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055960" y="4129200"/>
            <a:ext cx="590544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055960" y="3200400"/>
            <a:ext cx="590544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055960" y="2271600"/>
            <a:ext cx="590544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055960" y="1343160"/>
            <a:ext cx="590544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055960" y="5992920"/>
            <a:ext cx="5905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2055960" y="1343160"/>
            <a:ext cx="1440" cy="4649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277020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599920" y="601020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388944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681720" y="601020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500868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838040" y="601020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612144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915520" y="601020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724068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070040" y="601020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055960" y="5992920"/>
            <a:ext cx="52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524960" y="594504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055960" y="5057640"/>
            <a:ext cx="52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464120" y="501012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4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055960" y="4129200"/>
            <a:ext cx="52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524960" y="408132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055960" y="3200400"/>
            <a:ext cx="52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464120" y="315288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055960" y="2271600"/>
            <a:ext cx="52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524960" y="222408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055960" y="1343160"/>
            <a:ext cx="52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464120" y="129528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4971960" y="3733920"/>
            <a:ext cx="1657440" cy="55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971960" y="3789360"/>
            <a:ext cx="1768680" cy="6048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740640" y="384984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4971960" y="3760560"/>
            <a:ext cx="1513080" cy="2844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485040" y="37609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4971960" y="3652560"/>
            <a:ext cx="1024200" cy="136440"/>
          </a:xfrm>
          <a:prstGeom prst="line">
            <a:avLst/>
          </a:prstGeom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996160" y="36529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971960" y="3789360"/>
            <a:ext cx="1381320" cy="14292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353280" y="393228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4971960" y="3594240"/>
            <a:ext cx="1405080" cy="19512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377040" y="359424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971960" y="3789360"/>
            <a:ext cx="57240" cy="477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019840" y="426564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971960" y="3789360"/>
            <a:ext cx="554040" cy="947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526000" y="473724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4971960" y="3414240"/>
            <a:ext cx="1774800" cy="37476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746760" y="3408480"/>
            <a:ext cx="1800" cy="6120"/>
          </a:xfrm>
          <a:custGeom>
            <a:avLst/>
            <a:gdLst/>
            <a:ahLst/>
            <a:rect l="l" t="t" r="r" b="b"/>
            <a:pathLst>
              <a:path w="0" h="4">
                <a:moveTo>
                  <a:pt x="0" y="0"/>
                </a:move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4597560" y="3789360"/>
            <a:ext cx="374400" cy="5778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597560" y="436716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971960" y="3789360"/>
            <a:ext cx="452520" cy="30492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424480" y="409428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971960" y="3789360"/>
            <a:ext cx="203400" cy="90504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175360" y="469440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4650840" y="3789360"/>
            <a:ext cx="320760" cy="1252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651200" y="3914640"/>
            <a:ext cx="180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4484520" y="3789360"/>
            <a:ext cx="487440" cy="309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484520" y="409896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4441320" y="3789360"/>
            <a:ext cx="530280" cy="1666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441680" y="395604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>
            <a:off x="4679640" y="3789360"/>
            <a:ext cx="291960" cy="82224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680000" y="461160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971960" y="3789360"/>
            <a:ext cx="779400" cy="7920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746680" y="4581360"/>
            <a:ext cx="46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971960" y="3789360"/>
            <a:ext cx="60480" cy="82872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032440" y="4618080"/>
            <a:ext cx="360" cy="46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971960" y="3789360"/>
            <a:ext cx="993960" cy="11916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965920" y="39085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 flipV="1">
            <a:off x="4304880" y="3492360"/>
            <a:ext cx="655560" cy="231840"/>
          </a:xfrm>
          <a:prstGeom prst="line">
            <a:avLst/>
          </a:prstGeom>
          <a:ln w="0">
            <a:solidFill>
              <a:srgbClr val="ffff00"/>
            </a:solidFill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305240" y="3486240"/>
            <a:ext cx="360" cy="6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971960" y="3789360"/>
            <a:ext cx="993960" cy="1839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965920" y="56293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 flipV="1">
            <a:off x="2079360" y="3159000"/>
            <a:ext cx="2881080" cy="565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073240" y="3159000"/>
            <a:ext cx="6480" cy="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971960" y="3789360"/>
            <a:ext cx="1054080" cy="135720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026040" y="5146560"/>
            <a:ext cx="6480" cy="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flipV="1">
            <a:off x="2394000" y="2479320"/>
            <a:ext cx="2566800" cy="124452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394000" y="247968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4865760" y="3724200"/>
            <a:ext cx="95040" cy="1800"/>
          </a:xfrm>
          <a:prstGeom prst="line">
            <a:avLst/>
          </a:prstGeom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865760" y="372420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322880" y="3105000"/>
            <a:ext cx="637920" cy="61920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322880" y="3098880"/>
            <a:ext cx="360" cy="61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4465440" y="2050920"/>
            <a:ext cx="495000" cy="16732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465800" y="2046240"/>
            <a:ext cx="3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 flipV="1">
            <a:off x="4870080" y="3503160"/>
            <a:ext cx="90360" cy="220680"/>
          </a:xfrm>
          <a:prstGeom prst="line">
            <a:avLst/>
          </a:prstGeom>
          <a:ln w="0">
            <a:solidFill>
              <a:srgbClr val="000000"/>
            </a:solidFill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870440" y="3498840"/>
            <a:ext cx="144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0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4971960" y="3682800"/>
            <a:ext cx="893880" cy="106200"/>
          </a:xfrm>
          <a:prstGeom prst="line">
            <a:avLst/>
          </a:prstGeom>
          <a:ln w="0">
            <a:solidFill>
              <a:srgbClr val="ff0000"/>
            </a:solidFill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865840" y="368316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595040" y="1143000"/>
            <a:ext cx="857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tP Link 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383720" y="6264360"/>
            <a:ext cx="1378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ngitude (degre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rot="16200000">
            <a:off x="707040" y="3493440"/>
            <a:ext cx="1238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titude (degre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1352880" y="617688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18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879560" y="1055520"/>
            <a:ext cx="6676920" cy="481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879560" y="1055520"/>
            <a:ext cx="6676920" cy="48103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841400" y="1055520"/>
            <a:ext cx="180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712960" y="1055520"/>
            <a:ext cx="180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54492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37832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21820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05160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88356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71696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8556480" y="1055520"/>
            <a:ext cx="180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879560" y="586584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879560" y="537840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879560" y="489888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879560" y="441972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879560" y="394020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879560" y="346068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879560" y="297324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879560" y="249408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879560" y="201456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879560" y="153504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879560" y="105552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879560" y="1055520"/>
            <a:ext cx="6676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879560" y="1055520"/>
            <a:ext cx="6676920" cy="4810320"/>
          </a:xfrm>
          <a:custGeom>
            <a:avLst/>
            <a:gdLst/>
            <a:ahLst/>
            <a:rect l="l" t="t" r="r" b="b"/>
            <a:pathLst>
              <a:path w="794" h="572">
                <a:moveTo>
                  <a:pt x="0" y="572"/>
                </a:moveTo>
                <a:lnTo>
                  <a:pt x="794" y="572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1841400" y="1055520"/>
            <a:ext cx="1800" cy="481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879560" y="5865840"/>
            <a:ext cx="6676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1841400" y="1055520"/>
            <a:ext cx="1800" cy="481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176544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76544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869480" y="58910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2712960" y="57988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712960" y="1055520"/>
            <a:ext cx="180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65608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354492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54492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48804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437832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37832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32144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521820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21820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16096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605160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05160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99472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688356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88356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82632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771696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71696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65828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8556480" y="57988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8556480" y="1055520"/>
            <a:ext cx="180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849960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765440" y="586584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8489520" y="586584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616400" y="57992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765440" y="537840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H="1">
            <a:off x="8489520" y="537840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616400" y="53103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765440" y="489888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H="1">
            <a:off x="8489520" y="489888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616400" y="48308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765440" y="441972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H="1">
            <a:off x="8489520" y="441972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616400" y="435132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765440" y="394020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8489520" y="394020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616400" y="38736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765440" y="346068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H="1">
            <a:off x="8489520" y="346068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616400" y="33940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765440" y="297324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8489520" y="297324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616400" y="29052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765440" y="249408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>
            <a:off x="8489520" y="249408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616400" y="2425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765440" y="201456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H="1">
            <a:off x="8489520" y="201456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616400" y="19461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765440" y="153504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8489520" y="153504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616400" y="14670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765440" y="105552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8489520" y="105552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616400" y="9874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879560" y="1055520"/>
            <a:ext cx="6676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879560" y="1055520"/>
            <a:ext cx="6676920" cy="4810320"/>
          </a:xfrm>
          <a:custGeom>
            <a:avLst/>
            <a:gdLst/>
            <a:ahLst/>
            <a:rect l="l" t="t" r="r" b="b"/>
            <a:pathLst>
              <a:path w="794" h="572">
                <a:moveTo>
                  <a:pt x="0" y="572"/>
                </a:moveTo>
                <a:lnTo>
                  <a:pt x="794" y="572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1841400" y="1055520"/>
            <a:ext cx="1800" cy="481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955880" y="1290600"/>
            <a:ext cx="6516720" cy="4340160"/>
          </a:xfrm>
          <a:custGeom>
            <a:avLst/>
            <a:gdLst/>
            <a:ahLst/>
            <a:rect l="l" t="t" r="r" b="b"/>
            <a:pathLst>
              <a:path w="4105" h="2734">
                <a:moveTo>
                  <a:pt x="0" y="2734"/>
                </a:moveTo>
                <a:lnTo>
                  <a:pt x="53" y="2734"/>
                </a:lnTo>
                <a:lnTo>
                  <a:pt x="106" y="2734"/>
                </a:lnTo>
                <a:lnTo>
                  <a:pt x="159" y="2734"/>
                </a:lnTo>
                <a:lnTo>
                  <a:pt x="212" y="959"/>
                </a:lnTo>
                <a:lnTo>
                  <a:pt x="265" y="959"/>
                </a:lnTo>
                <a:lnTo>
                  <a:pt x="318" y="959"/>
                </a:lnTo>
                <a:lnTo>
                  <a:pt x="371" y="959"/>
                </a:lnTo>
                <a:lnTo>
                  <a:pt x="424" y="959"/>
                </a:lnTo>
                <a:lnTo>
                  <a:pt x="477" y="959"/>
                </a:lnTo>
                <a:lnTo>
                  <a:pt x="530" y="959"/>
                </a:lnTo>
                <a:lnTo>
                  <a:pt x="583" y="959"/>
                </a:lnTo>
                <a:lnTo>
                  <a:pt x="636" y="959"/>
                </a:lnTo>
                <a:lnTo>
                  <a:pt x="683" y="959"/>
                </a:lnTo>
                <a:lnTo>
                  <a:pt x="736" y="959"/>
                </a:lnTo>
                <a:lnTo>
                  <a:pt x="789" y="959"/>
                </a:lnTo>
                <a:lnTo>
                  <a:pt x="842" y="959"/>
                </a:lnTo>
                <a:lnTo>
                  <a:pt x="895" y="959"/>
                </a:lnTo>
                <a:lnTo>
                  <a:pt x="948" y="959"/>
                </a:lnTo>
                <a:lnTo>
                  <a:pt x="1001" y="959"/>
                </a:lnTo>
                <a:lnTo>
                  <a:pt x="1054" y="959"/>
                </a:lnTo>
                <a:lnTo>
                  <a:pt x="1107" y="959"/>
                </a:lnTo>
                <a:lnTo>
                  <a:pt x="1160" y="959"/>
                </a:lnTo>
                <a:lnTo>
                  <a:pt x="1213" y="959"/>
                </a:lnTo>
                <a:lnTo>
                  <a:pt x="1266" y="959"/>
                </a:lnTo>
                <a:lnTo>
                  <a:pt x="1319" y="959"/>
                </a:lnTo>
                <a:lnTo>
                  <a:pt x="1367" y="959"/>
                </a:lnTo>
                <a:lnTo>
                  <a:pt x="1420" y="959"/>
                </a:lnTo>
                <a:lnTo>
                  <a:pt x="1473" y="959"/>
                </a:lnTo>
                <a:lnTo>
                  <a:pt x="1526" y="366"/>
                </a:lnTo>
                <a:lnTo>
                  <a:pt x="1579" y="366"/>
                </a:lnTo>
                <a:lnTo>
                  <a:pt x="1632" y="366"/>
                </a:lnTo>
                <a:lnTo>
                  <a:pt x="1685" y="366"/>
                </a:lnTo>
                <a:lnTo>
                  <a:pt x="1738" y="366"/>
                </a:lnTo>
                <a:lnTo>
                  <a:pt x="1791" y="366"/>
                </a:lnTo>
                <a:lnTo>
                  <a:pt x="1843" y="366"/>
                </a:lnTo>
                <a:lnTo>
                  <a:pt x="1896" y="366"/>
                </a:lnTo>
                <a:lnTo>
                  <a:pt x="1949" y="366"/>
                </a:lnTo>
                <a:lnTo>
                  <a:pt x="2002" y="366"/>
                </a:lnTo>
                <a:lnTo>
                  <a:pt x="2055" y="366"/>
                </a:lnTo>
                <a:lnTo>
                  <a:pt x="2103" y="366"/>
                </a:lnTo>
                <a:lnTo>
                  <a:pt x="2156" y="122"/>
                </a:lnTo>
                <a:lnTo>
                  <a:pt x="2209" y="122"/>
                </a:lnTo>
                <a:lnTo>
                  <a:pt x="2262" y="122"/>
                </a:lnTo>
                <a:lnTo>
                  <a:pt x="2315" y="122"/>
                </a:lnTo>
                <a:lnTo>
                  <a:pt x="2368" y="0"/>
                </a:lnTo>
                <a:lnTo>
                  <a:pt x="2421" y="0"/>
                </a:lnTo>
                <a:lnTo>
                  <a:pt x="2474" y="0"/>
                </a:lnTo>
                <a:lnTo>
                  <a:pt x="2527" y="0"/>
                </a:lnTo>
                <a:lnTo>
                  <a:pt x="2580" y="0"/>
                </a:lnTo>
                <a:lnTo>
                  <a:pt x="2633" y="0"/>
                </a:lnTo>
                <a:lnTo>
                  <a:pt x="2686" y="0"/>
                </a:lnTo>
                <a:lnTo>
                  <a:pt x="2739" y="0"/>
                </a:lnTo>
                <a:lnTo>
                  <a:pt x="2786" y="0"/>
                </a:lnTo>
                <a:lnTo>
                  <a:pt x="2839" y="0"/>
                </a:lnTo>
                <a:lnTo>
                  <a:pt x="2892" y="0"/>
                </a:lnTo>
                <a:lnTo>
                  <a:pt x="2945" y="0"/>
                </a:lnTo>
                <a:lnTo>
                  <a:pt x="2998" y="0"/>
                </a:lnTo>
                <a:lnTo>
                  <a:pt x="3051" y="0"/>
                </a:lnTo>
                <a:lnTo>
                  <a:pt x="3104" y="0"/>
                </a:lnTo>
                <a:lnTo>
                  <a:pt x="3157" y="0"/>
                </a:lnTo>
                <a:lnTo>
                  <a:pt x="3210" y="0"/>
                </a:lnTo>
                <a:lnTo>
                  <a:pt x="3263" y="0"/>
                </a:lnTo>
                <a:lnTo>
                  <a:pt x="3316" y="0"/>
                </a:lnTo>
                <a:lnTo>
                  <a:pt x="3369" y="0"/>
                </a:lnTo>
                <a:lnTo>
                  <a:pt x="3422" y="0"/>
                </a:lnTo>
                <a:lnTo>
                  <a:pt x="3470" y="0"/>
                </a:lnTo>
                <a:lnTo>
                  <a:pt x="3523" y="0"/>
                </a:lnTo>
                <a:lnTo>
                  <a:pt x="3576" y="0"/>
                </a:lnTo>
                <a:lnTo>
                  <a:pt x="3629" y="0"/>
                </a:lnTo>
                <a:lnTo>
                  <a:pt x="3681" y="0"/>
                </a:lnTo>
                <a:lnTo>
                  <a:pt x="3734" y="0"/>
                </a:lnTo>
                <a:lnTo>
                  <a:pt x="3787" y="0"/>
                </a:lnTo>
                <a:lnTo>
                  <a:pt x="3840" y="0"/>
                </a:lnTo>
                <a:lnTo>
                  <a:pt x="3893" y="0"/>
                </a:lnTo>
                <a:lnTo>
                  <a:pt x="3946" y="0"/>
                </a:lnTo>
                <a:lnTo>
                  <a:pt x="3999" y="0"/>
                </a:lnTo>
                <a:lnTo>
                  <a:pt x="4052" y="0"/>
                </a:lnTo>
                <a:lnTo>
                  <a:pt x="4105" y="0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285440" y="6033960"/>
            <a:ext cx="199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umber of Links Proces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1308240" y="3323160"/>
            <a:ext cx="482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434680" y="303840"/>
            <a:ext cx="44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mulated Annealing Converg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381560" y="1066680"/>
            <a:ext cx="0" cy="4800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896160" y="1066680"/>
            <a:ext cx="0" cy="4800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346480" y="5104080"/>
            <a:ext cx="951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264280" y="5104080"/>
            <a:ext cx="951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7473960" y="5104080"/>
            <a:ext cx="951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1508400" y="613584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42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508400" y="613584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46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508400" y="613584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48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508400" y="613584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49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116080" y="1332000"/>
            <a:ext cx="6262920" cy="451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116080" y="1332000"/>
            <a:ext cx="6262920" cy="45115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090880" y="1332000"/>
            <a:ext cx="1440" cy="45115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246640" y="1332000"/>
            <a:ext cx="1800" cy="45115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8379000" y="1332000"/>
            <a:ext cx="1440" cy="45115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116080" y="5843520"/>
            <a:ext cx="6262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116080" y="5197320"/>
            <a:ext cx="6262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116080" y="455148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116080" y="390384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116080" y="326556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116080" y="261792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116080" y="197172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116080" y="133200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116080" y="1332000"/>
            <a:ext cx="6262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116080" y="5843520"/>
            <a:ext cx="6262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V="1">
            <a:off x="837900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209088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116080" y="5843520"/>
            <a:ext cx="6262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209088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2014560" y="5781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014560" y="133200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102760" y="58672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5246640" y="5781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246640" y="133200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234760" y="58672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8379000" y="5781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8379000" y="133200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8365320" y="58672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116080" y="5843520"/>
            <a:ext cx="55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8314920" y="5843520"/>
            <a:ext cx="63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937520" y="57816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116080" y="5197320"/>
            <a:ext cx="55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8314920" y="5197320"/>
            <a:ext cx="63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866960" y="5133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116080" y="455148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8314920" y="455148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866960" y="44877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116080" y="390384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H="1">
            <a:off x="8314920" y="390384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866960" y="384012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116080" y="326556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H="1">
            <a:off x="8314920" y="326556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1866960" y="32018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116080" y="261792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H="1">
            <a:off x="8314920" y="261792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1866960" y="25560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116080" y="197172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8314920" y="197172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866960" y="19080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116080" y="133200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H="1">
            <a:off x="8314920" y="133200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866960" y="12700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116080" y="1332000"/>
            <a:ext cx="6262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116080" y="5843520"/>
            <a:ext cx="6262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837900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209088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116080" y="1844640"/>
            <a:ext cx="6262920" cy="3621240"/>
          </a:xfrm>
          <a:custGeom>
            <a:avLst/>
            <a:gdLst/>
            <a:ahLst/>
            <a:rect l="l" t="t" r="r" b="b"/>
            <a:pathLst>
              <a:path w="3945" h="2281">
                <a:moveTo>
                  <a:pt x="0" y="2281"/>
                </a:moveTo>
                <a:lnTo>
                  <a:pt x="1972" y="1665"/>
                </a:lnTo>
                <a:lnTo>
                  <a:pt x="3945" y="0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634560" y="1143000"/>
            <a:ext cx="2983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imulated Annealing as a Function of Number of Available Frequenc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120560" y="6002280"/>
            <a:ext cx="2430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umber of Available Frequenc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rot="16200000">
            <a:off x="904680" y="3414240"/>
            <a:ext cx="156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gnal-to-Noise Rat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892160" y="150840"/>
            <a:ext cx="503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ulated Annealing Performance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unction of of Available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447560" y="1519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clusions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vailable Spectrum Is at a Prem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n Optimized Frequency Plan Improves the Overall Network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hile Minimizing Frequency Channel Uti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 Splitting Outperforms Frequency Doubling for Network Expa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 Optimizes Frequency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hen Hub Placements Are Not Reg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hen There Is a Significant 3-D 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an Be Utilized for Both Point-Multipoint and Point-to-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requency Reuse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mited by Reuse Cochannel and Adjacent Channel Interfer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channel Interference Dominated By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ub and Subscriber Antenna Patte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use Di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jacent Channel Interference Dominated By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ub and Subscriber Antenna Patte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ransmission Adjacent Channel Power Rat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371600" y="609480"/>
            <a:ext cx="72468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219320" y="457200"/>
            <a:ext cx="7570800" cy="59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835280" y="762120"/>
            <a:ext cx="7308720" cy="5867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623960" y="1268280"/>
            <a:ext cx="4729320" cy="3630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1447920" y="1019160"/>
            <a:ext cx="719136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828800" y="548640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4267080"/>
            <a:ext cx="15228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28800" y="3124080"/>
            <a:ext cx="15228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19051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548640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05320" y="4267080"/>
            <a:ext cx="15228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05320" y="3124080"/>
            <a:ext cx="15228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5320" y="19051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81480" y="5486400"/>
            <a:ext cx="15264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81480" y="4267080"/>
            <a:ext cx="15264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81480" y="3124080"/>
            <a:ext cx="15264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81480" y="1905120"/>
            <a:ext cx="15264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81680" y="5486400"/>
            <a:ext cx="15264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81680" y="4267080"/>
            <a:ext cx="15264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0" y="30481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0" y="19051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219320" y="1295280"/>
            <a:ext cx="7162560" cy="48974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7848720" y="1295280"/>
            <a:ext cx="1190520" cy="11764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90º Sector, 4 Channel 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95480" y="5943600"/>
            <a:ext cx="1358640" cy="82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qps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12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6q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19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64q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25.5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19520" y="2133720"/>
            <a:ext cx="7596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22800" y="21337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38680" y="21337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034040" y="21337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19520" y="3124080"/>
            <a:ext cx="7596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22800" y="31240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31240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34040" y="31240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4191120"/>
            <a:ext cx="7596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22800" y="41911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638680" y="41911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34040" y="41911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5181480"/>
            <a:ext cx="7596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22800" y="51814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51814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34040" y="51814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523880" y="38088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90º Sector, 4 Channel C/I Hist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295280" y="1219320"/>
            <a:ext cx="7162920" cy="48974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126480" y="4724280"/>
            <a:ext cx="1692720" cy="102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qps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2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6qa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9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64qa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25.5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5T15:33:46Z</dcterms:created>
  <dc:creator>jrozmaryn</dc:creator>
  <dc:description/>
  <dc:language>en-US</dc:language>
  <cp:lastModifiedBy>jrozmaryn</cp:lastModifiedBy>
  <cp:lastPrinted>2002-02-07T22:44:06Z</cp:lastPrinted>
  <dcterms:modified xsi:type="dcterms:W3CDTF">2002-02-07T22:44:14Z</dcterms:modified>
  <cp:revision>110</cp:revision>
  <dc:subject/>
  <dc:title>No Slide Title</dc:title>
</cp:coreProperties>
</file>