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96BB-521A-415B-BBA8-5448BE8E4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59A8-3DBE-4D11-8FE7-0A4D12700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DA26-B734-4D0D-AAC7-6E4AA641F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00AB-3A9F-440D-AB14-42519A869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CB5F6-802B-4A36-909A-91918C589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9ACA1-B921-4696-A1B4-4F7AAE7B2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90DDB-4B55-429B-9307-5F347B3E5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4DB04-23D7-447C-8C60-5453E7ABC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B6F2C-7501-4B0F-BDF2-A83996995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10D0F-C0E1-40D0-8932-DDB33E6D4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DC1A3-5304-4E53-B37D-EC9398C28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6BDB-243F-442E-965C-8B5A8D0F9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EBA96-4D00-40AD-B65F-5DF3B6D81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34D3D-4A65-43C9-BEEF-9CCF7B50A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5FE60-E8E3-488F-A12D-B5C8B1301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CE95C-954C-4CFC-9A21-A2AF4DA03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9578D-1FBB-4095-B8DF-92C71BC1A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6BE0-C2B6-4353-A33B-DF704D55A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7849-C9F9-4B10-95D5-E3ACEC6E2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0459-CD74-4AE1-BD91-9C2882833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0B0C-5F5C-44A7-8B7A-DA3B76CD4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4604-BFA2-4646-8603-6AC4DF2FC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C9EA-A50E-4158-8EE5-49D0EBDC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8F8D-FF1E-4650-A3E3-CECF14BBD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9900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9900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FC1C5-D201-431B-AEFE-86885C93BDEC}" type="slidenum"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7E9FF-C54A-46C8-997E-B4F41385DBDD}" type="slidenum"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Prime Companies Inc.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   Broadband Wireless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           World  Forum 2002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43000" y="3809520"/>
            <a:ext cx="72388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February 12-14 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Anaheim, California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3962520" y="2666880"/>
            <a:ext cx="441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ff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5791320" y="2743200"/>
            <a:ext cx="2727360" cy="3278160"/>
            <a:chOff x="5791320" y="2743200"/>
            <a:chExt cx="2727360" cy="327816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5791320" y="2743200"/>
              <a:ext cx="2727360" cy="327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 txBox="1"/>
            <p:nvPr/>
          </p:nvSpPr>
          <p:spPr>
            <a:xfrm>
              <a:off x="5791320" y="2743200"/>
              <a:ext cx="2727360" cy="3278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6699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F63D-BAE4-49F8-B8F6-B169D7D4A46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ow To Deploy A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Wireless Network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Select manufacturer and proper equip’t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Evaluate throughput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Evaluate technology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at is the growth potential?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Number of customers per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hub/per sector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What services can be provided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now and later?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Focus on equipment pricing-most     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particularly CPE pricing!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FC38-8DAC-4348-849E-A17DAC5EAB2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ow To Deploy A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Wireless Network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efine frequencies to be used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LMDS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5.8 GHZ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2.4 GHZ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eployment methods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Define point to point requirement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Define point to multipoint requirements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Define equipment hardware requirements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B8A0-F964-40EB-993C-095AC84D971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ow To Deploy A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Wireless Network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Preorder required bandwidth to POP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T1’s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S3’s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Use right equipment for right application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Is ATM required?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AD37-37BB-4883-9A8D-45DA7D588BA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LMDS" descr=""/>
          <p:cNvPicPr/>
          <p:nvPr/>
        </p:nvPicPr>
        <p:blipFill>
          <a:blip r:embed="rId1"/>
          <a:srcRect l="0" t="7245" r="0" b="15396"/>
          <a:stretch/>
        </p:blipFill>
        <p:spPr>
          <a:xfrm>
            <a:off x="1523880" y="380880"/>
            <a:ext cx="6096240" cy="609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57B2-C1B2-4B52-9F6B-E3CA284F782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Road To Success 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After Deployment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360" y="2362320"/>
            <a:ext cx="74674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Create Alliance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Join Chambers of Commerce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Have them (C of C) become your advocate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Acquaint yourself with Economic Development Agencie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Provide live training sessions to the business community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2CE4-CC82-4C24-BE9F-7344A406CC9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Road To Success 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After Deployment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Clearly define the benefits of your services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Educate your prospective customers on what E-commerce means to them and their business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Be conscious that your prospective customers are </a:t>
            </a:r>
            <a:r>
              <a:rPr b="1" i="1" lang="en-US" sz="3200" spc="-1" strike="noStrike">
                <a:solidFill>
                  <a:srgbClr val="9900ff"/>
                </a:solidFill>
                <a:latin typeface="Tahoma"/>
              </a:rPr>
              <a:t>starving but they are not hungry!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CD16-D0EE-4DFA-B2B0-59EF365767B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Road To Success 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After Deployment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at does net speed mean to your customers business?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Show your customer how speed can save them money!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Augment your horizons, serve both business as well as your residential community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Keep in focus that business has a different requirement than the residential customer. 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3A7B-5D93-493A-B858-1D7A8C76BD0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Road To Success 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After Deployment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Consider the fact that in general the residential consumer has minimal impact on bandwidth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Same bandwidth can serve both the business as well as the residential consumer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Business uses net usually 8-5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Residence uses net usually 7-?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A813-53CC-4617-99ED-C52B1791F95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ow Do I Get Started in These      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Economic Times?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o not accept anything other than reality. Be a realist!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Make extensive use of the pre-subscription process to assure yourself that you have customer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ere and when possible create alliances with manufacturer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Manufacturers are also going through tough times. 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22A2-F2CC-4789-927A-11382C417C4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ow Do I Get Started in These      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Economic Times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Communicate with your congressional representatives. 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Sell them on your plan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Have them support you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Look for governmental low interest loans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Remember today what counts is </a:t>
            </a:r>
            <a:r>
              <a:rPr b="1" i="1" lang="en-US" sz="3200" spc="-1" strike="noStrike">
                <a:solidFill>
                  <a:srgbClr val="9900ff"/>
                </a:solidFill>
                <a:latin typeface="Tahoma"/>
              </a:rPr>
              <a:t>PROFIT</a:t>
            </a: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0A08-3E32-4561-9118-1BB99BCB9D8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Strategies Of Deploying Wireless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Broadband Utilizing LMDS,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Unlicensed Bandwidth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(5.8 GHZ and 2.4 GHZ)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886200"/>
            <a:ext cx="73915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Tahoma"/>
              </a:rPr>
              <a:t>  </a:t>
            </a:r>
            <a:r>
              <a:rPr b="1" lang="en-US" sz="3600" spc="-1" strike="noStrike">
                <a:solidFill>
                  <a:srgbClr val="9900ff"/>
                </a:solidFill>
                <a:latin typeface="Tahoma"/>
              </a:rPr>
              <a:t>Presented By Norbert J. Lima             </a:t>
            </a:r>
            <a:r>
              <a:rPr b="1" lang="en-US" sz="36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9900ff"/>
                </a:solidFill>
                <a:latin typeface="Tahoma"/>
              </a:rPr>
              <a:t>    President and CEO</a:t>
            </a:r>
            <a:endParaRPr b="0" lang="en-US" sz="3600" spc="-1" strike="noStrike">
              <a:solidFill>
                <a:srgbClr val="9900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Tahoma"/>
              </a:rPr>
              <a:t>Prime Companies Incorporated</a:t>
            </a:r>
            <a:endParaRPr b="0" lang="en-US" sz="36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5856-86D5-4696-A786-5230AE111CA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istory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Prime companies participated in the 1999 LMDS auction in the U.S. 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Prime companies was successful in acquiring 8 LMDS “A” license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Geographically speaking, these licenses range from western Pennsylvania going in a northerly direction all the way into the state of new York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C1D0-5483-4DCE-B4B5-E7BFEF52F33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Goal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Strategic and cost effective deployment of broadband services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Serve all economically feasible markets- both in secondary and tertiary markets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172E-B298-4017-9501-364FD3DF9C0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8380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Challenges of Getting Started</a:t>
            </a:r>
            <a:br>
              <a:rPr sz="3600"/>
            </a:b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Have a business plan with reasonable and realistic expectations, and follow your business plan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at services do you intend to deploy?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High speed internet connectivity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Video conferencing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Virtual private networks (VPN’s)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Point to point data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Dial tone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376E-9B1C-4704-B738-E760A765248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7560" y="9140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Challenges Continued…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Which service offering, or package of services do you intend to provide first?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7407-1E45-4F27-8031-E83F2DF154A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Challenges Continued…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Considerations before defining market deployment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o marketing studies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      where possible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Understand your markets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       and customer needs/want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Obtain pre-subscription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ere possible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Is bandwidth available?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Negotiate for bandwidth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A228-41EC-4E6D-9882-BF29E2C9575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Challenges Continued…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Considerations before defining (con’t)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Consider market makeup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Building size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Avg number of customers per bldg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How many sectors are req. to provide svc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efine price points for services to be 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eployed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Explore terms of rooftop usage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BC00-6486-4D89-9097-B2CCAD870CA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Challenges Continued…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ich market to deploy first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Consider competition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Consider bandwidth availability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Is DSL available?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Consider location of deployment hub site!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Is radio/hub site readily available?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What manufacturers’ equipment do you use?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Do you have pre-subscriptions?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C75D-9A71-44F3-8DD2-76FDFF25534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5T18:15:46Z</dcterms:created>
  <dc:creator>sondra</dc:creator>
  <dc:description/>
  <dc:language>en-US</dc:language>
  <cp:lastModifiedBy>sondra</cp:lastModifiedBy>
  <dcterms:modified xsi:type="dcterms:W3CDTF">2002-02-08T17:04:38Z</dcterms:modified>
  <cp:revision>83</cp:revision>
  <dc:subject/>
  <dc:title>PowerPoint Presentation</dc:title>
</cp:coreProperties>
</file>