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92E5-E46C-43CA-B825-7E9EF2DBF6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BEB1-63CC-4AC9-AE47-2711731AE8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A9EF7-BB85-4678-9ED7-3C5588C6AE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E10C09-9EF8-4A5E-B3DA-56CEF17ACF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94A1F-CA6E-4FE9-AD9A-B9ECE9A7E6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0580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833440" y="127764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77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0580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833440" y="3874680"/>
            <a:ext cx="250236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5A986-67E0-439F-BA74-BBEE00403C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75799-D540-4E2E-822E-5FD6059B0A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76373-AA6D-41B7-AF8A-0FE209048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577800" y="658800"/>
            <a:ext cx="777240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70B9E-2DAD-4CE7-8938-E3C58E50C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86645-504A-4B76-8A58-1491D287BD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0480" y="387468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C1F8-5D72-4E92-B856-8C4090DEFE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60480" y="1277640"/>
            <a:ext cx="37926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7800" y="3874680"/>
            <a:ext cx="7772400" cy="23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8A5CF-C8CF-4738-A5A2-F178F65A73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81120" y="6315120"/>
            <a:ext cx="7778520" cy="7452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124080" y="6339960"/>
            <a:ext cx="2895840" cy="2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622920" y="6491160"/>
            <a:ext cx="179712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5309-09C7-45C0-A22C-EB401D5C3340}" type="slidenum">
              <a:rPr b="0" i="1" lang="en-US" sz="1200" spc="-1" strike="noStrike">
                <a:solidFill>
                  <a:srgbClr val="3366cc"/>
                </a:solidFill>
                <a:latin typeface="Arial Condensed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433440" y="687240"/>
            <a:ext cx="84240" cy="3316320"/>
            <a:chOff x="433440" y="687240"/>
            <a:chExt cx="84240" cy="3316320"/>
          </a:xfrm>
        </p:grpSpPr>
        <p:sp>
          <p:nvSpPr>
            <p:cNvPr id="8" name=""/>
            <p:cNvSpPr/>
            <p:nvPr/>
          </p:nvSpPr>
          <p:spPr>
            <a:xfrm rot="16200000">
              <a:off x="-1176840" y="2307240"/>
              <a:ext cx="3314880" cy="748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>
              <a:off x="433440" y="692280"/>
              <a:ext cx="0" cy="331128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565200" y="1187280"/>
            <a:ext cx="7804080" cy="0"/>
          </a:xfrm>
          <a:prstGeom prst="line">
            <a:avLst/>
          </a:prstGeom>
          <a:ln w="28440">
            <a:solidFill>
              <a:srgbClr val="33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Logo%20med" descr=""/>
          <p:cNvPicPr/>
          <p:nvPr/>
        </p:nvPicPr>
        <p:blipFill>
          <a:blip r:embed="rId2"/>
          <a:stretch/>
        </p:blipFill>
        <p:spPr>
          <a:xfrm>
            <a:off x="7310520" y="309600"/>
            <a:ext cx="1442880" cy="56196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596880" y="643716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1120" y="6413400"/>
            <a:ext cx="325440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647800"/>
            <a:ext cx="7772400" cy="158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3"/>
          </p:nvPr>
        </p:nvSpPr>
        <p:spPr>
          <a:xfrm>
            <a:off x="3117600" y="6324480"/>
            <a:ext cx="2895480" cy="3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3366cc"/>
                </a:solidFill>
                <a:latin typeface="Arial Condensed Bol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3366cc"/>
                </a:solidFill>
                <a:latin typeface="Arial Condensed Bold"/>
              </a:rPr>
              <a:t>BWWF ‘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1120" y="2540160"/>
            <a:ext cx="7778520" cy="7452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53120" y="6413400"/>
            <a:ext cx="3206520" cy="7488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0099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Logo%20med" descr=""/>
          <p:cNvPicPr/>
          <p:nvPr/>
        </p:nvPicPr>
        <p:blipFill>
          <a:blip r:embed="rId2"/>
          <a:stretch/>
        </p:blipFill>
        <p:spPr>
          <a:xfrm>
            <a:off x="6138720" y="254160"/>
            <a:ext cx="2262240" cy="8809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6880" y="6437160"/>
            <a:ext cx="3073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cc"/>
                </a:solidFill>
                <a:latin typeface="Arial Condensed Bold"/>
              </a:rPr>
              <a:t>Feb 12-14, 2002, Anaheim, 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SzPct val="75000"/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657440"/>
            <a:ext cx="8153280" cy="16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Arial Black"/>
              </a:rPr>
              <a:t>Non Line-of-Sight in Microwave Bands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181160" y="4235040"/>
            <a:ext cx="6400800" cy="11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cc"/>
                </a:solidFill>
                <a:latin typeface="Palatino"/>
              </a:rPr>
              <a:t>Multicell Network Architecture</a:t>
            </a:r>
            <a:endParaRPr b="1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Metro Coverage Design Exampl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3000" y="1277640"/>
            <a:ext cx="34542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ctorized cellular layou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quirements m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LOS cover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requency reus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r this marke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Use existing site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No new construc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4070520" y="1278000"/>
            <a:ext cx="4279680" cy="497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880BA-7226-4B0B-B1B2-C73E50D997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Cellular Reuse Analysi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08160" y="1328760"/>
            <a:ext cx="2946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TD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 RF channels, scalable cellular coverage &amp; capacity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In-building, user installable CP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Cell area &gt; PC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ost users capable of higher-order modulati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68160" y="1332000"/>
          <a:ext cx="5000760" cy="424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1332000"/>
                    <a:ext cx="5000760" cy="42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330560" y="520524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P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1587600" y="4673160"/>
            <a:ext cx="35568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155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6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273400" y="4203720"/>
            <a:ext cx="8892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76160" y="52052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4 Q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2755440" y="3530160"/>
            <a:ext cx="16524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E66F-7D4D-4029-A5D4-FF9B8E77A5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Adaptive Modulation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77" name=""/>
          <p:cNvSpPr/>
          <p:nvPr/>
        </p:nvSpPr>
        <p:spPr>
          <a:xfrm>
            <a:off x="1104840" y="1270080"/>
            <a:ext cx="756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727280" y="1422360"/>
          <a:ext cx="6210360" cy="2282760"/>
        </p:xfrm>
        <a:graphic>
          <a:graphicData uri="http://schemas.openxmlformats.org/drawingml/2006/table">
            <a:tbl>
              <a:tblPr/>
              <a:tblGrid>
                <a:gridCol w="1000080"/>
                <a:gridCol w="1222200"/>
                <a:gridCol w="1339920"/>
                <a:gridCol w="1487520"/>
                <a:gridCol w="1160640"/>
              </a:tblGrid>
              <a:tr h="1008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OFDM Subcarrier Modulations Suppor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Average available transmit rate, bps/H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QP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16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64-Q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Down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Upl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3.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Wingdings 2"/>
                          <a:ea typeface="Wingdings 2"/>
                        </a:rPr>
                        <a:t>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Palatino"/>
                        </a:rPr>
                        <a:t>4.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1480" y="4406760"/>
            <a:ext cx="711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20880" y="3889440"/>
            <a:ext cx="68958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 NLOS C/(N+I) analysi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5% capacity increase with two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% capacity increase with three m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50960" y="3249720"/>
            <a:ext cx="41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0B522-8B18-4EBB-9EBC-2DE5C42E476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cc"/>
                </a:solidFill>
                <a:latin typeface="Arial Black"/>
              </a:rPr>
              <a:t>Multiple Access with NLOS OFDM</a:t>
            </a:r>
            <a:endParaRPr b="0" lang="en-US" sz="2400" spc="-1" strike="noStrike">
              <a:solidFill>
                <a:srgbClr val="3366cc"/>
              </a:solidFill>
              <a:latin typeface="Arial Black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483000" y="1641600"/>
          <a:ext cx="5124600" cy="329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83000" y="1641600"/>
                    <a:ext cx="51246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78960" y="1645920"/>
            <a:ext cx="2832120" cy="21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al overhead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cket-switched,      random acces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utilization 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SzPct val="7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ellent stability in bursty data traffi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405AA-564C-454B-9B73-D62ED13FC6D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NLOS OFDM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77800" y="12902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OFDM advant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mple equalization, no ISI in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atural fit for NLO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upports adaptive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457200" indent="-45720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reless wide-area OFDM syste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, LAN-lik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ractical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914400" indent="-4572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CP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309EF-557C-4328-95AA-4ED3A9024E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ntact Informati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extNet Wireless,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9555 James Ave. South, Suite 270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Minneapolis, MN 55431  US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ww.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hone: 952-929-4008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-mail: info@nextnetwireless.co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DBA02-7826-43FF-B06C-384867463E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Second Generation Goal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on–line of sight (NLOS)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ach all customers in coverage are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ser-installable subscriber equipmen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roadband wide-area net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throughput &amp; multiple acce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 for residential and business u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il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Efficient Frequency Reuse - Bits / Hz / Acre / $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Flexible system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9FCFB-5F69-45A6-A11C-356DD9CF6A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roughput /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performance with low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calable cellular deploymen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lay spread – multipath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NLOS oper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mplexity and cost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9C2B-A57E-4F11-BEA0-EF78FFADFA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hallenge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ignal power at the recei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own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stream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Transmitter Pow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Base Station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PE effective antenna gai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AF96A-2D75-4999-A2B0-49C66CB0E13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416400" y="1517760"/>
            <a:ext cx="5333760" cy="400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cc"/>
                </a:solidFill>
                <a:latin typeface="Arial Black"/>
              </a:rPr>
              <a:t>NLOS Throughput vs. Distance</a:t>
            </a:r>
            <a:endParaRPr b="0" lang="en-US" sz="28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23600" y="1303200"/>
            <a:ext cx="31878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onstrain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Regulator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Path los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Upper bound for throughput varies with distance from 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4" name=""/>
          <p:cNvSpPr/>
          <p:nvPr/>
        </p:nvSpPr>
        <p:spPr>
          <a:xfrm>
            <a:off x="4855680" y="2278080"/>
            <a:ext cx="1143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rec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0120" y="4286160"/>
            <a:ext cx="152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43520" y="263988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DM &amp; S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8840" y="44308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327560" y="1324080"/>
            <a:ext cx="35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urban Path Loss Model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3BE38-0C37-40D7-96D0-8D4D71B25C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035160" y="1467000"/>
            <a:ext cx="5651640" cy="41907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Capacity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77800" y="1315800"/>
            <a:ext cx="30988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 capacity a function of cell size, modulat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Design choices lead to different capacity and coverage characteristic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2" name=""/>
          <p:cNvSpPr/>
          <p:nvPr/>
        </p:nvSpPr>
        <p:spPr>
          <a:xfrm>
            <a:off x="5205960" y="2127240"/>
            <a:ext cx="155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DM/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95240" y="3765600"/>
            <a:ext cx="95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n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S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65B83-0408-44A1-96CB-E0CCFC4DCF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7800" y="48096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ell </a:t>
            </a:r>
            <a:br>
              <a:rPr sz="3200"/>
            </a:b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Coverage/Capacity Comparison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1211400" y="1943280"/>
            <a:ext cx="670860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389240" y="2043000"/>
            <a:ext cx="6200640" cy="3841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4400" y="3822840"/>
            <a:ext cx="3179880" cy="558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606840" y="3935520"/>
            <a:ext cx="1935000" cy="358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3640" y="2238480"/>
            <a:ext cx="204768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162480" y="2224080"/>
            <a:ext cx="1763640" cy="18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09600" y="2227320"/>
            <a:ext cx="177660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90680" y="2238480"/>
            <a:ext cx="2217600" cy="18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5240" y="1581120"/>
            <a:ext cx="0" cy="339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6080" y="1582560"/>
            <a:ext cx="0" cy="59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139840" y="1441440"/>
            <a:ext cx="138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p to 32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1582560"/>
            <a:ext cx="1000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438000" y="1582560"/>
            <a:ext cx="114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13320" y="4191120"/>
            <a:ext cx="0" cy="51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2984400" y="4192200"/>
            <a:ext cx="0" cy="78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409920" y="4565520"/>
            <a:ext cx="139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5 - 2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1320" y="4851360"/>
            <a:ext cx="11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 – 3.5 k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2984040" y="497988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32440" y="497988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614840" y="47070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71760" y="4707000"/>
            <a:ext cx="241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06440" y="206388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7800" y="3949560"/>
            <a:ext cx="66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430440" y="2076480"/>
            <a:ext cx="14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797280" y="3962520"/>
            <a:ext cx="90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L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21240" y="3962520"/>
            <a:ext cx="98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2076480"/>
            <a:ext cx="107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over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82560" y="5761080"/>
            <a:ext cx="2541600" cy="517680"/>
            <a:chOff x="682560" y="5761080"/>
            <a:chExt cx="2541600" cy="517680"/>
          </a:xfrm>
        </p:grpSpPr>
        <p:grpSp>
          <p:nvGrpSpPr>
            <p:cNvPr id="143" name=""/>
            <p:cNvGrpSpPr/>
            <p:nvPr/>
          </p:nvGrpSpPr>
          <p:grpSpPr>
            <a:xfrm>
              <a:off x="682560" y="5761080"/>
              <a:ext cx="2541600" cy="276480"/>
              <a:chOff x="682560" y="5761080"/>
              <a:chExt cx="2541600" cy="276480"/>
            </a:xfrm>
          </p:grpSpPr>
          <p:sp>
            <p:nvSpPr>
              <p:cNvPr id="144" name=""/>
              <p:cNvSpPr/>
              <p:nvPr/>
            </p:nvSpPr>
            <p:spPr>
              <a:xfrm>
                <a:off x="682560" y="5829480"/>
                <a:ext cx="317520" cy="150840"/>
              </a:xfrm>
              <a:prstGeom prst="rect">
                <a:avLst/>
              </a:prstGeom>
              <a:solidFill>
                <a:srgbClr val="008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09800" y="5761080"/>
                <a:ext cx="2214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Directional 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695520" y="6002280"/>
              <a:ext cx="2210760" cy="276480"/>
              <a:chOff x="695520" y="6002280"/>
              <a:chExt cx="2210760" cy="276480"/>
            </a:xfrm>
          </p:grpSpPr>
          <p:sp>
            <p:nvSpPr>
              <p:cNvPr id="147" name=""/>
              <p:cNvSpPr/>
              <p:nvPr/>
            </p:nvSpPr>
            <p:spPr>
              <a:xfrm>
                <a:off x="695520" y="6070320"/>
                <a:ext cx="317160" cy="1508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022400" y="6002280"/>
                <a:ext cx="1883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- Omni Antenna CP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9" name=""/>
          <p:cNvSpPr/>
          <p:nvPr/>
        </p:nvSpPr>
        <p:spPr>
          <a:xfrm>
            <a:off x="5197320" y="5456160"/>
            <a:ext cx="20923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h Throughput (D/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2 / .870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470 / .213 Mbp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500720" y="1905120"/>
            <a:ext cx="139680" cy="349200"/>
          </a:xfrm>
          <a:prstGeom prst="can">
            <a:avLst>
              <a:gd name="adj" fmla="val 12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57440" y="5481720"/>
            <a:ext cx="16797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LOS Cove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 k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13520" y="1428840"/>
            <a:ext cx="183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mit Antennas (52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659480" y="1552320"/>
            <a:ext cx="58572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20680" y="2228760"/>
            <a:ext cx="0" cy="2230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60560" y="222264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41480" y="4114800"/>
            <a:ext cx="187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58880" y="4440240"/>
            <a:ext cx="148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criber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359DE-224A-4D37-847E-1B3499A7B78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OFDM Benefits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7800" y="1277640"/>
            <a:ext cx="777240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Wide area NLOS cover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Spectrum Efficienc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Cellular reuse with limited number of channel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High capacity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Lan-like access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3A453-5A1F-442A-A5E3-9F86C1A5935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7800" y="658800"/>
            <a:ext cx="7772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Arial Black"/>
              </a:rPr>
              <a:t>Wide-Area Coverage</a:t>
            </a:r>
            <a:endParaRPr b="0" lang="en-US" sz="3200" spc="-1" strike="noStrike">
              <a:solidFill>
                <a:srgbClr val="3366cc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77440" y="1277640"/>
            <a:ext cx="3568680" cy="49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mall town/rural syste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0 dBi omni base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13 dBi subscriber antenna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99"/>
              </a:spcBef>
              <a:buClr>
                <a:srgbClr val="990000"/>
              </a:buClr>
              <a:buSzPct val="75000"/>
              <a:buFont typeface="Monotype Sort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Measured link margin for QPSK OFDM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Yellow             &gt;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Red             15 to 21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Light blue   10 to 15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990000"/>
              </a:buClr>
              <a:buSzPct val="75000"/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Green            5 to 10 d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398840" y="1697040"/>
            <a:ext cx="3841920" cy="406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E5A38-D436-4F0B-8511-622D75A9224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03T13:51:25Z</dcterms:created>
  <dc:creator>Eric Dunn</dc:creator>
  <dc:description>Presented at WCA 2002 conference, Jan 2002, San Jose, California</dc:description>
  <dc:language>en-US</dc:language>
  <cp:lastModifiedBy>Property of</cp:lastModifiedBy>
  <cp:lastPrinted>1999-10-14T16:22:24Z</cp:lastPrinted>
  <dcterms:modified xsi:type="dcterms:W3CDTF">2002-02-14T22:00:10Z</dcterms:modified>
  <cp:revision>439</cp:revision>
  <dc:subject/>
  <dc:title>Advantages of OFDM for Mixed Service Second Generation NLOS Broadband Wireless Access</dc:title>
</cp:coreProperties>
</file>