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294813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D231-E51B-4FE7-A976-FF547078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2F0D-3677-4D8C-B514-75EE22CC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B17-E6AC-4A13-8CF2-CF888CD8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CEB-457E-41A1-BC96-1CFBF160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591F-D539-4DEE-B8F0-44D23099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EC5D-E306-4436-B37D-4EDDEF38C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BAF3B-C70F-4685-BB33-3FB93D497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A1D31-9FC2-42D9-AE1B-1E5C4EB28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36089-D5E5-4C3A-8216-B1F451FF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4A92-907B-4381-BF43-BF214FEEA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5EE4F-69D2-470B-B43D-FB0410B3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B150-749D-4418-A94E-779AF810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E51EF-2F08-4DED-86EC-CE221AA4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2A4F9-627E-4E9F-B3BB-533A7C5D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754EA-7803-4868-912E-F60FA717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6706-D540-4B22-AD8E-48D6B2E7D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4AA0B-62E6-4251-846A-DEDE71927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D3C6-8D5D-4A13-8F91-A2FF2C981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D99B-8C7F-4360-B4E5-CD9CE92A8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79D2D-A491-4F19-ACFA-F117DF35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C43-8FE1-4E9F-9FF9-DB5852558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4692-8DA3-43D1-A310-30FC2B7B1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CF90-3E87-4E16-8A51-09E8C33D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D386-A441-4425-A911-79FF57E6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3E2A-25F6-4359-8C40-3DCE5E34C1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3a2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d5cf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d5cf7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73a2ff"/>
                </a:gs>
                <a:gs pos="100000">
                  <a:srgbClr val="354a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73a2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33BA-C973-420E-B4F2-7B2479096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828800" y="575640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1523880"/>
            <a:ext cx="755496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f0165"/>
                </a:solidFill>
                <a:latin typeface="Arial"/>
              </a:rPr>
              <a:t>Ricochet –</a:t>
            </a:r>
            <a:r>
              <a:rPr b="0" lang="en-US" sz="4000" spc="-1" strike="noStrike">
                <a:solidFill>
                  <a:srgbClr val="0f016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f0165"/>
                </a:solidFill>
                <a:latin typeface="Arial"/>
              </a:rPr>
              <a:t>Autopsy of a Wireless Carr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495680" y="5791320"/>
            <a:ext cx="4648320" cy="10666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2767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Did It Happen &amp; How to Avoid the Same Resul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0" y="5029200"/>
          <a:ext cx="281952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5029200"/>
                    <a:ext cx="281952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of the Road to Succ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Be Paranoid, but Understand Competitive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derstand the Difference between Evolutionary &amp; Disruptive Technolog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fine &amp; Deploy a Compelling Price Value Relationsh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rget Segment - Mobile Subscriber vs SME &amp; DSL Consumer Market Segmen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Build Distribution from the Bottom U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CI vs Small to Medium Regional/Local ISPs, SIs &amp; NSPs/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) Don’t Scale Deployment Without: Tested Operations &amp; Distribution Mode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Burn Rates &amp; Low Subscriber Add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) The Availability of Capital is not Endur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nimize Burn Rates until Growth Takes O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4382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d4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Rules (Continued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) Focus On One Thing at a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reless Carrier vs Technology Developmen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) Hire the Best Employees You Can Afford &amp; Liste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alter the laws of Physic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rint – 40+ Markets - $5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ochet – 40+ Markets 1.3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) Watch Out for Economic Cyc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’t Change Them &amp; They Can Hurt You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9) Be agile – If Its Not Working – CHANGE 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-evaluate your Business Model Early &amp; Often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9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 Willing to Chang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) Go Back to Rule # 4 – LIVE BY IT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6400800"/>
            <a:ext cx="25909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3T21:10:11Z</dcterms:created>
  <dc:creator>IT Support</dc:creator>
  <dc:description/>
  <dc:language>en-US</dc:language>
  <cp:lastModifiedBy>Lee Gopadze</cp:lastModifiedBy>
  <dcterms:modified xsi:type="dcterms:W3CDTF">2002-02-08T16:09:59Z</dcterms:modified>
  <cp:revision>336</cp:revision>
  <dc:subject/>
  <dc:title>PowerPoint Presentation</dc:title>
</cp:coreProperties>
</file>