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249-8CE6-4E96-AD35-4D7FA8A8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A2B8-1C85-44C0-BB93-B1FF6880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CB8D-1195-481B-9F72-E12F02D9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B575-26E4-48DE-B27A-3ED5F9AD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15AD-E5E7-4E63-89F2-CA6895ED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8E94-D18B-4623-910D-B5D1DCE7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7420-9D6F-4825-9253-CD3D5830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E0FD-DBD5-4FFE-BD67-71751087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4E2B-0761-4D64-9B3D-1DFC0252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F5C7-232C-4726-B67E-BBBE7E52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18AC-DFBC-4C62-A1D6-B8949A40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3A6B-38FD-42ED-9738-42B81AD1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E3FF-26EA-43E1-9EB3-B23D79B8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60AC-49A5-4E21-B393-9EAAB7F2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50DA-6CFC-4988-AC1E-A9AEA7D5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E65D-4CD3-4E1B-8A50-510ACB18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D814-FCFC-41F1-A27B-A2EDBEF9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3A9F-6E16-4356-A479-61673983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38C-CC3F-42B8-AD81-81008141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169C-337B-443E-94B5-4536E7E4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5D4-D021-4A0B-A266-580BAEBB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C2D-1A4C-4469-9993-BAE5C114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8429-DE71-4651-81AC-6D58A187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2F7A-B2D0-4CB6-B05E-C3B2819A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6058080" y="6400800"/>
            <a:ext cx="308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8737-8B4A-46AF-9B95-F630BCEACF6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9D7B-88CC-470C-A347-E513E80CED74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Next Generation WLAN Cli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ram Solom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ce Presid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anced Communications Product Gro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CTEL, In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DR / SR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38080" y="2819520"/>
            <a:ext cx="3353040" cy="3352680"/>
            <a:chOff x="838080" y="2819520"/>
            <a:chExt cx="3353040" cy="3352680"/>
          </a:xfrm>
        </p:grpSpPr>
        <p:sp>
          <p:nvSpPr>
            <p:cNvPr id="364" name=""/>
            <p:cNvSpPr/>
            <p:nvPr/>
          </p:nvSpPr>
          <p:spPr>
            <a:xfrm>
              <a:off x="83808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0936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93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8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36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93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0936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93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936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093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808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36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093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808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0936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093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936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093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36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093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936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93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936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93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808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36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093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08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936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93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2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6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6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0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5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7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2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2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6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6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07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07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5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9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9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2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2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6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6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0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0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5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5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3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7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7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6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6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7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07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9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9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4856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485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4856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85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856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485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856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485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4856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485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4856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485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856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85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4856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485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4856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485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4856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485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4856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85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4856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485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0936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93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0936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3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936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093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936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093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808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936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3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0936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093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936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093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0936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3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35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35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2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63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63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0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0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49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49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1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91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34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34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4856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485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4856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485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4856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85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856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485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4856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485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4856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85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4856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485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4856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485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35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35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7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7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2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2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63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63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0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0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91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91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34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34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8064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8064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9448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05520" y="2819520"/>
            <a:ext cx="3352680" cy="3352680"/>
            <a:chOff x="5105520" y="2819520"/>
            <a:chExt cx="3352680" cy="3352680"/>
          </a:xfrm>
        </p:grpSpPr>
        <p:sp>
          <p:nvSpPr>
            <p:cNvPr id="548" name=""/>
            <p:cNvSpPr/>
            <p:nvPr/>
          </p:nvSpPr>
          <p:spPr>
            <a:xfrm>
              <a:off x="510552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906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7680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7680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0552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7680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7680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552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7680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7680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0552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680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7680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0552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7680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7680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0552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7680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7680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0552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7680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7680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7680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7680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7680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7680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552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7680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7680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0552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7680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7680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0552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7680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7680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906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3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3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7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7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1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1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6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6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0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0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4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4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8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8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3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3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7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7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17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17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6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6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906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06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3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3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7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7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1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1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6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6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0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0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4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4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8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8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3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3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7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7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17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17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6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6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1564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1564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1564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1564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1564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1564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1564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1564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1564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1564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1564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1564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1564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1564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1564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1564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1564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1564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1564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1564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1564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1564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1564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1564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0552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7680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7680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552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7680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7680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0552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7680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7680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0552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7680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7680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0552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7680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7680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0552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7680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7680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0552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7680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7680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0552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7680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7680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0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0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45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45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8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8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3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3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734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734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1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1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588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88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1014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014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1564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1564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564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1564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1564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31564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1564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31564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1564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31564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1564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31564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1564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1564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1564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1564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0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45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45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8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8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3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6734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734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1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1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588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588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014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014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4808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4808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6192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2743200" y="4343400"/>
            <a:ext cx="990720" cy="1295280"/>
          </a:xfrm>
          <a:prstGeom prst="rect">
            <a:avLst/>
          </a:prstGeom>
          <a:solidFill>
            <a:srgbClr val="ff995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aseb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4343400"/>
            <a:ext cx="990360" cy="1295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IS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3581280"/>
            <a:ext cx="2286000" cy="457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042280" y="3032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688720" y="3048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io Front E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7200" y="40989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4 – 5.8 G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3886200"/>
            <a:ext cx="762120" cy="1143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947200" y="463248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8 – 5.8 GHz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83760" y="23623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DR - 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57960" y="61722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R – IF / B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4038120" y="32763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 rot="16200000">
            <a:off x="4038120" y="53337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5960 h 304920"/>
              <a:gd name="textAreaBottom" fmla="*/ 2286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licensed Bands, Interfer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“unlicensed bands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CC’s NPRM 99-23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urces of Inter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technolog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an be d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al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le baseband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r Experi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can channel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SI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P Addres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patibilit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P+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matic service discovery / smart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d to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l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j0315559" descr=""/>
          <p:cNvPicPr/>
          <p:nvPr/>
        </p:nvPicPr>
        <p:blipFill>
          <a:blip r:embed="rId1"/>
          <a:stretch/>
        </p:blipFill>
        <p:spPr>
          <a:xfrm>
            <a:off x="5105520" y="21906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ble standar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ulti-mode teleph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mple ope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ing bands (a, b, 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multiple environ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2428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lti-mode,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covery &amp;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91440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2428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114800" y="220968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liferating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802.11e, f, h, i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72428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pgradeable (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ftware, less hardwa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owing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roved sig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sing, 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lic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72428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amless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erience, zero confi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28195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8600" y="380988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480060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8600" y="57913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aming – cellular /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mless user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cost of deployment / TCO – enterpr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band RF front end (1.8GHz to 5.9GHz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 Defined 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962520" y="2057400"/>
                <a:ext cx="109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3506760" y="4191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e = Mon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81760" y="495288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owledge = Pow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975120" y="3124080"/>
                <a:ext cx="10666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781360" y="5562720"/>
                <a:ext cx="34290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ne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owled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509480" y="2286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5320" y="3352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5320" y="4191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532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5320" y="5829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do marketers make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money than enginee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Generation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Frequencies, PHY, and 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Security, QoS, Upgrade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Unlicensed bands and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User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WLA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C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bility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ting W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ail, 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vice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i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aml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y / Priva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438280" y="1981080"/>
          <a:ext cx="655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655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191120" y="649116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Source: In-Stat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Value to the different buy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066680" y="2133720"/>
          <a:ext cx="7772400" cy="4314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User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verage / Mo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IT Manager (Buy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wer TC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ture Standard Guarante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opera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cur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C OEM (Direct Custom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sign-in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Cost of Ownershi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port Level Requi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sumer (non-Enterprise Us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ference I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02.11 Family of Standar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447920"/>
            <a:ext cx="1066680" cy="51051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ra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-2 Mbps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H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1447920"/>
            <a:ext cx="6248520" cy="1295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ove 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2743200"/>
            <a:ext cx="624852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 Layer (applies to all PH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4038480"/>
            <a:ext cx="6248520" cy="1295640"/>
          </a:xfrm>
          <a:prstGeom prst="rect">
            <a:avLst/>
          </a:prstGeom>
          <a:solidFill>
            <a:srgbClr val="ff9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5334120"/>
            <a:ext cx="6248520" cy="1295280"/>
          </a:xfrm>
          <a:prstGeom prst="rect">
            <a:avLst/>
          </a:pr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19051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12408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44197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571500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17524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APP - Acces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Roam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ula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4120" y="3048120"/>
            <a:ext cx="144756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5.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exist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Mbps CC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1500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Mbps PBCC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6386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4Mbps 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294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perLAN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17524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943240" y="4724280"/>
            <a:ext cx="11430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943240" y="47239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4191120"/>
            <a:ext cx="6095880" cy="2590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7698240" y="51804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requencies, PHY, and 802.11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“hot-spo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low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consum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20 log(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ferenc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943600" y="4724280"/>
            <a:ext cx="2895480" cy="1752840"/>
            <a:chOff x="5943600" y="4724280"/>
            <a:chExt cx="2895480" cy="1752840"/>
          </a:xfrm>
        </p:grpSpPr>
        <p:sp>
          <p:nvSpPr>
            <p:cNvPr id="340" name=""/>
            <p:cNvSpPr/>
            <p:nvPr/>
          </p:nvSpPr>
          <p:spPr>
            <a:xfrm>
              <a:off x="5943600" y="4724280"/>
              <a:ext cx="2895480" cy="1752840"/>
            </a:xfrm>
            <a:prstGeom prst="ellipse">
              <a:avLst/>
            </a:prstGeom>
            <a:solidFill>
              <a:srgbClr val="ffc8a3"/>
            </a:solidFill>
            <a:ln w="9360">
              <a:solidFill>
                <a:srgbClr val="ffc8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952880"/>
              <a:ext cx="1219320" cy="609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terpris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00800" y="5715000"/>
              <a:ext cx="1218960" cy="6094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iden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43800" y="5334120"/>
              <a:ext cx="1218960" cy="6094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ot Spo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23520" y="2146320"/>
            <a:ext cx="2751480" cy="2502720"/>
            <a:chOff x="6023520" y="2146320"/>
            <a:chExt cx="2751480" cy="2502720"/>
          </a:xfrm>
        </p:grpSpPr>
        <p:sp>
          <p:nvSpPr>
            <p:cNvPr id="345" name=""/>
            <p:cNvSpPr/>
            <p:nvPr/>
          </p:nvSpPr>
          <p:spPr>
            <a:xfrm>
              <a:off x="6248520" y="4311720"/>
              <a:ext cx="24382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248520" y="2482920"/>
              <a:ext cx="0" cy="1828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8520" y="2787840"/>
              <a:ext cx="990360" cy="1523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3778560"/>
              <a:ext cx="2057400" cy="5331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8520" y="2711520"/>
              <a:ext cx="838080" cy="121932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86600" y="3930840"/>
              <a:ext cx="1371600" cy="38088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50520" y="389916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802.11b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26280" y="255924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802.11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347364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53"/>
                  </a:solidFill>
                  <a:latin typeface="Arial"/>
                </a:rPr>
                <a:t>Dual Mod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23520" y="2146320"/>
              <a:ext cx="13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hroughpu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431172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ulti-Mode Cli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 environment – cover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er risk of standard uncertai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 discovery / smar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 / b / g (baseband/a, radio/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ward compatibility – Wi-F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ISS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ecurity, QoS, Upgradeabil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i –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P, WEP2, A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e – Quality of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media / conver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evolution is an adoption inhibitor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ware vs.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ility vs. C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ore’s la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0:42:06Z</dcterms:created>
  <dc:creator>Yoram Solomon</dc:creator>
  <dc:description/>
  <dc:language>en-US</dc:language>
  <cp:lastModifiedBy>Yoram Solomon</cp:lastModifiedBy>
  <dcterms:modified xsi:type="dcterms:W3CDTF">2002-02-12T23:49:28Z</dcterms:modified>
  <cp:revision>56</cp:revision>
  <dc:subject/>
  <dc:title>PowerPoint Presentation</dc:title>
</cp:coreProperties>
</file>