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32.png" ContentType="image/png"/>
  <Override PartName="/ppt/media/image35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8.wmf" ContentType="image/x-wmf"/>
  <Override PartName="/ppt/media/image33.jpeg" ContentType="image/jpeg"/>
  <Override PartName="/ppt/media/image5.wmf" ContentType="image/x-wmf"/>
  <Override PartName="/ppt/media/image38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E923-259B-4FBD-B9C4-0D35A341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B50A-DF81-4CE4-AE17-036404B8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F37B-E7E6-4D5B-9428-16A09FAC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2611-BC57-4FBF-AB8A-7EAA5035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09CD-30E8-404A-9FE8-6484F551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F407-4CD1-4523-A0A4-E02AC34C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D74F-0604-4DDC-A035-5BA93ED4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37F4-4795-4ABD-9C07-1DEEA523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6313-14D6-4F63-BD07-A2D1850A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A3CB-19F1-446F-9859-3A99F147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68D7-FBE4-48A8-87C5-E7E520CB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36AA-F791-4B70-B260-05B263BB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3FFE-C76D-44DA-B432-F67FD53F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8A15-B5EB-4763-9D76-C6F49119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60F3-2541-41DC-80E0-E5F790D2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30E8-934B-476F-816F-92753BFC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521F-367A-4148-98E9-F2329508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29D2-513B-4EE4-AC07-D83224C6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36A0-CD7E-4349-A9D8-FC4D929E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872C-D1F7-4470-99C1-CCD68488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878B-4BBB-485F-8353-2BE821E3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0730-A179-4CCC-8F94-A3B51FF0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342F-C934-4999-BD78-032ED7E8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6080-4ABA-4FC0-B36E-EC6FBDE3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22EA-3204-4633-A1B9-0177779E4A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7E44-4893-4478-AB9A-4B4A1A5141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er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idang Aplikasi E-Com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523880"/>
          <a:ext cx="8686800" cy="53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686800" cy="53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luang &amp; Kendala E-C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828800"/>
          <a:ext cx="9144000" cy="48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Commerce Teori-nya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fitas di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tualisasi Pengembangan Wilaya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s. Business - Custom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s. Business - Busin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2057400"/>
          <a:ext cx="91440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7400"/>
                    <a:ext cx="9144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 (EDI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ksi text based melalui jaring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standard dengan berbagai instans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v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ja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unci adalah database &amp; software EDI transla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 Whom EDI Can Be Used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king / fund transfer / credit / debit trans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; Legal 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rline / ticketing; Shipping / car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nder / contract; Purchase order; Invo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ob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a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x; Reinsur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cost to move to ED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chase EDI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act with a VAN service provider (or Interne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the data analysis needed to map information from their application systems into the EDI standard form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the programming required to create a file that can interface with EDI translation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base dibalik Web 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ntangan Selanjutnya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aborative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ion L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1371600"/>
            <a:ext cx="4648320" cy="2971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.2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/EDIFA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724280" y="228600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4495680"/>
            <a:ext cx="99036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019920" y="2286000"/>
            <a:ext cx="1218960" cy="10666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4876920"/>
            <a:ext cx="1219320" cy="1218960"/>
          </a:xfrm>
          <a:prstGeom prst="diamond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6477120" y="4419720"/>
            <a:ext cx="99036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of EDI Mess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 Teori-nya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of EDI Mess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521080" y="2139840"/>
            <a:ext cx="6540480" cy="3568680"/>
          </a:xfrm>
          <a:custGeom>
            <a:avLst/>
            <a:gdLst>
              <a:gd name="textAreaLeft" fmla="*/ 360 w 6540480"/>
              <a:gd name="textAreaRight" fmla="*/ 6541200 w 6540480"/>
              <a:gd name="textAreaTop" fmla="*/ 0 h 3568680"/>
              <a:gd name="textAreaBottom" fmla="*/ 3569040 h 356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CII Text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E-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Protect, 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ing PGP, PEM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 flipH="1" rot="10800000">
            <a:off x="767160" y="3663720"/>
            <a:ext cx="6769080" cy="250164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2520 h 2501640"/>
              <a:gd name="textAreaBottom" fmla="*/ 1998000 h 2501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 The User to Connect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N &amp; 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4121280" y="1682640"/>
            <a:ext cx="4940280" cy="2425680"/>
          </a:xfrm>
          <a:custGeom>
            <a:avLst/>
            <a:gdLst>
              <a:gd name="textAreaLeft" fmla="*/ 182880 w 4940280"/>
              <a:gd name="textAreaRight" fmla="*/ 4757400 w 49402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rewall To Prot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 flipH="1" rot="10800000">
            <a:off x="4730760" y="3359160"/>
            <a:ext cx="4330800" cy="2882880"/>
          </a:xfrm>
          <a:custGeom>
            <a:avLst/>
            <a:gdLst>
              <a:gd name="textAreaLeft" fmla="*/ 160200 w 4330800"/>
              <a:gd name="textAreaRight" fmla="*/ 4170600 w 4330800"/>
              <a:gd name="textAreaTop" fmla="*/ 106560 h 2882880"/>
              <a:gd name="textAreaBottom" fmla="*/ 2302560 h 2882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unneling 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e Extra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Virtual VA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968640" y="3206880"/>
            <a:ext cx="5092920" cy="2730240"/>
          </a:xfrm>
          <a:custGeom>
            <a:avLst/>
            <a:gdLst>
              <a:gd name="textAreaLeft" fmla="*/ 188640 w 5092920"/>
              <a:gd name="textAreaRight" fmla="*/ 4904640 w 5092920"/>
              <a:gd name="textAreaTop" fmla="*/ 100800 h 2730240"/>
              <a:gd name="textAreaBottom" fmla="*/ 2180520 h 2730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GP / PEM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ed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actical 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 Houser, J. Griffin &amp; C. Hage, “Request for Comments: 1865: EDI Meets the Internet - Frequently Asked Questions about Electronic Data Interchange (EDI) on the Internet”, January 199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suk ke Internet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rvey Potens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&amp; Profile Us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419360" y="2666520"/>
            <a:ext cx="46479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ffic Web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vey User Pro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079640" y="1994040"/>
          <a:ext cx="3014640" cy="37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994040"/>
                    <a:ext cx="301464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Traffic Web Indone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0-80% traffic datangnya dari / ke Indones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est informasi Web yang agak banyak datangnya dar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com di Amerika Seri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edu di Amerika Seri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sg di Singap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ar traffic Web  harian mencapai 80-100Mby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Perdagang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ga Bersa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tu Tingg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tepatan Waktu sampai ke Pas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Profile User Hasil Sebuah Stud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rakteritik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ference and Perce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Sources &amp; Distribution Chan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du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842080" y="2454120"/>
          <a:ext cx="3089160" cy="430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080" y="2454120"/>
                    <a:ext cx="3089160" cy="43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mum Well Educated .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kar menemukan User Internet yang hanya berpendidikan SD :-)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 dominasi oleh P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umnya single atau tidak punya ana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umnya Antara 25-35 Tah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sih Relatif Mu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co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Amerika Serik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ta-rata US$ 65.000 per tah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Erop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ta-rata US$ 42.000 per tah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197320" y="4648320"/>
          <a:ext cx="3616560" cy="20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7320" y="4648320"/>
                    <a:ext cx="3616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149400" y="4560840"/>
          <a:ext cx="517824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400" y="4560840"/>
                    <a:ext cx="517824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ipe Perusahaan Yang Akan di Untungk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lam Waktu Dek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erusahaan Kec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&lt;100 Pegawa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unci Keberhasi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6512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reativ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ustomizabil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nvenien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000760" y="2097000"/>
          <a:ext cx="3706560" cy="33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760" y="2097000"/>
                    <a:ext cx="3706560" cy="33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n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otal Customer Satisfa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Umum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Umu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 a competitive analysis and remember content is 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name of the game is the dom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n't waste your time, do a timel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spond, respond, respo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o on the circu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Offensive di Lapang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ada Indonesia Technology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disional vs Elektroni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lit promosi &amp; akses pas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timpangan persaingan dag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per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konomi biaya tinggi &amp; birokra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edu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ar kurang kompetit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kses pasar mud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ilaian indepen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siasi &amp; penawaran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mudahan permintaan produk bar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ur informasi transpar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yanan interakt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nada Indonesia TechNet (CITN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ower SMEs (Small Medium Enterpri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ucation, Research, NGO, Gov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adian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tn-ctn@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tnjkt@ibm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TN - CTN Mapp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19320" y="1486080"/>
          <a:ext cx="7086600" cy="53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86080"/>
                    <a:ext cx="7086600" cy="53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ng-cilik@isnet.itb.ac.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man, RCTI, Bank, Dept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ng-cilik mapp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990720" y="1165320"/>
          <a:ext cx="8153280" cy="61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65320"/>
                    <a:ext cx="8153280" cy="61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AN Agriculture W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riculture@apan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Knowledge on Agricul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pporting Techn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und Card Packet Rad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00-9600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+ Sound Card +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home.pages.de/~flexnet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TT FlexNet via Seri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7" name="ptt_ser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53452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ycom Packet Rad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33520" y="1752480"/>
          <a:ext cx="8610480" cy="46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61048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-3240" y="-3240"/>
          <a:ext cx="9074160" cy="678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881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ADI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ADIO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ed Web Ac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3.6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Windows / Linux / FreeBSD +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 Shared Web Ac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0" y="2514600"/>
          <a:ext cx="8839080" cy="27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883908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tual Ho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3.6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Windows / Linux / FreeBSD +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g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i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tual Ho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04920" y="1600200"/>
          <a:ext cx="883908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83908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veLAN CDM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-10 km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in Router + Ethernet conne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hydra.carleton.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veLAN (CDM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0" y="1774800"/>
          <a:ext cx="9144000" cy="50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4800"/>
                    <a:ext cx="914400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81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ational Tr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62120" y="1504800"/>
          <a:ext cx="8076960" cy="5353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04800"/>
                    <a:ext cx="8076960" cy="5353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mateur Packet Satelli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FOTO-13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FOT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Telepho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Telepho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0" name="ipfax_white1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Call Wai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2" name="ipfax_white3" descr=""/>
          <p:cNvPicPr/>
          <p:nvPr/>
        </p:nvPicPr>
        <p:blipFill>
          <a:blip r:embed="rId1"/>
          <a:stretch/>
        </p:blipFill>
        <p:spPr>
          <a:xfrm>
            <a:off x="380880" y="1625760"/>
            <a:ext cx="845820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4" name="ip5_dialer" descr=""/>
          <p:cNvPicPr/>
          <p:nvPr/>
        </p:nvPicPr>
        <p:blipFill>
          <a:blip r:embed="rId1"/>
          <a:stretch/>
        </p:blipFill>
        <p:spPr>
          <a:xfrm>
            <a:off x="6006960" y="0"/>
            <a:ext cx="31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erce Glob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66680" y="1674720"/>
          <a:ext cx="731520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4720"/>
                    <a:ext cx="7315200" cy="5183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7e988b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deo Confere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6" name="ip5_scrnphone" descr=""/>
          <p:cNvPicPr/>
          <p:nvPr/>
        </p:nvPicPr>
        <p:blipFill>
          <a:blip r:embed="rId1"/>
          <a:stretch/>
        </p:blipFill>
        <p:spPr>
          <a:xfrm>
            <a:off x="5857920" y="0"/>
            <a:ext cx="328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onseptualisasi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3892680" y="1911240"/>
            <a:ext cx="5168880" cy="341640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126360 h 3416400"/>
              <a:gd name="textAreaBottom" fmla="*/ 2728440 h 3416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mbangunan Bertum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da Gerakan 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 Koperasi-Koper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1758960" y="2063880"/>
            <a:ext cx="6921360" cy="3568680"/>
          </a:xfrm>
          <a:custGeom>
            <a:avLst/>
            <a:gdLst>
              <a:gd name="textAreaLeft" fmla="*/ 256320 w 6921360"/>
              <a:gd name="textAreaRight" fmla="*/ 6665040 w 6921360"/>
              <a:gd name="textAreaTop" fmla="*/ 132120 h 3568680"/>
              <a:gd name="textAreaBottom" fmla="*/ 2850120 h 3568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danya Sistem Inform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mudahkan Interl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tar Koper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4425840" y="387360"/>
            <a:ext cx="4635720" cy="3645000"/>
          </a:xfrm>
          <a:custGeom>
            <a:avLst/>
            <a:gdLst>
              <a:gd name="textAreaLeft" fmla="*/ 171360 w 4635720"/>
              <a:gd name="textAreaRight" fmla="*/ 4464360 w 4635720"/>
              <a:gd name="textAreaTop" fmla="*/ 135000 h 3645000"/>
              <a:gd name="textAreaBottom" fmla="*/ 2910960 h 3645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raksi Den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stem Di Atasny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njadi lebih mud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1835280" y="6480"/>
            <a:ext cx="6769080" cy="25779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5400 h 2577960"/>
              <a:gd name="textAreaBottom" fmla="*/ 2058840 h 25779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Ekonomi Nas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3892680" y="6480"/>
            <a:ext cx="5168880" cy="265428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98280 h 2654280"/>
              <a:gd name="textAreaBottom" fmla="*/ 2119680 h 26542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ographics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 flipH="1">
            <a:off x="81720" y="6480"/>
            <a:ext cx="6769080" cy="242568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and Information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 rot="16200000">
            <a:off x="-69480" y="2825280"/>
            <a:ext cx="2501640" cy="2349360"/>
          </a:xfrm>
          <a:prstGeom prst="rightArrow">
            <a:avLst>
              <a:gd name="adj1" fmla="val 50000"/>
              <a:gd name="adj2" fmla="val 53245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368440" y="1378080"/>
            <a:ext cx="6693120" cy="5244840"/>
          </a:xfrm>
          <a:custGeom>
            <a:avLst/>
            <a:gdLst>
              <a:gd name="textAreaLeft" fmla="*/ 360 w 6693120"/>
              <a:gd name="textAreaRight" fmla="*/ 6693840 w 6693120"/>
              <a:gd name="textAreaTop" fmla="*/ 0 h 5244840"/>
              <a:gd name="textAreaBottom" fmla="*/ 5245200 h 524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si Tingkat Bunga Yang A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ilaku Masyarakat Dal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nggunaan Sumber Daya Lok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okasi Dana Tingkat Kelu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y Pola Invest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ase Inovasi E-Commer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ation: penghematan biay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sion:peningkatan performan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: nilai tambah ba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2133720"/>
          <a:ext cx="7084800" cy="52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0848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 flipH="1" rot="16200000">
            <a:off x="-546840" y="2844720"/>
            <a:ext cx="3492360" cy="2311560"/>
          </a:xfrm>
          <a:prstGeom prst="rightArrow">
            <a:avLst>
              <a:gd name="adj1" fmla="val 50000"/>
              <a:gd name="adj2" fmla="val 75548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521080" y="463680"/>
            <a:ext cx="6387840" cy="6311880"/>
          </a:xfrm>
          <a:custGeom>
            <a:avLst/>
            <a:gdLst>
              <a:gd name="textAreaLeft" fmla="*/ 360 w 6387840"/>
              <a:gd name="textAreaRight" fmla="*/ 6388560 w 6387840"/>
              <a:gd name="textAreaTop" fmla="*/ 0 h 6311880"/>
              <a:gd name="textAreaBottom" fmla="*/ 6312240 h 631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sar Komodi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si &amp; Peratur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knologi Tepat Gu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kwa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formasi Management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gan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e Patte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 Net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Empower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and Cre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Technology Supp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9T09:48:31Z</dcterms:created>
  <dc:creator>Onno W. Purbo</dc:creator>
  <dc:description/>
  <dc:language>en-US</dc:language>
  <cp:lastModifiedBy>Onno W. Purbo</cp:lastModifiedBy>
  <dcterms:modified xsi:type="dcterms:W3CDTF">1999-06-29T02:23:48Z</dcterms:modified>
  <cp:revision>24</cp:revision>
  <dc:subject/>
  <dc:title>No Slide Title</dc:title>
</cp:coreProperties>
</file>