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6E20C1-7328-4CBC-90A4-A15C2C37D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38C6B-3C83-4F95-BF0A-F8C58356C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FF3AED6-ACC9-4E14-8B0A-280F7E8E6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19351D09-F388-4F43-85F5-55BA6E85F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52BF07E4-7F62-47D0-8B2B-532E1AFE5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CD32A-5FD0-476F-9AD0-EF18A790EA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4E1B02-88CA-4FB5-8E82-853C6B1F6B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328771-7BCC-4FF2-B0FA-F3290630A4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FE2C084E-AB31-4DC9-86B4-C9FDFC785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0F97F622-C946-4CFC-8B7D-B27DE360ED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39D16718-DDB8-43FB-8EEE-2D365E74C5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8635C99-753B-4741-AD9B-21F09993B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0DCA2F0-DB92-48B6-ACD9-E1DD016DDD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D50DB44-0817-4937-B14D-12E136136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F70CA890-D151-4B1C-AEC1-13A9144A7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D1C37869-0507-419A-8762-C634B84500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DAA79141-47E2-428C-890F-A2B40F09D9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A1FE7ACC-D1C4-4686-A354-D782741FA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69382AC-9395-4496-B92D-456639DF0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424B419-4536-4268-8275-5AD89DBA0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0C799B59-19B8-4533-884B-BF208E729A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E1AB155F-3B85-474F-B4D9-6635215DCD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6E30772-EE61-49A1-B0DA-C7F83C36B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5590349-A9BC-47F0-8D21-C5A4C36DE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BB8E0DA-7B72-4A82-A91D-F1D6739B4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E8C4-5369-44D1-A6EC-D9A8E9B879A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3B75-2E93-4BDE-AFAA-278CD2F2FCD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B097-6745-48B6-881F-3402FE8D28A7}" type="datetime3">
              <a:rPr b="0" lang="en-US" sz="2800" spc="-1" strike="noStrike">
                <a:solidFill>
                  <a:srgbClr val="ffffff"/>
                </a:solidFill>
                <a:latin typeface="Arial"/>
              </a:rPr>
              <a:t>July 29,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0F570C-537B-4488-BB96-F552A221532F}"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8AE6333-24CD-4DAD-BAA1-F8A6C6760B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4EECB830-992F-49D2-A526-F8E298182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B1848C2-5732-44C1-8F41-116A0AF8C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5ECB5C4-AAFB-4740-85F2-114D97431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5DF0AFE-18DC-4436-8FCB-9E14197A5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07730D4-AB0B-4EF3-9FDE-D9865A40E6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DC560B6-6AE4-4D41-AC9C-5D7774EA3D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CC13144-91AF-400E-9FD8-9AAF5E0B41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4E85765-264D-48DC-8590-0C69E6A350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6CB5C37-EF9F-45A6-86D1-B6A1991BA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FA1E856D-7C94-42EF-92E7-82993F958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F132BC8-304D-4FFC-9904-831727B42D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410B17D2-E6C6-4AE5-8CEA-C0BD64AC692B}"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593593C-37AE-42D4-A23A-896F29FBD3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D7DF0B73-1B1E-45BD-B420-1E0F5D34A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C4055052-F8B7-4096-B031-07B88EF7BA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4FA5689-6EEC-48C7-9CFA-51F9BE0856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C5C99C2-E6D6-4A47-9288-9E95B3017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B1674F0-5840-4AE2-B1B6-A66EEC9F8B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B788934-5E5D-43A9-BBB3-55BE8BB9A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