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42.png" ContentType="image/pn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1.jpeg" ContentType="image/jpeg"/>
  <Override PartName="/ppt/media/image28.jpeg" ContentType="image/jpeg"/>
  <Override PartName="/ppt/media/image51.jpeg" ContentType="image/jpeg"/>
  <Override PartName="/ppt/media/image20.png" ContentType="image/png"/>
  <Override PartName="/ppt/media/image36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14.jpeg" ContentType="image/jpeg"/>
  <Override PartName="/ppt/media/image1.png" ContentType="image/png"/>
  <Override PartName="/ppt/media/image9.jpeg" ContentType="image/jpeg"/>
  <Override PartName="/ppt/media/image1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33.jpeg" ContentType="image/jpeg"/>
  <Override PartName="/ppt/media/image37.jpeg" ContentType="image/jpeg"/>
  <Override PartName="/ppt/media/image50.png" ContentType="image/png"/>
  <Override PartName="/ppt/media/image13.png" ContentType="image/png"/>
  <Override PartName="/ppt/media/image35.jpeg" ContentType="image/jpeg"/>
  <Override PartName="/ppt/media/image40.jpeg" ContentType="image/jpeg"/>
  <Override PartName="/ppt/media/image44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41.png" ContentType="image/png"/>
  <Override PartName="/ppt/media/image48.jpeg" ContentType="image/jpeg"/>
  <Override PartName="/ppt/media/image49.jpeg" ContentType="image/jpeg"/>
  <Override PartName="/ppt/media/image32.jpeg" ContentType="image/jpeg"/>
  <Override PartName="/ppt/media/image30.jpeg" ContentType="image/jpeg"/>
  <Override PartName="/ppt/media/image34.jpeg" ContentType="image/jpeg"/>
  <Override PartName="/ppt/media/image7.png" ContentType="image/png"/>
  <Override PartName="/ppt/media/image19.jpeg" ContentType="image/jpeg"/>
  <Override PartName="/ppt/media/image31.jpeg" ContentType="image/jpeg"/>
  <Override PartName="/ppt/media/image10.wmf" ContentType="image/x-wmf"/>
  <Override PartName="/ppt/media/image2.png" ContentType="image/png"/>
  <Override PartName="/ppt/media/image25.jpeg" ContentType="image/jpeg"/>
  <Override PartName="/ppt/media/image6.png" ContentType="image/png"/>
  <Override PartName="/ppt/media/image5.png" ContentType="image/png"/>
  <Override PartName="/ppt/media/image43.jpeg" ContentType="image/jpeg"/>
  <Override PartName="/ppt/media/image29.jpeg" ContentType="image/jpeg"/>
  <Override PartName="/ppt/media/image5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AADE6-FB39-4B85-8DA9-1195595E5C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CE1E1-6922-48CE-8E3A-D22E27FD12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087F8-D1F7-40B2-ABBE-D930F1129D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1BEC2-2EA4-4AF7-8FAD-EE8372B84D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323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B0D66-1406-49E3-93B7-11CD85611C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BE43C-6768-478E-8CDA-ECF028EBB5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1605F-F9A5-4D10-ACB0-BFCEDD6A4D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C0B8D-FDEF-45B3-860A-505238743E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23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43CE9-B7B9-496A-A660-F6E16EAE63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B0B82-42D3-496B-B4CA-B4F727697C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F7A66-6A2D-48B5-8E62-FF9FF029C9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6A29A-8F95-4733-ADD4-B61C0804B3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3"/>
            <a:stretch/>
          </p:blipFill>
          <p:spPr>
            <a:xfrm>
              <a:off x="7543800" y="5943600"/>
              <a:ext cx="1295280" cy="703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685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543360"/>
            <a:ext cx="914400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B05A7-6BE2-48E2-82CB-F996D5FAE71C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440" y="5952960"/>
          <a:ext cx="914256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0" y="5952960"/>
                    <a:ext cx="91425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hyperlink" Target="http://www.3com.com/wireless" TargetMode="External"/><Relationship Id="rId5" Type="http://schemas.openxmlformats.org/officeDocument/2006/relationships/image" Target="../media/image13.png"/><Relationship Id="rId6" Type="http://schemas.openxmlformats.org/officeDocument/2006/relationships/hyperlink" Target="http://www.orinocowireless.com/" TargetMode="External"/><Relationship Id="rId7" Type="http://schemas.openxmlformats.org/officeDocument/2006/relationships/image" Target="../media/image14.jpeg"/><Relationship Id="rId8" Type="http://schemas.openxmlformats.org/officeDocument/2006/relationships/hyperlink" Target="http://www.alcatel.com/" TargetMode="External"/><Relationship Id="rId9" Type="http://schemas.openxmlformats.org/officeDocument/2006/relationships/image" Target="../media/image15.png"/><Relationship Id="rId10" Type="http://schemas.openxmlformats.org/officeDocument/2006/relationships/hyperlink" Target="http://www.alvarion.com/" TargetMode="External"/><Relationship Id="rId11" Type="http://schemas.openxmlformats.org/officeDocument/2006/relationships/image" Target="../media/image16.jpeg"/><Relationship Id="rId12" Type="http://schemas.openxmlformats.org/officeDocument/2006/relationships/hyperlink" Target="http://www.amd.com/" TargetMode="External"/><Relationship Id="rId13" Type="http://schemas.openxmlformats.org/officeDocument/2006/relationships/image" Target="../media/image17.jpeg"/><Relationship Id="rId14" Type="http://schemas.openxmlformats.org/officeDocument/2006/relationships/hyperlink" Target="http://www.apple.com/" TargetMode="External"/><Relationship Id="rId15" Type="http://schemas.openxmlformats.org/officeDocument/2006/relationships/image" Target="../media/image18.jpeg"/><Relationship Id="rId16" Type="http://schemas.openxmlformats.org/officeDocument/2006/relationships/hyperlink" Target="http://www.atheros.com/" TargetMode="External"/><Relationship Id="rId17" Type="http://schemas.openxmlformats.org/officeDocument/2006/relationships/image" Target="../media/image19.jpeg"/><Relationship Id="rId18" Type="http://schemas.openxmlformats.org/officeDocument/2006/relationships/hyperlink" Target="http://www.broadcom.com/" TargetMode="External"/><Relationship Id="rId19" Type="http://schemas.openxmlformats.org/officeDocument/2006/relationships/image" Target="../media/image20.png"/><Relationship Id="rId20" Type="http://schemas.openxmlformats.org/officeDocument/2006/relationships/hyperlink" Target="http://www.cirrus.com/wireless" TargetMode="External"/><Relationship Id="rId21" Type="http://schemas.openxmlformats.org/officeDocument/2006/relationships/image" Target="../media/image21.jpeg"/><Relationship Id="rId22" Type="http://schemas.openxmlformats.org/officeDocument/2006/relationships/hyperlink" Target="http://www.cisco.com/go/wireless_networking" TargetMode="External"/><Relationship Id="rId23" Type="http://schemas.openxmlformats.org/officeDocument/2006/relationships/image" Target="../media/image22.png"/><Relationship Id="rId24" Type="http://schemas.openxmlformats.org/officeDocument/2006/relationships/hyperlink" Target="http://www.compaq.com/products/wlan/index.html" TargetMode="External"/><Relationship Id="rId25" Type="http://schemas.openxmlformats.org/officeDocument/2006/relationships/image" Target="../media/image23.jpeg"/><Relationship Id="rId26" Type="http://schemas.openxmlformats.org/officeDocument/2006/relationships/hyperlink" Target="http://www.conexant.com/" TargetMode="External"/><Relationship Id="rId27" Type="http://schemas.openxmlformats.org/officeDocument/2006/relationships/image" Target="../media/image24.jpeg"/><Relationship Id="rId28" Type="http://schemas.openxmlformats.org/officeDocument/2006/relationships/hyperlink" Target="http://www.dlink.com/" TargetMode="External"/><Relationship Id="rId29" Type="http://schemas.openxmlformats.org/officeDocument/2006/relationships/image" Target="../media/image25.jpeg"/><Relationship Id="rId30" Type="http://schemas.openxmlformats.org/officeDocument/2006/relationships/hyperlink" Target="http://www.enterasys.com/wireless" TargetMode="External"/><Relationship Id="rId31" Type="http://schemas.openxmlformats.org/officeDocument/2006/relationships/image" Target="../media/image26.jpeg"/><Relationship Id="rId32" Type="http://schemas.openxmlformats.org/officeDocument/2006/relationships/hyperlink" Target="http://www.ericsson-webcom.com/" TargetMode="External"/><Relationship Id="rId33" Type="http://schemas.openxmlformats.org/officeDocument/2006/relationships/image" Target="../media/image27.jpeg"/><Relationship Id="rId34" Type="http://schemas.openxmlformats.org/officeDocument/2006/relationships/hyperlink" Target="http://www.fujitsu.com/" TargetMode="External"/><Relationship Id="rId35" Type="http://schemas.openxmlformats.org/officeDocument/2006/relationships/image" Target="../media/image28.jpeg"/><Relationship Id="rId36" Type="http://schemas.openxmlformats.org/officeDocument/2006/relationships/hyperlink" Target="http://www.hp.com/" TargetMode="External"/><Relationship Id="rId37" Type="http://schemas.openxmlformats.org/officeDocument/2006/relationships/image" Target="../media/image29.jpeg"/><Relationship Id="rId38" Type="http://schemas.openxmlformats.org/officeDocument/2006/relationships/hyperlink" Target="http://www.ibm.com/" TargetMode="External"/><Relationship Id="rId39" Type="http://schemas.openxmlformats.org/officeDocument/2006/relationships/image" Target="../media/image30.jpeg"/><Relationship Id="rId40" Type="http://schemas.openxmlformats.org/officeDocument/2006/relationships/hyperlink" Target="http://www.intel.com/" TargetMode="External"/><Relationship Id="rId41" Type="http://schemas.openxmlformats.org/officeDocument/2006/relationships/image" Target="../media/image31.jpeg"/><Relationship Id="rId42" Type="http://schemas.openxmlformats.org/officeDocument/2006/relationships/hyperlink" Target="http://www.intersil.com/design/prism/" TargetMode="External"/><Relationship Id="rId43" Type="http://schemas.openxmlformats.org/officeDocument/2006/relationships/image" Target="../media/image32.jpeg"/><Relationship Id="rId44" Type="http://schemas.openxmlformats.org/officeDocument/2006/relationships/hyperlink" Target="http://www.lgnetwork.com/" TargetMode="External"/><Relationship Id="rId45" Type="http://schemas.openxmlformats.org/officeDocument/2006/relationships/image" Target="../media/image33.jpeg"/><Relationship Id="rId46" Type="http://schemas.openxmlformats.org/officeDocument/2006/relationships/hyperlink" Target="http://www.linksys.com/" TargetMode="External"/><Relationship Id="rId47" Type="http://schemas.openxmlformats.org/officeDocument/2006/relationships/image" Target="../media/image34.jpeg"/><Relationship Id="rId48" Type="http://schemas.openxmlformats.org/officeDocument/2006/relationships/hyperlink" Target="http://www.lucent.com/" TargetMode="External"/><Relationship Id="rId49" Type="http://schemas.openxmlformats.org/officeDocument/2006/relationships/image" Target="../media/image35.jpeg"/><Relationship Id="rId50" Type="http://schemas.openxmlformats.org/officeDocument/2006/relationships/hyperlink" Target="http://www.microsoft.com/" TargetMode="External"/><Relationship Id="rId51" Type="http://schemas.openxmlformats.org/officeDocument/2006/relationships/image" Target="../media/image36.jpeg"/><Relationship Id="rId52" Type="http://schemas.openxmlformats.org/officeDocument/2006/relationships/hyperlink" Target="http://www.motorola.com/" TargetMode="External"/><Relationship Id="rId53" Type="http://schemas.openxmlformats.org/officeDocument/2006/relationships/image" Target="../media/image37.jpeg"/><Relationship Id="rId54" Type="http://schemas.openxmlformats.org/officeDocument/2006/relationships/hyperlink" Target="http://www.national.com/" TargetMode="External"/><Relationship Id="rId55" Type="http://schemas.openxmlformats.org/officeDocument/2006/relationships/image" Target="../media/image38.jpeg"/><Relationship Id="rId56" Type="http://schemas.openxmlformats.org/officeDocument/2006/relationships/hyperlink" Target="http://www.nec-global.com/" TargetMode="External"/><Relationship Id="rId57" Type="http://schemas.openxmlformats.org/officeDocument/2006/relationships/image" Target="../media/image39.jpeg"/><Relationship Id="rId58" Type="http://schemas.openxmlformats.org/officeDocument/2006/relationships/hyperlink" Target="http://www.netgear.com/" TargetMode="External"/><Relationship Id="rId59" Type="http://schemas.openxmlformats.org/officeDocument/2006/relationships/image" Target="../media/image40.jpeg"/><Relationship Id="rId60" Type="http://schemas.openxmlformats.org/officeDocument/2006/relationships/hyperlink" Target="http://www.nokia.com/main.html" TargetMode="External"/><Relationship Id="rId61" Type="http://schemas.openxmlformats.org/officeDocument/2006/relationships/image" Target="../media/image41.png"/><Relationship Id="rId62" Type="http://schemas.openxmlformats.org/officeDocument/2006/relationships/hyperlink" Target="http://www.philips.com/" TargetMode="External"/><Relationship Id="rId63" Type="http://schemas.openxmlformats.org/officeDocument/2006/relationships/image" Target="../media/image42.png"/><Relationship Id="rId64" Type="http://schemas.openxmlformats.org/officeDocument/2006/relationships/hyperlink" Target="http://www.proxim.com/" TargetMode="External"/><Relationship Id="rId65" Type="http://schemas.openxmlformats.org/officeDocument/2006/relationships/image" Target="../media/image43.jpeg"/><Relationship Id="rId66" Type="http://schemas.openxmlformats.org/officeDocument/2006/relationships/hyperlink" Target="http://www.ricoh.com/" TargetMode="External"/><Relationship Id="rId67" Type="http://schemas.openxmlformats.org/officeDocument/2006/relationships/image" Target="../media/image44.jpeg"/><Relationship Id="rId68" Type="http://schemas.openxmlformats.org/officeDocument/2006/relationships/image" Target="../media/image45.jpeg"/><Relationship Id="rId69" Type="http://schemas.openxmlformats.org/officeDocument/2006/relationships/image" Target="../media/image46.jpeg"/><Relationship Id="rId70" Type="http://schemas.openxmlformats.org/officeDocument/2006/relationships/image" Target="../media/image47.jpeg"/><Relationship Id="rId71" Type="http://schemas.openxmlformats.org/officeDocument/2006/relationships/image" Target="../media/image48.jpeg"/><Relationship Id="rId72" Type="http://schemas.openxmlformats.org/officeDocument/2006/relationships/image" Target="../media/image49.jpeg"/><Relationship Id="rId73" Type="http://schemas.openxmlformats.org/officeDocument/2006/relationships/image" Target="../media/image50.png"/><Relationship Id="rId74" Type="http://schemas.openxmlformats.org/officeDocument/2006/relationships/image" Target="../media/image51.jpeg"/><Relationship Id="rId75" Type="http://schemas.openxmlformats.org/officeDocument/2006/relationships/image" Target="../media/image52.jpeg"/><Relationship Id="rId76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52352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Wireless LANs—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Understanding the Options</a:t>
            </a:r>
            <a:br>
              <a:rPr sz="2800"/>
            </a:br>
            <a:br>
              <a:rPr sz="2800"/>
            </a:b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Broadband World Wireless Forum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February 13, 2002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avid A. Su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e Telnecity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n Jose, 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sumi@telnecit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ww.telnecit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694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3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694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3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694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3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694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3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694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i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 has underway a task group called 802.1X – enhanced security for all Ethernet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2.11i is the wireless specific extension of 802.1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WEP is 40bits with static k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2.11i proposed 128 bit encryp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session k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hanced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9520" y="1192320"/>
            <a:ext cx="3119400" cy="37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in draft form, but largely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po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inging higher data rates,  a’ la 802.11a solutions, to the 2.4GHz band – up to 54Mb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kwards compatible with 802.11b, something 802.11a is no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rporates both OFDM and CCK over DS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116240" y="1402200"/>
            <a:ext cx="4681800" cy="4339800"/>
            <a:chOff x="4116240" y="1402200"/>
            <a:chExt cx="4681800" cy="4339800"/>
          </a:xfrm>
        </p:grpSpPr>
        <p:sp>
          <p:nvSpPr>
            <p:cNvPr id="222" name=""/>
            <p:cNvSpPr/>
            <p:nvPr/>
          </p:nvSpPr>
          <p:spPr>
            <a:xfrm>
              <a:off x="4778280" y="4916520"/>
              <a:ext cx="4019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volution of IEEE 2.4GHz WLAN Data Ra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4116240" y="1402200"/>
              <a:ext cx="4676400" cy="2920680"/>
              <a:chOff x="4116240" y="1402200"/>
              <a:chExt cx="4676400" cy="292068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231520" y="1436400"/>
                <a:ext cx="3561120" cy="2719080"/>
                <a:chOff x="5231520" y="1436400"/>
                <a:chExt cx="3561120" cy="2719080"/>
              </a:xfrm>
            </p:grpSpPr>
            <p:cxnSp>
              <p:nvCxnSpPr>
                <p:cNvPr id="225" name=""/>
                <p:cNvCxnSpPr/>
                <p:nvPr/>
              </p:nvCxnSpPr>
              <p:spPr>
                <a:xfrm flipH="1">
                  <a:off x="5231520" y="1436400"/>
                  <a:ext cx="24120" cy="27046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226" name=""/>
                <p:cNvCxnSpPr/>
                <p:nvPr/>
              </p:nvCxnSpPr>
              <p:spPr>
                <a:xfrm>
                  <a:off x="5232960" y="4140360"/>
                  <a:ext cx="3560040" cy="154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sp>
            <p:nvSpPr>
              <p:cNvPr id="227" name=""/>
              <p:cNvSpPr/>
              <p:nvPr/>
            </p:nvSpPr>
            <p:spPr>
              <a:xfrm rot="16200000">
                <a:off x="3832560" y="2450160"/>
                <a:ext cx="13924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ata Rat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Mbps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148360" y="403560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148360" y="390996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148360" y="357336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148360" y="320832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170320" y="153972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5664240" y="4041720"/>
                <a:ext cx="9360" cy="28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>
                <a:off x="6832080" y="4041720"/>
                <a:ext cx="9720" cy="28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H="1">
                <a:off x="8002080" y="4041720"/>
                <a:ext cx="9720" cy="28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6200000">
                <a:off x="4839120" y="39200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6200000">
                <a:off x="4839120" y="36644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6200000">
                <a:off x="4839120" y="33836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16200000">
                <a:off x="4773600" y="308124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16200000">
                <a:off x="4775040" y="142092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5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1" name=""/>
          <p:cNvGrpSpPr/>
          <p:nvPr/>
        </p:nvGrpSpPr>
        <p:grpSpPr>
          <a:xfrm>
            <a:off x="5277240" y="3875040"/>
            <a:ext cx="884880" cy="929160"/>
            <a:chOff x="5277240" y="3875040"/>
            <a:chExt cx="884880" cy="929160"/>
          </a:xfrm>
        </p:grpSpPr>
        <p:sp>
          <p:nvSpPr>
            <p:cNvPr id="242" name=""/>
            <p:cNvSpPr/>
            <p:nvPr/>
          </p:nvSpPr>
          <p:spPr>
            <a:xfrm>
              <a:off x="5277240" y="4405320"/>
              <a:ext cx="88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02.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619600" y="3875040"/>
              <a:ext cx="131760" cy="254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6320160" y="3214800"/>
            <a:ext cx="1012680" cy="1589400"/>
            <a:chOff x="6320160" y="3214800"/>
            <a:chExt cx="1012680" cy="1589400"/>
          </a:xfrm>
        </p:grpSpPr>
        <p:sp>
          <p:nvSpPr>
            <p:cNvPr id="245" name=""/>
            <p:cNvSpPr/>
            <p:nvPr/>
          </p:nvSpPr>
          <p:spPr>
            <a:xfrm>
              <a:off x="6320160" y="4405320"/>
              <a:ext cx="101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02.11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759720" y="3214800"/>
              <a:ext cx="153720" cy="928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7429680" y="1512720"/>
            <a:ext cx="1012680" cy="3291480"/>
            <a:chOff x="7429680" y="1512720"/>
            <a:chExt cx="1012680" cy="3291480"/>
          </a:xfrm>
        </p:grpSpPr>
        <p:sp>
          <p:nvSpPr>
            <p:cNvPr id="248" name=""/>
            <p:cNvSpPr/>
            <p:nvPr/>
          </p:nvSpPr>
          <p:spPr>
            <a:xfrm>
              <a:off x="7429680" y="4405320"/>
              <a:ext cx="101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02.11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943760" y="1512720"/>
              <a:ext cx="189000" cy="2630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2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h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pose – allay technical issues ETSI has with 802.11a to promote its acceptance in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mit Power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Frequency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5"/>
          <a:stretch/>
        </p:blipFill>
        <p:spPr>
          <a:xfrm>
            <a:off x="4151160" y="4344840"/>
            <a:ext cx="1960560" cy="198144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6"/>
          <a:stretch/>
        </p:blipFill>
        <p:spPr>
          <a:xfrm>
            <a:off x="6783480" y="1193760"/>
            <a:ext cx="1960560" cy="1981080"/>
          </a:xfrm>
          <a:prstGeom prst="rect">
            <a:avLst/>
          </a:prstGeom>
          <a:ln w="0">
            <a:noFill/>
          </a:ln>
        </p:spPr>
      </p:pic>
      <p:grpSp>
        <p:nvGrpSpPr>
          <p:cNvPr id="254" name=""/>
          <p:cNvGrpSpPr/>
          <p:nvPr/>
        </p:nvGrpSpPr>
        <p:grpSpPr>
          <a:xfrm>
            <a:off x="4732560" y="2952360"/>
            <a:ext cx="2516400" cy="2487960"/>
            <a:chOff x="4732560" y="2952360"/>
            <a:chExt cx="2516400" cy="2487960"/>
          </a:xfrm>
        </p:grpSpPr>
        <p:sp>
          <p:nvSpPr>
            <p:cNvPr id="255" name=""/>
            <p:cNvSpPr/>
            <p:nvPr/>
          </p:nvSpPr>
          <p:spPr>
            <a:xfrm rot="18643800">
              <a:off x="5276520" y="3180240"/>
              <a:ext cx="1494360" cy="194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8" y="184"/>
                  </a:moveTo>
                  <a:arcTo wR="10800" hR="10800" stAng="-4763687" swAng="93428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8" y="184"/>
                  </a:moveTo>
                  <a:arcTo wR="10800" hR="10800" stAng="-4763687" swAng="9342865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18643800">
              <a:off x="5144760" y="3546360"/>
              <a:ext cx="1266840" cy="166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60" y="179"/>
                  </a:moveTo>
                  <a:arcTo wR="10800" hR="10800" stAng="-4772546" swAng="9277269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60" y="179"/>
                  </a:moveTo>
                  <a:arcTo wR="10800" hR="10800" stAng="-4772546" swAng="9277269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18643800">
              <a:off x="5107680" y="3979440"/>
              <a:ext cx="1080360" cy="1272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631" y="156"/>
                  </a:moveTo>
                  <a:arcTo wR="10800" hR="10800" stAng="-4814293" swAng="93843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631" y="156"/>
                  </a:moveTo>
                  <a:arcTo wR="10800" hR="10800" stAng="-4814293" swAng="9384377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18643800">
              <a:off x="5303520" y="4269960"/>
              <a:ext cx="601560" cy="924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21" y="122"/>
                  </a:moveTo>
                  <a:arcTo wR="10800" hR="10800" stAng="-4882030" swAng="94487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21" y="122"/>
                  </a:moveTo>
                  <a:arcTo wR="10800" hR="10800" stAng="-4882030" swAng="9448750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5509800" y="1974960"/>
            <a:ext cx="2487600" cy="2453760"/>
            <a:chOff x="5509800" y="1974960"/>
            <a:chExt cx="2487600" cy="2453760"/>
          </a:xfrm>
        </p:grpSpPr>
        <p:sp>
          <p:nvSpPr>
            <p:cNvPr id="260" name=""/>
            <p:cNvSpPr/>
            <p:nvPr/>
          </p:nvSpPr>
          <p:spPr>
            <a:xfrm rot="8508000">
              <a:off x="5951520" y="2228400"/>
              <a:ext cx="1494360" cy="194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8" y="184"/>
                  </a:moveTo>
                  <a:arcTo wR="10800" hR="10800" stAng="-4763687" swAng="93428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8" y="184"/>
                  </a:moveTo>
                  <a:arcTo wR="10800" hR="10800" stAng="-4763687" swAng="9342865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8508000">
              <a:off x="6350040" y="2190600"/>
              <a:ext cx="1266840" cy="166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60" y="179"/>
                  </a:moveTo>
                  <a:arcTo wR="10800" hR="10800" stAng="-4772546" swAng="9277269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60" y="179"/>
                  </a:moveTo>
                  <a:arcTo wR="10800" hR="10800" stAng="-4772546" swAng="9277269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8508000">
              <a:off x="6615720" y="2184120"/>
              <a:ext cx="1080360" cy="1272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631" y="156"/>
                  </a:moveTo>
                  <a:arcTo wR="10800" hR="10800" stAng="-4814293" swAng="93843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631" y="156"/>
                  </a:moveTo>
                  <a:arcTo wR="10800" hR="10800" stAng="-4814293" swAng="9384377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8508000">
              <a:off x="6920640" y="2251440"/>
              <a:ext cx="601560" cy="924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21" y="122"/>
                  </a:moveTo>
                  <a:arcTo wR="10800" hR="10800" stAng="-4882030" swAng="94487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21" y="122"/>
                  </a:moveTo>
                  <a:arcTo wR="10800" hR="10800" stAng="-4882030" swAng="9448750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7162920" y="6345360"/>
            <a:ext cx="1600200" cy="43632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iperLAN 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 European Telecommunications Standards Institute- Broadband Radio Area Networks Standard for WLAN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(ETSI BRAN)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cover dir="ru"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228600" y="2617920"/>
            <a:ext cx="8729640" cy="950760"/>
          </a:xfrm>
          <a:prstGeom prst="rect">
            <a:avLst/>
          </a:prstGeom>
          <a:solidFill>
            <a:srgbClr val="008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30040" y="3567240"/>
            <a:ext cx="8729640" cy="906480"/>
          </a:xfrm>
          <a:prstGeom prst="rect">
            <a:avLst/>
          </a:prstGeom>
          <a:solidFill>
            <a:srgbClr val="cc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75600" rIns="75600" tIns="37800" bIns="37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perLAN 2 and 802.11a Spectrum Comparis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0" name=""/>
          <p:cNvSpPr/>
          <p:nvPr/>
        </p:nvSpPr>
        <p:spPr>
          <a:xfrm>
            <a:off x="662760" y="4863960"/>
            <a:ext cx="817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1GHz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36200" y="3646440"/>
            <a:ext cx="1826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U-NII – 300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89064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1109520" y="4633920"/>
            <a:ext cx="32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133020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154944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174456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196992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218448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240840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26272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284652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306864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328788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350820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372600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394812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416736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43876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58316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48052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502452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24664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54640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568476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590544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61228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34356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656604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678348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700560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720108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742464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76420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786456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808524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830268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1969920" y="4533840"/>
            <a:ext cx="1800" cy="23040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4167360" y="4533840"/>
            <a:ext cx="1440" cy="23040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6343560" y="4533840"/>
            <a:ext cx="1800" cy="23040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8488440" y="4524120"/>
            <a:ext cx="1440" cy="23004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4096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2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94452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4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12720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6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303400" y="4863960"/>
            <a:ext cx="817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8GHz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83788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3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02380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5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21008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7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35120" y="4600440"/>
            <a:ext cx="7753320" cy="65160"/>
          </a:xfrm>
          <a:prstGeom prst="rect">
            <a:avLst/>
          </a:prstGeom>
          <a:solidFill>
            <a:srgbClr val="00669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4759200" y="3097080"/>
            <a:ext cx="2906640" cy="364680"/>
            <a:chOff x="4759200" y="3097080"/>
            <a:chExt cx="2906640" cy="364680"/>
          </a:xfrm>
        </p:grpSpPr>
        <p:grpSp>
          <p:nvGrpSpPr>
            <p:cNvPr id="320" name=""/>
            <p:cNvGrpSpPr/>
            <p:nvPr/>
          </p:nvGrpSpPr>
          <p:grpSpPr>
            <a:xfrm>
              <a:off x="4759200" y="3097080"/>
              <a:ext cx="2906640" cy="364680"/>
              <a:chOff x="4759200" y="3097080"/>
              <a:chExt cx="2906640" cy="364680"/>
            </a:xfrm>
          </p:grpSpPr>
          <p:sp>
            <p:nvSpPr>
              <p:cNvPr id="321" name=""/>
              <p:cNvSpPr/>
              <p:nvPr/>
            </p:nvSpPr>
            <p:spPr>
              <a:xfrm>
                <a:off x="4759200" y="30970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759200" y="310284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759200" y="3110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759200" y="311544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759200" y="3121200"/>
                <a:ext cx="2906640" cy="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759200" y="3124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759200" y="31305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759200" y="313596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759200" y="31435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759200" y="31489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759200" y="31543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759200" y="31600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759200" y="3167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759200" y="3173040"/>
                <a:ext cx="290664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759200" y="317520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759200" y="3182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759200" y="3187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759200" y="31935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759200" y="319896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759200" y="32065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759200" y="32119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759200" y="32173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759200" y="3223080"/>
                <a:ext cx="290664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759200" y="32266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759200" y="32320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759200" y="3239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759200" y="3245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759200" y="3250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759200" y="325656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759200" y="3263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759200" y="326916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759200" y="3274920"/>
                <a:ext cx="2906640" cy="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759200" y="3278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759200" y="32842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759200" y="32896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759200" y="32972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759200" y="3302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759200" y="3308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759200" y="33138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759200" y="3321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759200" y="3326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759200" y="3332160"/>
                <a:ext cx="290664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759200" y="3335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759200" y="3341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759200" y="334728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759200" y="33544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759200" y="33602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759200" y="3365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759200" y="337104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759200" y="337860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759200" y="3384360"/>
                <a:ext cx="2906640" cy="14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759200" y="33858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759200" y="3393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759200" y="3398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759200" y="3404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759200" y="341028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759200" y="34174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759200" y="34228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759200" y="342864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759200" y="3435840"/>
                <a:ext cx="290664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759200" y="343800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759200" y="34434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759200" y="34509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759200" y="3456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759200" y="3097080"/>
                <a:ext cx="2905200" cy="36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759200" y="3097080"/>
                <a:ext cx="2905200" cy="36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759200" y="30970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759200" y="310284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759200" y="3110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759200" y="311544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759200" y="3121200"/>
                <a:ext cx="2906640" cy="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759200" y="3124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759200" y="31305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759200" y="313596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759200" y="31435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759200" y="31489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759200" y="31543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759200" y="31600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759200" y="3167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759200" y="3173040"/>
                <a:ext cx="290664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759200" y="317520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759200" y="3182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759200" y="3187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759200" y="31935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759200" y="319896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759200" y="32065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759200" y="32119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759200" y="32173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759200" y="3223080"/>
                <a:ext cx="290664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759200" y="32266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759200" y="32320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759200" y="3239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759200" y="3245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759200" y="3250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759200" y="325656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759200" y="3263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759200" y="326916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759200" y="3274920"/>
                <a:ext cx="2906640" cy="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759200" y="3278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759200" y="32842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759200" y="32896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759200" y="32972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759200" y="3302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759200" y="3308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759200" y="33138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759200" y="3321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759200" y="3326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759200" y="3332160"/>
                <a:ext cx="290664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759200" y="3335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759200" y="3341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759200" y="334728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759200" y="33544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759200" y="33602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759200" y="3365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759200" y="337104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759200" y="337860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759200" y="3384360"/>
                <a:ext cx="2906640" cy="14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759200" y="33858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759200" y="3393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759200" y="3398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759200" y="3404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4759200" y="341028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759200" y="34174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759200" y="34228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759200" y="342864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759200" y="3435840"/>
                <a:ext cx="290664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759200" y="343800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759200" y="34434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759200" y="34509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759200" y="3456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1" name=""/>
            <p:cNvSpPr/>
            <p:nvPr/>
          </p:nvSpPr>
          <p:spPr>
            <a:xfrm>
              <a:off x="4759200" y="3097080"/>
              <a:ext cx="2905200" cy="3636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"/>
          <p:cNvSpPr/>
          <p:nvPr/>
        </p:nvSpPr>
        <p:spPr>
          <a:xfrm>
            <a:off x="736560" y="2732040"/>
            <a:ext cx="2406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HiperLAN – 455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1371600" y="3125880"/>
            <a:ext cx="1693800" cy="364320"/>
            <a:chOff x="1371600" y="3125880"/>
            <a:chExt cx="1693800" cy="364320"/>
          </a:xfrm>
        </p:grpSpPr>
        <p:grpSp>
          <p:nvGrpSpPr>
            <p:cNvPr id="454" name=""/>
            <p:cNvGrpSpPr/>
            <p:nvPr/>
          </p:nvGrpSpPr>
          <p:grpSpPr>
            <a:xfrm>
              <a:off x="1371600" y="3125880"/>
              <a:ext cx="1693800" cy="364320"/>
              <a:chOff x="1371600" y="3125880"/>
              <a:chExt cx="1693800" cy="364320"/>
            </a:xfrm>
          </p:grpSpPr>
          <p:sp>
            <p:nvSpPr>
              <p:cNvPr id="455" name=""/>
              <p:cNvSpPr/>
              <p:nvPr/>
            </p:nvSpPr>
            <p:spPr>
              <a:xfrm>
                <a:off x="1371600" y="3125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371600" y="313164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371600" y="31359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371600" y="31417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371600" y="31478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371600" y="315612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371600" y="315792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1371600" y="31662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1371600" y="3172320"/>
                <a:ext cx="1693800" cy="21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371600" y="317484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1371600" y="31824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1371600" y="31885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371600" y="319500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371600" y="319860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1371600" y="32050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371600" y="32112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371600" y="32155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371600" y="32212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1371600" y="322740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1371600" y="323568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1371600" y="323748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1371600" y="32457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371600" y="3251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371600" y="32580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1371600" y="32619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1371600" y="326808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1371600" y="327456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371600" y="327816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1371600" y="32846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1371600" y="329076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371600" y="329904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1371600" y="33008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371600" y="33091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371600" y="331524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371600" y="33170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371600" y="33253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371600" y="33314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1371600" y="33372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371600" y="33415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371600" y="334764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371600" y="335412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371600" y="33577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371600" y="336420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1371600" y="33721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371600" y="337860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371600" y="338040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371600" y="33886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371600" y="33948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1371600" y="33987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1371600" y="3404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371600" y="34106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371600" y="341676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371600" y="34210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1371600" y="342684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1371600" y="343332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371600" y="3441240"/>
                <a:ext cx="1693800" cy="21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1371600" y="344376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371600" y="34513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1371600" y="345744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371600" y="346176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1371600" y="34682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1371600" y="34740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1371600" y="348012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1371600" y="34844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1371600" y="3125880"/>
                <a:ext cx="1692360" cy="3625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1371600" y="3125880"/>
                <a:ext cx="1692360" cy="3625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1371600" y="3125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1371600" y="313164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1371600" y="31359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371600" y="31417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371600" y="31478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371600" y="315612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1371600" y="315792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1371600" y="31662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1371600" y="3172320"/>
                <a:ext cx="1693800" cy="21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371600" y="317484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371600" y="31824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371600" y="31885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371600" y="319500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1371600" y="319860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371600" y="32050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371600" y="32112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1371600" y="32155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1371600" y="32212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1371600" y="322740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371600" y="323568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1371600" y="323748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1371600" y="32457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1371600" y="3251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371600" y="32580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371600" y="32619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1371600" y="326808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371600" y="327456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371600" y="327816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371600" y="32846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1371600" y="329076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1371600" y="329904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1371600" y="33008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371600" y="33091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1371600" y="331524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1371600" y="33170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371600" y="33253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371600" y="33314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1371600" y="33372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371600" y="33415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371600" y="334764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371600" y="335412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371600" y="33577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371600" y="336420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371600" y="33721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371600" y="337860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371600" y="338040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1371600" y="33886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1371600" y="33948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371600" y="33987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371600" y="3404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371600" y="34106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371600" y="341676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371600" y="34210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371600" y="342684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371600" y="343332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371600" y="3441240"/>
                <a:ext cx="1693800" cy="21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1371600" y="344376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1371600" y="34513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1371600" y="345744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371600" y="346176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371600" y="34682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371600" y="34740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371600" y="348012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371600" y="34844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5" name=""/>
            <p:cNvSpPr/>
            <p:nvPr/>
          </p:nvSpPr>
          <p:spPr>
            <a:xfrm>
              <a:off x="1371600" y="3125880"/>
              <a:ext cx="1692360" cy="3628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 flipV="1">
            <a:off x="725400" y="4506840"/>
            <a:ext cx="1800" cy="23040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1347840" y="4029120"/>
            <a:ext cx="2300400" cy="364320"/>
            <a:chOff x="1347840" y="4029120"/>
            <a:chExt cx="2300400" cy="364320"/>
          </a:xfrm>
        </p:grpSpPr>
        <p:grpSp>
          <p:nvGrpSpPr>
            <p:cNvPr id="588" name=""/>
            <p:cNvGrpSpPr/>
            <p:nvPr/>
          </p:nvGrpSpPr>
          <p:grpSpPr>
            <a:xfrm>
              <a:off x="1347840" y="4029120"/>
              <a:ext cx="2300400" cy="364320"/>
              <a:chOff x="1347840" y="4029120"/>
              <a:chExt cx="2300400" cy="364320"/>
            </a:xfrm>
          </p:grpSpPr>
          <p:sp>
            <p:nvSpPr>
              <p:cNvPr id="589" name=""/>
              <p:cNvSpPr/>
              <p:nvPr/>
            </p:nvSpPr>
            <p:spPr>
              <a:xfrm>
                <a:off x="1347840" y="402912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1347840" y="40348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1347840" y="40402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347840" y="404568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1347840" y="4053240"/>
                <a:ext cx="230040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1347840" y="405504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1347840" y="40626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347840" y="40680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347840" y="40734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347840" y="40788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1347840" y="4086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1347840" y="40917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1347840" y="409716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1347840" y="410328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1347840" y="41068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1347840" y="411228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347840" y="41194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1347840" y="41256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1347840" y="41310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347840" y="41364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1347840" y="4143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1347840" y="4149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1347840" y="415476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347840" y="41587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347840" y="41641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1347840" y="416952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1347840" y="417528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347840" y="41824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1347840" y="418824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1347840" y="419400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1347840" y="420084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1347840" y="4206960"/>
                <a:ext cx="230040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1347840" y="42084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1347840" y="4215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347840" y="4221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347840" y="42271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1347840" y="423252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1347840" y="4240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1347840" y="4245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347840" y="42508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1347840" y="425664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1347840" y="4263840"/>
                <a:ext cx="2300400" cy="18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1347840" y="426600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1347840" y="427320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1347840" y="4278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1347840" y="4284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347840" y="428976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347840" y="42973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1347840" y="4303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1347840" y="4308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1347840" y="431388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1347840" y="4317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347840" y="432324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1347840" y="43308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1347840" y="433620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1347840" y="4341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1347840" y="434736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1347840" y="435456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1347840" y="43603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1347840" y="436572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1347840" y="43696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1347840" y="4375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1347840" y="438048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1347840" y="438804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347840" y="4029120"/>
                <a:ext cx="2298600" cy="36072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347840" y="4029120"/>
                <a:ext cx="2298600" cy="36072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1347840" y="402912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1347840" y="40348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1347840" y="40402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1347840" y="404568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1347840" y="4053240"/>
                <a:ext cx="230040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1347840" y="405504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1347840" y="40626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1347840" y="40680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1347840" y="40734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1347840" y="40788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347840" y="4086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1347840" y="40917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1347840" y="409716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1347840" y="410328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1347840" y="41068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347840" y="411228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347840" y="41194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1347840" y="41256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1347840" y="41310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1347840" y="41364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1347840" y="4143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1347840" y="4149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1347840" y="415476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1347840" y="41587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1347840" y="41641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1347840" y="416952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1347840" y="417528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1347840" y="41824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1347840" y="418824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1347840" y="419400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1347840" y="420084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1347840" y="4206960"/>
                <a:ext cx="230040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347840" y="42084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347840" y="4215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1347840" y="4221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1347840" y="42271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347840" y="423252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1347840" y="4240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347840" y="4245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1347840" y="42508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1347840" y="425664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1347840" y="4263840"/>
                <a:ext cx="2300400" cy="18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1347840" y="426600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1347840" y="427320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1347840" y="4278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1347840" y="4284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1347840" y="428976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1347840" y="42973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1347840" y="4303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347840" y="4308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347840" y="431388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1347840" y="4317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1347840" y="432324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1347840" y="43308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7840" y="433620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347840" y="4341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347840" y="434736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347840" y="435456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347840" y="43603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347840" y="436572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347840" y="43696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347840" y="4375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347840" y="438048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1347840" y="438804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9" name=""/>
            <p:cNvSpPr/>
            <p:nvPr/>
          </p:nvSpPr>
          <p:spPr>
            <a:xfrm>
              <a:off x="1347840" y="4029120"/>
              <a:ext cx="2298600" cy="3610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0" name=""/>
          <p:cNvSpPr/>
          <p:nvPr/>
        </p:nvSpPr>
        <p:spPr>
          <a:xfrm>
            <a:off x="1380600" y="4076640"/>
            <a:ext cx="2062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15 - 5.25; 5.25 - 5.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7626240" y="3990960"/>
            <a:ext cx="1253520" cy="364320"/>
            <a:chOff x="7626240" y="3990960"/>
            <a:chExt cx="1253520" cy="364320"/>
          </a:xfrm>
        </p:grpSpPr>
        <p:grpSp>
          <p:nvGrpSpPr>
            <p:cNvPr id="722" name=""/>
            <p:cNvGrpSpPr/>
            <p:nvPr/>
          </p:nvGrpSpPr>
          <p:grpSpPr>
            <a:xfrm>
              <a:off x="7626240" y="3990960"/>
              <a:ext cx="1253520" cy="364320"/>
              <a:chOff x="7626240" y="3990960"/>
              <a:chExt cx="1253520" cy="364320"/>
            </a:xfrm>
          </p:grpSpPr>
          <p:sp>
            <p:nvSpPr>
              <p:cNvPr id="723" name=""/>
              <p:cNvSpPr/>
              <p:nvPr/>
            </p:nvSpPr>
            <p:spPr>
              <a:xfrm>
                <a:off x="7626240" y="399096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626240" y="39967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626240" y="40021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7626240" y="400752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7626240" y="4015080"/>
                <a:ext cx="125352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626240" y="401688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626240" y="40244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7626240" y="40298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626240" y="40352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7626240" y="40406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626240" y="4048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7626240" y="40536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626240" y="405900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7626240" y="406512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626240" y="40687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626240" y="407412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626240" y="40813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626240" y="40874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26240" y="40928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626240" y="40982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626240" y="4105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7626240" y="4111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7626240" y="411660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26240" y="41205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626240" y="41259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626240" y="413136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7626240" y="413712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7626240" y="41443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26240" y="415008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7626240" y="415584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7626240" y="416268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7626240" y="4168800"/>
                <a:ext cx="125352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7626240" y="41702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26240" y="4177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7626240" y="4183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7626240" y="41889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7626240" y="419436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7626240" y="4201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26240" y="4207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7626240" y="42127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7626240" y="421848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7626240" y="4225680"/>
                <a:ext cx="1253520" cy="18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7626240" y="422784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26240" y="423504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7626240" y="4240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7626240" y="4246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7626240" y="425160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7626240" y="42591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26240" y="4264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7626240" y="4270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7626240" y="427572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7626240" y="4279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7626240" y="428508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26240" y="42926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7626240" y="429804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626240" y="4303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626240" y="430920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7626240" y="431640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7626240" y="43221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26240" y="432756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7626240" y="43315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7626240" y="4336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7626240" y="434232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7626240" y="434988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26240" y="3990960"/>
                <a:ext cx="1251720" cy="36072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7626240" y="3990960"/>
                <a:ext cx="1251720" cy="36072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7626240" y="399096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7626240" y="39967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7626240" y="40021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26240" y="400752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7626240" y="4015080"/>
                <a:ext cx="125352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7626240" y="401688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7626240" y="40244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7626240" y="40298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26240" y="40352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7626240" y="40406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7626240" y="4048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7626240" y="40536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7626240" y="405900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26240" y="406512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7626240" y="40687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7626240" y="407412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7626240" y="40813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7626240" y="40874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26240" y="40928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7626240" y="40982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7626240" y="4105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7626240" y="4111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7626240" y="411660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26240" y="41205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7626240" y="41259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7626240" y="413136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7626240" y="413712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7626240" y="41443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26240" y="415008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7626240" y="415584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7626240" y="416268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7626240" y="4168800"/>
                <a:ext cx="125352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7626240" y="41702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7626240" y="4177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26240" y="4183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7626240" y="41889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7626240" y="419436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7626240" y="4201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7626240" y="4207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26240" y="42127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7626240" y="421848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626240" y="4225680"/>
                <a:ext cx="1253520" cy="18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7626240" y="422784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7626240" y="423504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26240" y="4240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7626240" y="4246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7626240" y="425160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626240" y="42591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7626240" y="4264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26240" y="4270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7626240" y="427572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7626240" y="4279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7626240" y="428508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7626240" y="42926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26240" y="429804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626240" y="4303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7626240" y="430920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7626240" y="431640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7626240" y="43221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26240" y="432756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7626240" y="43315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7626240" y="4336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7626240" y="434232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7626240" y="434988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3" name=""/>
            <p:cNvSpPr/>
            <p:nvPr/>
          </p:nvSpPr>
          <p:spPr>
            <a:xfrm>
              <a:off x="7626240" y="3990960"/>
              <a:ext cx="1252080" cy="3610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4" name=""/>
          <p:cNvSpPr/>
          <p:nvPr/>
        </p:nvSpPr>
        <p:spPr>
          <a:xfrm>
            <a:off x="7657920" y="4052880"/>
            <a:ext cx="1195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725 - 5.8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400040" y="3157560"/>
            <a:ext cx="1632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15 - 5.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824360" y="3132000"/>
            <a:ext cx="2795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470 - 5.7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iperLAN 2 vs 802.11a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5257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 layer almost the s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perLAN has TPC and D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perLAN supports selective AR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 QoS or Scheduler re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6 and 168 bit DES encry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9" name=""/>
          <p:cNvGraphicFramePr/>
          <p:nvPr/>
        </p:nvGraphicFramePr>
        <p:xfrm>
          <a:off x="2224080" y="3021120"/>
          <a:ext cx="4937040" cy="3031920"/>
        </p:xfrm>
        <a:graphic>
          <a:graphicData uri="http://schemas.openxmlformats.org/drawingml/2006/table">
            <a:tbl>
              <a:tblPr/>
              <a:tblGrid>
                <a:gridCol w="1182600"/>
                <a:gridCol w="922320"/>
                <a:gridCol w="1565280"/>
                <a:gridCol w="689040"/>
                <a:gridCol w="5778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ul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Rate-Mb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L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P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P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P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P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Q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Q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Q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Q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Q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p:transition spd="med">
    <p:cover dir="ru"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ome RF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762120" y="1262160"/>
            <a:ext cx="7772400" cy="50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nded in March 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 member companies (Intel, Motorola, Compaq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4G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H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Mbps,1.6Mbps, 5Mbps and 10M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MHz and 5MHz chan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m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SMA/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ority CS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D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for both IP data and DECT telepho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am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hanced security -128 bit encry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0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ireless Fidelit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(WiFi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321840" y="1379520"/>
            <a:ext cx="3514680" cy="46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nded by the Wireless Ethernet Communications Alliance to promote interoperability and testing of 802.11 devices beyond the 802.11 standa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ber companies such as 3COM, Cisco, Compaq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WiFi products are 802.11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ll 802.11 products are not necessarily WiF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4" name=""/>
          <p:cNvGrpSpPr/>
          <p:nvPr/>
        </p:nvGrpSpPr>
        <p:grpSpPr>
          <a:xfrm>
            <a:off x="4400640" y="1859040"/>
            <a:ext cx="4422240" cy="3607920"/>
            <a:chOff x="4400640" y="1859040"/>
            <a:chExt cx="4422240" cy="3607920"/>
          </a:xfrm>
        </p:grpSpPr>
        <p:sp>
          <p:nvSpPr>
            <p:cNvPr id="865" name=""/>
            <p:cNvSpPr/>
            <p:nvPr/>
          </p:nvSpPr>
          <p:spPr>
            <a:xfrm>
              <a:off x="4410000" y="1863720"/>
              <a:ext cx="4411800" cy="356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6" name=""/>
            <p:cNvGrpSpPr/>
            <p:nvPr/>
          </p:nvGrpSpPr>
          <p:grpSpPr>
            <a:xfrm>
              <a:off x="4400640" y="1859040"/>
              <a:ext cx="4422240" cy="3607920"/>
              <a:chOff x="4400640" y="1859040"/>
              <a:chExt cx="4422240" cy="3607920"/>
            </a:xfrm>
          </p:grpSpPr>
          <p:pic>
            <p:nvPicPr>
              <p:cNvPr id="867" name="" descr="">
                <a:hlinkClick r:id="rId4"/>
              </p:cNvPr>
              <p:cNvPicPr/>
              <p:nvPr/>
            </p:nvPicPr>
            <p:blipFill>
              <a:blip r:embed="rId5"/>
              <a:stretch/>
            </p:blipFill>
            <p:spPr>
              <a:xfrm>
                <a:off x="4407840" y="18648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8" name="" descr="">
                <a:hlinkClick r:id="rId6"/>
              </p:cNvPr>
              <p:cNvPicPr/>
              <p:nvPr/>
            </p:nvPicPr>
            <p:blipFill>
              <a:blip r:embed="rId7"/>
              <a:stretch/>
            </p:blipFill>
            <p:spPr>
              <a:xfrm>
                <a:off x="5238360" y="18630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9" name="" descr="">
                <a:hlinkClick r:id="rId8"/>
              </p:cNvPr>
              <p:cNvPicPr/>
              <p:nvPr/>
            </p:nvPicPr>
            <p:blipFill>
              <a:blip r:embed="rId9"/>
              <a:stretch/>
            </p:blipFill>
            <p:spPr>
              <a:xfrm>
                <a:off x="6138360" y="18604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0" name="" descr="">
                <a:hlinkClick r:id="rId10"/>
              </p:cNvPr>
              <p:cNvPicPr/>
              <p:nvPr/>
            </p:nvPicPr>
            <p:blipFill>
              <a:blip r:embed="rId11"/>
              <a:stretch/>
            </p:blipFill>
            <p:spPr>
              <a:xfrm>
                <a:off x="7026840" y="185904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1" name="" descr="">
                <a:hlinkClick r:id="rId12"/>
              </p:cNvPr>
              <p:cNvPicPr/>
              <p:nvPr/>
            </p:nvPicPr>
            <p:blipFill>
              <a:blip r:embed="rId13"/>
              <a:stretch/>
            </p:blipFill>
            <p:spPr>
              <a:xfrm>
                <a:off x="7934400" y="18604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2" name="" descr="">
                <a:hlinkClick r:id="rId14"/>
              </p:cNvPr>
              <p:cNvPicPr/>
              <p:nvPr/>
            </p:nvPicPr>
            <p:blipFill>
              <a:blip r:embed="rId15"/>
              <a:stretch/>
            </p:blipFill>
            <p:spPr>
              <a:xfrm>
                <a:off x="4403520" y="23112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3" name="" descr="">
                <a:hlinkClick r:id="rId16"/>
              </p:cNvPr>
              <p:cNvPicPr/>
              <p:nvPr/>
            </p:nvPicPr>
            <p:blipFill>
              <a:blip r:embed="rId17"/>
              <a:stretch/>
            </p:blipFill>
            <p:spPr>
              <a:xfrm>
                <a:off x="5285880" y="23112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4" name="" descr="">
                <a:hlinkClick r:id="rId18"/>
              </p:cNvPr>
              <p:cNvPicPr/>
              <p:nvPr/>
            </p:nvPicPr>
            <p:blipFill>
              <a:blip r:embed="rId19"/>
              <a:stretch/>
            </p:blipFill>
            <p:spPr>
              <a:xfrm>
                <a:off x="6170400" y="23140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5" name="" descr="">
                <a:hlinkClick r:id="rId20"/>
              </p:cNvPr>
              <p:cNvPicPr/>
              <p:nvPr/>
            </p:nvPicPr>
            <p:blipFill>
              <a:blip r:embed="rId21"/>
              <a:stretch/>
            </p:blipFill>
            <p:spPr>
              <a:xfrm>
                <a:off x="7054560" y="231264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6" name="" descr="">
                <a:hlinkClick r:id="rId22"/>
              </p:cNvPr>
              <p:cNvPicPr/>
              <p:nvPr/>
            </p:nvPicPr>
            <p:blipFill>
              <a:blip r:embed="rId23"/>
              <a:stretch/>
            </p:blipFill>
            <p:spPr>
              <a:xfrm>
                <a:off x="7935840" y="23155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7" name="" descr="">
                <a:hlinkClick r:id="rId24"/>
              </p:cNvPr>
              <p:cNvPicPr/>
              <p:nvPr/>
            </p:nvPicPr>
            <p:blipFill>
              <a:blip r:embed="rId25"/>
              <a:stretch/>
            </p:blipFill>
            <p:spPr>
              <a:xfrm>
                <a:off x="4404600" y="27666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8" name="" descr="">
                <a:hlinkClick r:id="rId26"/>
              </p:cNvPr>
              <p:cNvPicPr/>
              <p:nvPr/>
            </p:nvPicPr>
            <p:blipFill>
              <a:blip r:embed="rId27"/>
              <a:stretch/>
            </p:blipFill>
            <p:spPr>
              <a:xfrm>
                <a:off x="5292000" y="27720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9" name="" descr="">
                <a:hlinkClick r:id="rId28"/>
              </p:cNvPr>
              <p:cNvPicPr/>
              <p:nvPr/>
            </p:nvPicPr>
            <p:blipFill>
              <a:blip r:embed="rId29"/>
              <a:stretch/>
            </p:blipFill>
            <p:spPr>
              <a:xfrm>
                <a:off x="6183360" y="27666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0" name="" descr="">
                <a:hlinkClick r:id="rId30"/>
              </p:cNvPr>
              <p:cNvPicPr/>
              <p:nvPr/>
            </p:nvPicPr>
            <p:blipFill>
              <a:blip r:embed="rId31"/>
              <a:stretch/>
            </p:blipFill>
            <p:spPr>
              <a:xfrm>
                <a:off x="7071840" y="27676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1" name="" descr="">
                <a:hlinkClick r:id="rId32"/>
              </p:cNvPr>
              <p:cNvPicPr/>
              <p:nvPr/>
            </p:nvPicPr>
            <p:blipFill>
              <a:blip r:embed="rId33"/>
              <a:stretch/>
            </p:blipFill>
            <p:spPr>
              <a:xfrm>
                <a:off x="7953120" y="27666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2" name="" descr="">
                <a:hlinkClick r:id="rId34"/>
              </p:cNvPr>
              <p:cNvPicPr/>
              <p:nvPr/>
            </p:nvPicPr>
            <p:blipFill>
              <a:blip r:embed="rId35"/>
              <a:stretch/>
            </p:blipFill>
            <p:spPr>
              <a:xfrm>
                <a:off x="4407840" y="32245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3" name="" descr="">
                <a:hlinkClick r:id="rId36"/>
              </p:cNvPr>
              <p:cNvPicPr/>
              <p:nvPr/>
            </p:nvPicPr>
            <p:blipFill>
              <a:blip r:embed="rId37"/>
              <a:stretch/>
            </p:blipFill>
            <p:spPr>
              <a:xfrm>
                <a:off x="5296320" y="32274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4" name="" descr="">
                <a:hlinkClick r:id="rId38"/>
              </p:cNvPr>
              <p:cNvPicPr/>
              <p:nvPr/>
            </p:nvPicPr>
            <p:blipFill>
              <a:blip r:embed="rId39"/>
              <a:stretch/>
            </p:blipFill>
            <p:spPr>
              <a:xfrm>
                <a:off x="6180480" y="322596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5" name="" descr="">
                <a:hlinkClick r:id="rId40"/>
              </p:cNvPr>
              <p:cNvPicPr/>
              <p:nvPr/>
            </p:nvPicPr>
            <p:blipFill>
              <a:blip r:embed="rId41"/>
              <a:stretch/>
            </p:blipFill>
            <p:spPr>
              <a:xfrm>
                <a:off x="7061760" y="32245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6" name="" descr="">
                <a:hlinkClick r:id="rId42"/>
              </p:cNvPr>
              <p:cNvPicPr/>
              <p:nvPr/>
            </p:nvPicPr>
            <p:blipFill>
              <a:blip r:embed="rId43"/>
              <a:stretch/>
            </p:blipFill>
            <p:spPr>
              <a:xfrm>
                <a:off x="7947360" y="32302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7" name="" descr="">
                <a:hlinkClick r:id="rId44"/>
              </p:cNvPr>
              <p:cNvPicPr/>
              <p:nvPr/>
            </p:nvPicPr>
            <p:blipFill>
              <a:blip r:embed="rId45"/>
              <a:stretch/>
            </p:blipFill>
            <p:spPr>
              <a:xfrm>
                <a:off x="4403520" y="36781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8" name="" descr="">
                <a:hlinkClick r:id="rId46"/>
              </p:cNvPr>
              <p:cNvPicPr/>
              <p:nvPr/>
            </p:nvPicPr>
            <p:blipFill>
              <a:blip r:embed="rId47"/>
              <a:stretch/>
            </p:blipFill>
            <p:spPr>
              <a:xfrm>
                <a:off x="5292000" y="36810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9" name="" descr="">
                <a:hlinkClick r:id="rId48"/>
              </p:cNvPr>
              <p:cNvPicPr/>
              <p:nvPr/>
            </p:nvPicPr>
            <p:blipFill>
              <a:blip r:embed="rId49"/>
              <a:stretch/>
            </p:blipFill>
            <p:spPr>
              <a:xfrm>
                <a:off x="6180480" y="36766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0" name="" descr="">
                <a:hlinkClick r:id="rId50"/>
              </p:cNvPr>
              <p:cNvPicPr/>
              <p:nvPr/>
            </p:nvPicPr>
            <p:blipFill>
              <a:blip r:embed="rId51"/>
              <a:stretch/>
            </p:blipFill>
            <p:spPr>
              <a:xfrm>
                <a:off x="7051680" y="36781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1" name="" descr="">
                <a:hlinkClick r:id="rId52"/>
              </p:cNvPr>
              <p:cNvPicPr/>
              <p:nvPr/>
            </p:nvPicPr>
            <p:blipFill>
              <a:blip r:embed="rId53"/>
              <a:stretch/>
            </p:blipFill>
            <p:spPr>
              <a:xfrm>
                <a:off x="7940160" y="36781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2" name="" descr="">
                <a:hlinkClick r:id="rId54"/>
              </p:cNvPr>
              <p:cNvPicPr/>
              <p:nvPr/>
            </p:nvPicPr>
            <p:blipFill>
              <a:blip r:embed="rId55"/>
              <a:stretch/>
            </p:blipFill>
            <p:spPr>
              <a:xfrm>
                <a:off x="4404600" y="41292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3" name="" descr="">
                <a:hlinkClick r:id="rId56"/>
              </p:cNvPr>
              <p:cNvPicPr/>
              <p:nvPr/>
            </p:nvPicPr>
            <p:blipFill>
              <a:blip r:embed="rId57"/>
              <a:stretch/>
            </p:blipFill>
            <p:spPr>
              <a:xfrm>
                <a:off x="5287680" y="4124880"/>
                <a:ext cx="86940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4" name="" descr="">
                <a:hlinkClick r:id="rId58"/>
              </p:cNvPr>
              <p:cNvPicPr/>
              <p:nvPr/>
            </p:nvPicPr>
            <p:blipFill>
              <a:blip r:embed="rId59"/>
              <a:stretch/>
            </p:blipFill>
            <p:spPr>
              <a:xfrm>
                <a:off x="6176160" y="41248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5" name="" descr="">
                <a:hlinkClick r:id="rId60"/>
              </p:cNvPr>
              <p:cNvPicPr/>
              <p:nvPr/>
            </p:nvPicPr>
            <p:blipFill>
              <a:blip r:embed="rId61"/>
              <a:stretch/>
            </p:blipFill>
            <p:spPr>
              <a:xfrm>
                <a:off x="7063560" y="4127400"/>
                <a:ext cx="86940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6" name="" descr="">
                <a:hlinkClick r:id="rId62"/>
              </p:cNvPr>
              <p:cNvPicPr/>
              <p:nvPr/>
            </p:nvPicPr>
            <p:blipFill>
              <a:blip r:embed="rId63"/>
              <a:stretch/>
            </p:blipFill>
            <p:spPr>
              <a:xfrm>
                <a:off x="7949160" y="41292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7" name="" descr="">
                <a:hlinkClick r:id="rId64"/>
              </p:cNvPr>
              <p:cNvPicPr/>
              <p:nvPr/>
            </p:nvPicPr>
            <p:blipFill>
              <a:blip r:embed="rId65"/>
              <a:stretch/>
            </p:blipFill>
            <p:spPr>
              <a:xfrm>
                <a:off x="4400640" y="45828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8" name="" descr="">
                <a:hlinkClick r:id="rId66"/>
              </p:cNvPr>
              <p:cNvPicPr/>
              <p:nvPr/>
            </p:nvPicPr>
            <p:blipFill>
              <a:blip r:embed="rId67"/>
              <a:stretch/>
            </p:blipFill>
            <p:spPr>
              <a:xfrm>
                <a:off x="5287680" y="4578480"/>
                <a:ext cx="86940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9" name="" descr=""/>
              <p:cNvPicPr/>
              <p:nvPr/>
            </p:nvPicPr>
            <p:blipFill>
              <a:blip r:embed="rId68"/>
              <a:stretch/>
            </p:blipFill>
            <p:spPr>
              <a:xfrm>
                <a:off x="6170400" y="457704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0" name="" descr=""/>
              <p:cNvPicPr/>
              <p:nvPr/>
            </p:nvPicPr>
            <p:blipFill>
              <a:blip r:embed="rId69"/>
              <a:stretch/>
            </p:blipFill>
            <p:spPr>
              <a:xfrm>
                <a:off x="7058880" y="45756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1" name="" descr=""/>
              <p:cNvPicPr/>
              <p:nvPr/>
            </p:nvPicPr>
            <p:blipFill>
              <a:blip r:embed="rId70"/>
              <a:stretch/>
            </p:blipFill>
            <p:spPr>
              <a:xfrm>
                <a:off x="7949160" y="45784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2" name="" descr=""/>
              <p:cNvPicPr/>
              <p:nvPr/>
            </p:nvPicPr>
            <p:blipFill>
              <a:blip r:embed="rId71"/>
              <a:stretch/>
            </p:blipFill>
            <p:spPr>
              <a:xfrm>
                <a:off x="7952040" y="50248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3" name="" descr=""/>
              <p:cNvPicPr/>
              <p:nvPr/>
            </p:nvPicPr>
            <p:blipFill>
              <a:blip r:embed="rId72"/>
              <a:stretch/>
            </p:blipFill>
            <p:spPr>
              <a:xfrm>
                <a:off x="4403520" y="50263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4" name="" descr=""/>
              <p:cNvPicPr/>
              <p:nvPr/>
            </p:nvPicPr>
            <p:blipFill>
              <a:blip r:embed="rId73"/>
              <a:stretch/>
            </p:blipFill>
            <p:spPr>
              <a:xfrm>
                <a:off x="6171840" y="5029200"/>
                <a:ext cx="86940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5" name="" descr=""/>
              <p:cNvPicPr/>
              <p:nvPr/>
            </p:nvPicPr>
            <p:blipFill>
              <a:blip r:embed="rId74"/>
              <a:stretch/>
            </p:blipFill>
            <p:spPr>
              <a:xfrm>
                <a:off x="5287680" y="5032080"/>
                <a:ext cx="86940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6" name="" descr=""/>
              <p:cNvPicPr/>
              <p:nvPr/>
            </p:nvPicPr>
            <p:blipFill>
              <a:blip r:embed="rId75"/>
              <a:stretch/>
            </p:blipFill>
            <p:spPr>
              <a:xfrm>
                <a:off x="7060320" y="50281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907" name=""/>
          <p:cNvSpPr/>
          <p:nvPr/>
        </p:nvSpPr>
        <p:spPr>
          <a:xfrm>
            <a:off x="3819600" y="1890720"/>
            <a:ext cx="536400" cy="3452760"/>
          </a:xfrm>
          <a:custGeom>
            <a:avLst/>
            <a:gdLst>
              <a:gd name="textAreaLeft" fmla="*/ 342720 w 536400"/>
              <a:gd name="textAreaRight" fmla="*/ 536400 w 536400"/>
              <a:gd name="textAreaTop" fmla="*/ 90000 h 3452760"/>
              <a:gd name="textAreaBottom" fmla="*/ 3362760 h 3452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11120"/>
                </a:lnTo>
                <a:cubicBezTo>
                  <a:pt x="10800" y="12020"/>
                  <a:pt x="5400" y="12920"/>
                  <a:pt x="0" y="12920"/>
                </a:cubicBezTo>
                <a:cubicBezTo>
                  <a:pt x="5400" y="12920"/>
                  <a:pt x="10800" y="13820"/>
                  <a:pt x="10800" y="1472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uture application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e video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box streams video to multiple mon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 your Stereo to the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MP3’s to your 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ANs have a bright future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t Sp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pr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 and HomeRF leading the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higher data rates, QoS, and better security applications are un-lim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0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38280" y="143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tegic Marketing Consulting - Offers a continuum of strategic marketing services to companies in all phases of the company life cyc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adband Intelligence Products -  Custom and periodic reports have an initial focus on all wireless mark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LAN (802.11*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xed Wireless (802.16, satellite, 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G/4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ture Intelligence Products will focus on current and next generation access technolog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ble Mod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S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4760" y="5656320"/>
            <a:ext cx="8312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elnecity Group consists of two groups: Strategic Marketing Consulting and Broadband Intelligence Produc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0" y="323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The Telnecity Group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cover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"/>
          <p:cNvSpPr/>
          <p:nvPr/>
        </p:nvSpPr>
        <p:spPr>
          <a:xfrm>
            <a:off x="3089520" y="2122560"/>
            <a:ext cx="29300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vid A. Su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Dsumi@telnecit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408 293-815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AN–Massive opport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s &amp; Foru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rt: WLAN Marke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"/>
          <p:cNvSpPr/>
          <p:nvPr/>
        </p:nvSpPr>
        <p:spPr>
          <a:xfrm>
            <a:off x="366840" y="1633680"/>
            <a:ext cx="2187360" cy="15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owth of the market is dependant on current IT spending in the existing strong vertical markets and the expected explosion of the Enterprise marke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00320" y="1332000"/>
            <a:ext cx="5392800" cy="442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3708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181400" y="1332000"/>
            <a:ext cx="180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71816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25636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800680" y="1332000"/>
            <a:ext cx="180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33744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73840" y="1332000"/>
            <a:ext cx="180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1204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95672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49312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100320" y="3797280"/>
            <a:ext cx="5124600" cy="1708200"/>
            <a:chOff x="3100320" y="3797280"/>
            <a:chExt cx="5124600" cy="1708200"/>
          </a:xfrm>
        </p:grpSpPr>
        <p:sp>
          <p:nvSpPr>
            <p:cNvPr id="106" name=""/>
            <p:cNvSpPr/>
            <p:nvPr/>
          </p:nvSpPr>
          <p:spPr>
            <a:xfrm>
              <a:off x="3100320" y="5165640"/>
              <a:ext cx="3441600" cy="339840"/>
            </a:xfrm>
            <a:prstGeom prst="rect">
              <a:avLst/>
            </a:prstGeom>
            <a:solidFill>
              <a:srgbClr val="9999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100320" y="4821120"/>
              <a:ext cx="4961160" cy="344520"/>
            </a:xfrm>
            <a:prstGeom prst="rect">
              <a:avLst/>
            </a:prstGeom>
            <a:solidFill>
              <a:srgbClr val="9933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100320" y="4481640"/>
              <a:ext cx="5124600" cy="339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100320" y="4135320"/>
              <a:ext cx="3773520" cy="346320"/>
            </a:xfrm>
            <a:prstGeom prst="rect">
              <a:avLst/>
            </a:prstGeom>
            <a:solidFill>
              <a:srgbClr val="cc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100320" y="3797280"/>
              <a:ext cx="4326120" cy="338040"/>
            </a:xfrm>
            <a:prstGeom prst="rect">
              <a:avLst/>
            </a:prstGeom>
            <a:solidFill>
              <a:srgbClr val="6600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100320" y="5759280"/>
            <a:ext cx="5392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3100320" y="575892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363708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4181400" y="575892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71816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25636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800680" y="575892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33744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873840" y="575892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741204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795672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849312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00320" y="1332000"/>
            <a:ext cx="180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63960" y="5759280"/>
            <a:ext cx="36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63960" y="3541680"/>
            <a:ext cx="36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63960" y="1332000"/>
            <a:ext cx="36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6936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0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60756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0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5044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1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68864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1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22504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6972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2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0756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3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4432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3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8072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4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92540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4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6360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5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691000" y="45943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91000" y="238428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49600" y="6041880"/>
            <a:ext cx="76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Billion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00320" y="1332000"/>
            <a:ext cx="5392800" cy="4427280"/>
          </a:xfrm>
          <a:prstGeom prst="rect">
            <a:avLst/>
          </a:prstGeom>
          <a:noFill/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00320" y="2949480"/>
            <a:ext cx="1165320" cy="338400"/>
          </a:xfrm>
          <a:prstGeom prst="rect">
            <a:avLst/>
          </a:prstGeom>
          <a:solidFill>
            <a:srgbClr val="9999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100320" y="2610000"/>
            <a:ext cx="1292400" cy="339480"/>
          </a:xfrm>
          <a:prstGeom prst="rect">
            <a:avLst/>
          </a:prstGeom>
          <a:solidFill>
            <a:srgbClr val="9933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00320" y="2263680"/>
            <a:ext cx="1081080" cy="346320"/>
          </a:xfrm>
          <a:prstGeom prst="rect">
            <a:avLst/>
          </a:prstGeom>
          <a:solidFill>
            <a:srgbClr val="ff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00320" y="1925640"/>
            <a:ext cx="1187640" cy="33804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00320" y="1585800"/>
            <a:ext cx="1179720" cy="33984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7149960" y="1712880"/>
            <a:ext cx="1792440" cy="1628640"/>
            <a:chOff x="7149960" y="1712880"/>
            <a:chExt cx="1792440" cy="1628640"/>
          </a:xfrm>
        </p:grpSpPr>
        <p:sp>
          <p:nvSpPr>
            <p:cNvPr id="148" name=""/>
            <p:cNvSpPr/>
            <p:nvPr/>
          </p:nvSpPr>
          <p:spPr>
            <a:xfrm>
              <a:off x="7149960" y="1712880"/>
              <a:ext cx="1792440" cy="16286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227720" y="1755720"/>
              <a:ext cx="182880" cy="182520"/>
            </a:xfrm>
            <a:prstGeom prst="rect">
              <a:avLst/>
            </a:prstGeom>
            <a:solidFill>
              <a:srgbClr val="6600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74400" y="172728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ver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27720" y="2058840"/>
              <a:ext cx="182880" cy="182880"/>
            </a:xfrm>
            <a:prstGeom prst="rect">
              <a:avLst/>
            </a:prstGeom>
            <a:solidFill>
              <a:srgbClr val="cc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573680" y="2039760"/>
              <a:ext cx="1282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rategis Unlimit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227720" y="2362320"/>
              <a:ext cx="182880" cy="1825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522200" y="2354400"/>
              <a:ext cx="1224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rost and Sulliv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227720" y="2665440"/>
              <a:ext cx="182880" cy="182520"/>
            </a:xfrm>
            <a:prstGeom prst="rect">
              <a:avLst/>
            </a:prstGeom>
            <a:solidFill>
              <a:srgbClr val="9933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76200" y="2666880"/>
              <a:ext cx="45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-St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227720" y="2968560"/>
              <a:ext cx="182880" cy="182520"/>
            </a:xfrm>
            <a:prstGeom prst="rect">
              <a:avLst/>
            </a:prstGeom>
            <a:solidFill>
              <a:srgbClr val="9999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576920" y="2981160"/>
              <a:ext cx="26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D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arket Share of WLAN Access Point Shipments, by Vendor, Worldwide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1077840" y="5821200"/>
            <a:ext cx="77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urce: InStat, June 2001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47800" y="1832040"/>
            <a:ext cx="1714320" cy="1006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LAN offers the capability to attract Enterprise and Service Providers under the same roo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48560" y="4879800"/>
            <a:ext cx="1962000" cy="641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tworking vendors are aggressively pursuing 802.1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76520" y="2332080"/>
            <a:ext cx="2149560" cy="2415960"/>
          </a:xfrm>
          <a:custGeom>
            <a:avLst/>
            <a:gdLst/>
            <a:ahLst/>
            <a:rect l="l" t="t" r="r" b="b"/>
            <a:pathLst>
              <a:path w="289" h="325">
                <a:moveTo>
                  <a:pt x="112" y="0"/>
                </a:moveTo>
                <a:cubicBezTo>
                  <a:pt x="41" y="54"/>
                  <a:pt x="1" y="138"/>
                  <a:pt x="1" y="227"/>
                </a:cubicBezTo>
                <a:cubicBezTo>
                  <a:pt x="0" y="261"/>
                  <a:pt x="6" y="294"/>
                  <a:pt x="18" y="325"/>
                </a:cubicBezTo>
                <a:lnTo>
                  <a:pt x="289" y="227"/>
                </a:lnTo>
                <a:lnTo>
                  <a:pt x="112" y="0"/>
                </a:lnTo>
                <a:close/>
              </a:path>
            </a:pathLst>
          </a:custGeom>
          <a:solidFill>
            <a:srgbClr val="9999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409920" y="1870200"/>
            <a:ext cx="1382760" cy="2149200"/>
          </a:xfrm>
          <a:custGeom>
            <a:avLst/>
            <a:gdLst/>
            <a:ahLst/>
            <a:rect l="l" t="t" r="r" b="b"/>
            <a:pathLst>
              <a:path w="186" h="289">
                <a:moveTo>
                  <a:pt x="186" y="1"/>
                </a:moveTo>
                <a:cubicBezTo>
                  <a:pt x="183" y="1"/>
                  <a:pt x="180" y="1"/>
                  <a:pt x="177" y="1"/>
                </a:cubicBezTo>
                <a:cubicBezTo>
                  <a:pt x="113" y="0"/>
                  <a:pt x="50" y="22"/>
                  <a:pt x="0" y="62"/>
                </a:cubicBezTo>
                <a:lnTo>
                  <a:pt x="177" y="289"/>
                </a:lnTo>
                <a:lnTo>
                  <a:pt x="186" y="1"/>
                </a:lnTo>
                <a:close/>
              </a:path>
            </a:pathLst>
          </a:custGeom>
          <a:solidFill>
            <a:srgbClr val="993366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726080" y="1878120"/>
            <a:ext cx="1315800" cy="2141280"/>
          </a:xfrm>
          <a:custGeom>
            <a:avLst/>
            <a:gdLst/>
            <a:ahLst/>
            <a:rect l="l" t="t" r="r" b="b"/>
            <a:pathLst>
              <a:path w="177" h="288">
                <a:moveTo>
                  <a:pt x="177" y="60"/>
                </a:moveTo>
                <a:cubicBezTo>
                  <a:pt x="129" y="23"/>
                  <a:pt x="70" y="2"/>
                  <a:pt x="9" y="0"/>
                </a:cubicBezTo>
                <a:lnTo>
                  <a:pt x="0" y="288"/>
                </a:lnTo>
                <a:lnTo>
                  <a:pt x="177" y="60"/>
                </a:lnTo>
                <a:close/>
              </a:path>
            </a:pathLst>
          </a:custGeom>
          <a:solidFill>
            <a:srgbClr val="ffffcc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726080" y="2324160"/>
            <a:ext cx="2016000" cy="1695240"/>
          </a:xfrm>
          <a:custGeom>
            <a:avLst/>
            <a:gdLst/>
            <a:ahLst/>
            <a:rect l="l" t="t" r="r" b="b"/>
            <a:pathLst>
              <a:path w="271" h="228">
                <a:moveTo>
                  <a:pt x="271" y="128"/>
                </a:moveTo>
                <a:cubicBezTo>
                  <a:pt x="252" y="78"/>
                  <a:pt x="220" y="33"/>
                  <a:pt x="177" y="0"/>
                </a:cubicBezTo>
                <a:lnTo>
                  <a:pt x="0" y="228"/>
                </a:lnTo>
                <a:lnTo>
                  <a:pt x="271" y="128"/>
                </a:lnTo>
                <a:close/>
              </a:path>
            </a:pathLst>
          </a:custGeom>
          <a:solidFill>
            <a:srgbClr val="cc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726080" y="3276720"/>
            <a:ext cx="2149560" cy="817560"/>
          </a:xfrm>
          <a:custGeom>
            <a:avLst/>
            <a:gdLst/>
            <a:ahLst/>
            <a:rect l="l" t="t" r="r" b="b"/>
            <a:pathLst>
              <a:path w="289" h="110">
                <a:moveTo>
                  <a:pt x="288" y="110"/>
                </a:moveTo>
                <a:cubicBezTo>
                  <a:pt x="288" y="106"/>
                  <a:pt x="289" y="103"/>
                  <a:pt x="289" y="100"/>
                </a:cubicBezTo>
                <a:cubicBezTo>
                  <a:pt x="289" y="66"/>
                  <a:pt x="282" y="32"/>
                  <a:pt x="271" y="0"/>
                </a:cubicBezTo>
                <a:lnTo>
                  <a:pt x="0" y="100"/>
                </a:lnTo>
                <a:lnTo>
                  <a:pt x="288" y="110"/>
                </a:lnTo>
                <a:close/>
              </a:path>
            </a:pathLst>
          </a:custGeom>
          <a:solidFill>
            <a:srgbClr val="660066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726080" y="4019400"/>
            <a:ext cx="2141280" cy="587520"/>
          </a:xfrm>
          <a:custGeom>
            <a:avLst/>
            <a:gdLst/>
            <a:ahLst/>
            <a:rect l="l" t="t" r="r" b="b"/>
            <a:pathLst>
              <a:path w="288" h="79">
                <a:moveTo>
                  <a:pt x="278" y="79"/>
                </a:moveTo>
                <a:cubicBezTo>
                  <a:pt x="284" y="56"/>
                  <a:pt x="288" y="33"/>
                  <a:pt x="288" y="10"/>
                </a:cubicBezTo>
                <a:lnTo>
                  <a:pt x="0" y="0"/>
                </a:lnTo>
                <a:lnTo>
                  <a:pt x="278" y="79"/>
                </a:lnTo>
                <a:close/>
              </a:path>
            </a:pathLst>
          </a:custGeom>
          <a:solidFill>
            <a:srgbClr val="ff808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711520" y="4019400"/>
            <a:ext cx="4081320" cy="2143440"/>
          </a:xfrm>
          <a:custGeom>
            <a:avLst/>
            <a:gdLst/>
            <a:ahLst/>
            <a:rect l="l" t="t" r="r" b="b"/>
            <a:pathLst>
              <a:path w="549" h="288">
                <a:moveTo>
                  <a:pt x="0" y="98"/>
                </a:moveTo>
                <a:cubicBezTo>
                  <a:pt x="41" y="213"/>
                  <a:pt x="150" y="288"/>
                  <a:pt x="271" y="288"/>
                </a:cubicBezTo>
                <a:cubicBezTo>
                  <a:pt x="400" y="288"/>
                  <a:pt x="513" y="203"/>
                  <a:pt x="549" y="79"/>
                </a:cubicBezTo>
                <a:lnTo>
                  <a:pt x="271" y="0"/>
                </a:lnTo>
                <a:lnTo>
                  <a:pt x="0" y="98"/>
                </a:lnTo>
                <a:close/>
              </a:path>
            </a:pathLst>
          </a:custGeom>
          <a:solidFill>
            <a:srgbClr val="0066cc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423160" y="332100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80440" y="175104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1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598000" y="178128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628680" y="2592360"/>
            <a:ext cx="16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9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022520" y="3603600"/>
            <a:ext cx="16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22520" y="4317840"/>
            <a:ext cx="16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786920" y="627372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7424640" y="2265480"/>
            <a:ext cx="1373400" cy="2401920"/>
            <a:chOff x="7424640" y="2265480"/>
            <a:chExt cx="1373400" cy="2401920"/>
          </a:xfrm>
        </p:grpSpPr>
        <p:sp>
          <p:nvSpPr>
            <p:cNvPr id="178" name=""/>
            <p:cNvSpPr/>
            <p:nvPr/>
          </p:nvSpPr>
          <p:spPr>
            <a:xfrm>
              <a:off x="7424640" y="2265480"/>
              <a:ext cx="1373400" cy="2401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551720" y="2386080"/>
              <a:ext cx="182520" cy="18252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920360" y="237348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is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551720" y="2720880"/>
              <a:ext cx="182520" cy="182520"/>
            </a:xfrm>
            <a:prstGeom prst="rect">
              <a:avLst/>
            </a:prstGeom>
            <a:solidFill>
              <a:srgbClr val="993366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920360" y="2724120"/>
              <a:ext cx="47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ge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537320" y="3057480"/>
              <a:ext cx="182520" cy="182520"/>
            </a:xfrm>
            <a:prstGeom prst="rect">
              <a:avLst/>
            </a:prstGeom>
            <a:solidFill>
              <a:srgbClr val="ffff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920360" y="3086280"/>
              <a:ext cx="595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ymb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537320" y="3392640"/>
              <a:ext cx="182520" cy="182520"/>
            </a:xfrm>
            <a:prstGeom prst="rect">
              <a:avLst/>
            </a:prstGeom>
            <a:solidFill>
              <a:srgbClr val="cc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921080" y="337968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li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537320" y="3728880"/>
              <a:ext cx="182520" cy="182880"/>
            </a:xfrm>
            <a:prstGeom prst="rect">
              <a:avLst/>
            </a:prstGeom>
            <a:solidFill>
              <a:srgbClr val="660066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918200" y="3711600"/>
              <a:ext cx="796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terasy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551720" y="4064040"/>
              <a:ext cx="182520" cy="182520"/>
            </a:xfrm>
            <a:prstGeom prst="rect">
              <a:avLst/>
            </a:prstGeom>
            <a:solidFill>
              <a:srgbClr val="ff808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21080" y="4030560"/>
              <a:ext cx="474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C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551720" y="4400640"/>
              <a:ext cx="182520" cy="182520"/>
            </a:xfrm>
            <a:prstGeom prst="rect">
              <a:avLst/>
            </a:prstGeom>
            <a:solidFill>
              <a:srgbClr val="0066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919640" y="439092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 First Ru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42600" y="1390680"/>
            <a:ext cx="489420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ved in 1997 after 7 years of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 Layer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 Sequence Spread Spectrum &amp; Frequency Hopping Spread Spectr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4GHz only (2.4GHz-2.4835GH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and 2Mbps data r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MHz channels DSSS, 1MHz FH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 Layer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SMA/CA (Ethernet Like) or RTS/CTS via “virtual carrier sense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SS and ESS: roa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entication/Users 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 Control 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entication via encrypted Shared Key (WE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7"/>
          <a:stretch/>
        </p:blipFill>
        <p:spPr>
          <a:xfrm>
            <a:off x="67057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8"/>
          <a:stretch/>
        </p:blipFill>
        <p:spPr>
          <a:xfrm>
            <a:off x="6045120" y="1420920"/>
            <a:ext cx="1752840" cy="17524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6167520" y="5029200"/>
            <a:ext cx="27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ctures from the Proxim website, 2002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b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ved in 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4G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SS only w/ 20MHz cha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ed 5.5 and 11Mbps data rates (CCK modul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wards compatible with 802.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MAC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.11a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705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ved same time as 802.11b (Fall 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HY layer extension only to the existing 802.11 standard- OFDM based wave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GHz only, UNII bands 1,2 and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ble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,12,24Mbps mand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,18,36,48,54Mbps op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MHz channels, 52 sub-carr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is unchan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583440" y="4114800"/>
            <a:ext cx="4432680" cy="1942200"/>
            <a:chOff x="3583440" y="4114800"/>
            <a:chExt cx="4432680" cy="1942200"/>
          </a:xfrm>
        </p:grpSpPr>
        <p:sp>
          <p:nvSpPr>
            <p:cNvPr id="203" name=""/>
            <p:cNvSpPr/>
            <p:nvPr/>
          </p:nvSpPr>
          <p:spPr>
            <a:xfrm>
              <a:off x="3935520" y="4125960"/>
              <a:ext cx="3760560" cy="1523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240520" y="5719320"/>
              <a:ext cx="132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99"/>
                  </a:solidFill>
                  <a:latin typeface="Arial"/>
                </a:rPr>
                <a:t>U-NII Ban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583440" y="5719680"/>
              <a:ext cx="69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99"/>
                  </a:solidFill>
                  <a:latin typeface="Arial"/>
                </a:rPr>
                <a:t>5G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317360" y="5719680"/>
              <a:ext cx="69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99"/>
                  </a:solidFill>
                  <a:latin typeface="Arial"/>
                </a:rPr>
                <a:t>6G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95680" y="4124160"/>
              <a:ext cx="533520" cy="152424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29200" y="4124160"/>
              <a:ext cx="533520" cy="152424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629400" y="4124160"/>
              <a:ext cx="533520" cy="152424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6200000">
              <a:off x="4105080" y="4744440"/>
              <a:ext cx="1291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.15-5.25G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16200000">
              <a:off x="4638240" y="4744440"/>
              <a:ext cx="1291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.25-5.35G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16200000">
              <a:off x="6116760" y="4627440"/>
              <a:ext cx="15588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.725-5.825G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029200" y="4152960"/>
              <a:ext cx="0" cy="1447920"/>
            </a:xfrm>
            <a:prstGeom prst="line">
              <a:avLst/>
            </a:prstGeom>
            <a:ln w="284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 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Qo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160" y="1572840"/>
            <a:ext cx="38098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Development – many components of Whitec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hanced support for Q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s a Hybrid Coordination Function – combination of PCF and DC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hanced DCF (EDCF)– 8 traffic categories, minimum of 4 physical que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orit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al MAC level F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itter and Latency are adjustable parameters as well as min/max data r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 – ability to handle voice and streaming 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4124160" y="1536840"/>
          <a:ext cx="4780080" cy="4365360"/>
        </p:xfrm>
        <a:graphic>
          <a:graphicData uri="http://schemas.openxmlformats.org/drawingml/2006/table">
            <a:tbl>
              <a:tblPr/>
              <a:tblGrid>
                <a:gridCol w="1206720"/>
                <a:gridCol w="1041480"/>
                <a:gridCol w="871560"/>
                <a:gridCol w="757080"/>
                <a:gridCol w="90324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dwid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en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tte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cket Lo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-Ma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to 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e Transfer (FT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rsty 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P Applic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 access (HTT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rsty 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deo-conferenc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stained 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ice over 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stained low to 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eaming med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stained moderate to 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-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over dir="ru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7T17:53:23Z</dcterms:created>
  <dc:creator>David A. Sumi</dc:creator>
  <dc:description/>
  <dc:language>en-US</dc:language>
  <cp:lastModifiedBy>David A. Sumi</cp:lastModifiedBy>
  <dcterms:modified xsi:type="dcterms:W3CDTF">2002-02-13T21:40:59Z</dcterms:modified>
  <cp:revision>33</cp:revision>
  <dc:subject/>
  <dc:title>Wireless LA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574422621</vt:r8>
  </property>
  <property fmtid="{D5CDD505-2E9C-101B-9397-08002B2CF9AE}" pid="3" name="_AuthorEmail">
    <vt:lpwstr>dsumi@telnecity.com</vt:lpwstr>
  </property>
  <property fmtid="{D5CDD505-2E9C-101B-9397-08002B2CF9AE}" pid="4" name="_AuthorEmailDisplayName">
    <vt:lpwstr>Dave Sumi</vt:lpwstr>
  </property>
  <property fmtid="{D5CDD505-2E9C-101B-9397-08002B2CF9AE}" pid="5" name="_EmailSubject">
    <vt:lpwstr>slides</vt:lpwstr>
  </property>
</Properties>
</file>