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8EA9-4336-439E-884F-5CE84846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77C8-8F76-4CFC-9F66-C02B31CC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A8E9-A5F0-417E-92E1-04FFA2E2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5AD5-307E-4FF0-BEB2-8D519F82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BE9C-3A3E-48A2-825C-5D4659B5F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661A-9CCB-4690-9AF6-C937C9B4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04E0-AD5E-4017-834F-A8609A8C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0688-1BD2-4B8F-8407-733C4A83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4BE2-6E9F-43D6-B85E-DF568506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B270-EA89-4B98-B9AB-C8CA839E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873C-74D6-44EF-834B-58C8C15A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705F-1FEF-4B11-AFD7-BA5223B1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8FDE-1826-47B0-9552-783A97CA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DFC8-96F7-435B-8967-4CC03806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79E8-8E06-48E1-8268-1CA3EEC3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218B-83A7-4BDF-95EA-6B77A60A4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04A6-2E96-4BB1-877C-C4FC246C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1FD9-2CE5-4A93-9F6E-9989AF43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7C06-4728-4E38-9A78-CDF14D33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A79F-4326-4E38-A65F-CEECCEB3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A07E-0AD0-4F26-8782-968F34D1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9264-8A7D-40C5-99DF-A66FB682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E4BA-3865-4A94-B176-BD276370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EA4F-6B84-4FB8-9DCC-2EAF8A00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994A-5A22-438C-9D8E-83A28234428E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9525-15E4-442E-98F1-F90CDDAFBFD0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Prime Companies Inc.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Broadband Wireless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        World  Forum 2002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38095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February 12-14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Anaheim, California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26668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791320" y="2743200"/>
            <a:ext cx="2727360" cy="3278160"/>
            <a:chOff x="5791320" y="2743200"/>
            <a:chExt cx="2727360" cy="327816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791320" y="2743200"/>
              <a:ext cx="2727360" cy="32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5791320" y="2743200"/>
              <a:ext cx="2727360" cy="327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6699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8137-B7E7-4C14-B216-A043B90BD7F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lect manufacturer and proper equip’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hroughput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echnolog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is the growth potential?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umber of customers per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ub/per sector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services can be provided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ow and later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Focus on equipment pricing-most   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articularly CPE pricing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AF2C-F9E9-4782-95E6-02365DCB09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frequencies to be used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LMDS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5.8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2.4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ment method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point requirement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multipoint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equipment hardware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1FEF-66A1-4297-AAA8-7FC8F53D5C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Preorder required bandwidth to POP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T1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S3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Use right equipment for right application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Is ATM required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BE95-8C6B-481D-91EC-FAF503B118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LMDS" descr=""/>
          <p:cNvPicPr/>
          <p:nvPr/>
        </p:nvPicPr>
        <p:blipFill>
          <a:blip r:embed="rId1"/>
          <a:srcRect l="0" t="7245" r="0" b="15396"/>
          <a:stretch/>
        </p:blipFill>
        <p:spPr>
          <a:xfrm>
            <a:off x="1523880" y="380880"/>
            <a:ext cx="6096240" cy="609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E6D2-3D2F-496D-9BB2-0DE65A9937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reate Allianc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Join Chambers of Commerc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(C of C) become your advocat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cquaint yourself with Economic Development Agenci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ovide live training sessions to the business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CD9A-2832-41F8-8765-7773640A06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learly define the benefits of your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Educate your prospective customers on what E-commerce means to them and their busines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Be conscious that your prospective customers are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starving but they are not hungry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2801-A9E6-45B0-A475-C7BE9F8DF1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does net speed mean to your customers business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how your customer how speed can save them money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ugment your horizons, serve both business as well as your residential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Keep in focus that business has a different requirement than the residential customer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7992-8DA9-47D1-9E31-18D0D3D41A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 the fact that in general the residential consumer has minimal impact on bandwidth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ame bandwidth can serve both the business as well as the residential consumer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Business uses net usually 8-5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Residence uses net usually 7-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C8C6-B5A2-469F-83BC-68CC05B1EE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?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not accept anything other than reality. Be a realist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ke extensive use of the pre-subscription process to assure yourself that you have custom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and when possible create alliances with manufactur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nufacturers are also going through tough time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54AE-42A4-4F1F-9481-7B363A2C27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mmunicate with your congressional representatives.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ell them on your pla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support you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Look for governmental low interest loan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Remember today what counts is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PROFIT</a:t>
            </a: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FAB1-FD35-45BE-B1C5-B756891FD5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Strategies Of Deploying Wireless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Broadband Utilizing LMDS,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Unlicensed Bandwidth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(5.8 GHZ and 2.4 GHZ)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886200"/>
            <a:ext cx="7391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esented By Norbert J. Lima           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  President and CEO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ime Companies Incorporated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769A-2F89-43E4-964F-97143D60CD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istory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participated in the 1999 LMDS auction in the U.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was successful in acquiring 8 LMDS “A” licens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Geographically speaking, these licenses range from western Pennsylvania going in a northerly direction all the way into the state of new York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DB92-301E-4677-AB8C-9E0BAA759D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Goal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trategic and cost effective deployment of broadband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rve all economically feasible markets- both in secondary and tertiary market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7598-ACF2-4FEA-BF1C-18CCD2AA93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of Getting Started</a:t>
            </a:r>
            <a:br>
              <a:rPr sz="3600"/>
            </a:b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a business plan with reasonable and realistic expectations, and follow your business plan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services do you intend to deploy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igh speed internet connectivity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deo conferencin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rtual private networks (VPN’s)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Point to point data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ial ton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9698-D1EF-49CB-A123-2BBB287DC2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9140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Which service offering, or package of services do you intend to provide first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F949-D216-4DA4-96D8-1377B65F71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ations before defining market deploymen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marketing studie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Understand your market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 and customer needs/want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Obtain pre-subscriptio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Is bandwidth available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Negotiate for bandwidth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2261-DFFA-45A0-9DD0-5F47D5D09E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onsiderations before defining (con’t)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market makeup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Building siz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Avg number of customers per bld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ow many sectors are req. to provide svc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price points for services to be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ed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xplore terms of rooftop usag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8B78-C12F-41F4-A740-6179515555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ich market to deploy first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competition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bandwidth availability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DSL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location of deployment hub site!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radio/hub site readily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manufacturers’ equipment do you us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o you have pre-subscriptions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35AE-6817-4D41-9A6C-6D701565EB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8:15:46Z</dcterms:created>
  <dc:creator>sondra</dc:creator>
  <dc:description/>
  <dc:language>en-US</dc:language>
  <cp:lastModifiedBy>sondra</cp:lastModifiedBy>
  <dcterms:modified xsi:type="dcterms:W3CDTF">2002-02-08T17:04:38Z</dcterms:modified>
  <cp:revision>83</cp:revision>
  <dc:subject/>
  <dc:title>PowerPoint Presentation</dc:title>
</cp:coreProperties>
</file>