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7D884-7E2C-4523-8247-A2C01C1CD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AB3F6-DBA3-4F48-9B88-E466999F0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7E1B2-EE77-45F9-B854-942F12597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94CC8-B7D0-471A-B7C9-646FCDB8F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FEDA2-EA49-4E29-98CD-9692D3BE2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B043D-2C0D-49FD-8052-7E09858F8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3B96B-1D4E-42E3-BA2A-987726BCA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E3DC-125E-4C8F-83E3-9CAD22967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15604-ED47-4862-8223-B3910F4A86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9461-F3C7-47B0-9859-9CCA62311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D6CAC-5961-4B9F-B585-77EFB0A63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AEFE2-30F6-489E-BE10-CC18026F2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1120" y="6315120"/>
            <a:ext cx="777852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39960"/>
            <a:ext cx="289584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22920" y="6491160"/>
            <a:ext cx="179712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12FE-B641-4636-B73A-8EC87C952DB3}" type="slidenum">
              <a:rPr b="0" i="1" lang="en-US" sz="1200" spc="-1" strike="noStrike">
                <a:solidFill>
                  <a:srgbClr val="3366cc"/>
                </a:solidFill>
                <a:latin typeface="Arial Condense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33440" y="687240"/>
            <a:ext cx="84240" cy="3316320"/>
            <a:chOff x="433440" y="687240"/>
            <a:chExt cx="84240" cy="3316320"/>
          </a:xfrm>
        </p:grpSpPr>
        <p:sp>
          <p:nvSpPr>
            <p:cNvPr id="8" name=""/>
            <p:cNvSpPr/>
            <p:nvPr/>
          </p:nvSpPr>
          <p:spPr>
            <a:xfrm rot="16200000">
              <a:off x="-1176840" y="2307240"/>
              <a:ext cx="3314880" cy="7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433440" y="692280"/>
              <a:ext cx="0" cy="3311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65200" y="1187280"/>
            <a:ext cx="78040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ogo%20med" descr=""/>
          <p:cNvPicPr/>
          <p:nvPr/>
        </p:nvPicPr>
        <p:blipFill>
          <a:blip r:embed="rId2"/>
          <a:stretch/>
        </p:blipFill>
        <p:spPr>
          <a:xfrm>
            <a:off x="7310520" y="309600"/>
            <a:ext cx="1442880" cy="5619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596880" y="64371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4780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3117600" y="6324480"/>
            <a:ext cx="2895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1120" y="2540160"/>
            <a:ext cx="7778520" cy="74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%20med" descr=""/>
          <p:cNvPicPr/>
          <p:nvPr/>
        </p:nvPicPr>
        <p:blipFill>
          <a:blip r:embed="rId2"/>
          <a:stretch/>
        </p:blipFill>
        <p:spPr>
          <a:xfrm>
            <a:off x="6138720" y="254160"/>
            <a:ext cx="2262240" cy="88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6880" y="6437160"/>
            <a:ext cx="307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5744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Non Line-of-Sight in Microwave Band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1160" y="423504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Palatino"/>
              </a:rPr>
              <a:t>Multicell Network Architectur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Metro Coverage Design Exampl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3000" y="1277640"/>
            <a:ext cx="3454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torized cellular layou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ments m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LOS cover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quency reus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this mark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 existing sit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o new constru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70520" y="1278000"/>
            <a:ext cx="42796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5E7DE-7A87-40D0-BCA9-9AD0594178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Cellular Reuse Analysi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08160" y="1328760"/>
            <a:ext cx="2946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 RF channels, scalable cellular coverage &amp; 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-building, user installable CP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ell area &gt; PC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ost users capable of higher-order modul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8160" y="1332000"/>
          <a:ext cx="5000760" cy="42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32000"/>
                    <a:ext cx="500076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30560" y="5205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87600" y="4673160"/>
            <a:ext cx="355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55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73400" y="4203720"/>
            <a:ext cx="8892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1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55440" y="3530160"/>
            <a:ext cx="165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B1868-E762-4506-8841-E2E0740802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Adaptive Modulation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1270080"/>
            <a:ext cx="756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27280" y="1422360"/>
          <a:ext cx="6210360" cy="2282760"/>
        </p:xfrm>
        <a:graphic>
          <a:graphicData uri="http://schemas.openxmlformats.org/drawingml/2006/table">
            <a:tbl>
              <a:tblPr/>
              <a:tblGrid>
                <a:gridCol w="1000080"/>
                <a:gridCol w="1222200"/>
                <a:gridCol w="1339920"/>
                <a:gridCol w="1487520"/>
                <a:gridCol w="1160640"/>
              </a:tblGrid>
              <a:tr h="100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OFDM Subcarrier Modulations Sup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Average available transmit rate, bps/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QP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6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4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1480" y="4406760"/>
            <a:ext cx="711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0880" y="3889440"/>
            <a:ext cx="689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NLOS C/(N+I)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capacity increase with two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% capacity increase with thre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0960" y="3249720"/>
            <a:ext cx="41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21B3D-D59E-45E5-B8E8-36FF79EE0B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 Black"/>
              </a:rPr>
              <a:t>Multiple Access with NLOS OFDM</a:t>
            </a: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83000" y="1641600"/>
          <a:ext cx="5124600" cy="32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3000" y="1641600"/>
                    <a:ext cx="51246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8960" y="1645920"/>
            <a:ext cx="28321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overhead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-switched,      random acc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utilization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stability in bursty data traffi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CB836-5AD2-433A-AB1D-C5884406A2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OFDM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2902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DM advant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mple equalization, no ISI in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atural fit for NLO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orts adaptive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reless wide-area OFDM syste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, LAN-lik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actical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CP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595D5-CFE2-4F5D-8A35-0D49DE85BB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ntact Informati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xtNet Wireless,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9555 James Ave. South, Suite 270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nneapolis, MN 55431  US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ww.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hone: 952-929-4008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-mail: info@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B8FD1-8F4C-4B49-890B-33857C54D7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Second Generation Goal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on–line of sight (NLOS)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ach all customers in coverage are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subscriber equipmen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oadband wide-area net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throughput &amp; multipl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 for residential and business u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fficient Frequency Reuse - Bits / Hz / Acre / $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lexible system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ECC3F-D5F5-48D1-9A0D-4B2FDA0DDD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roughput /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performance with low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le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lay spread –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LOS oper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xity and cos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5CED1-2706-43FC-AD76-FDCBD99D9C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6505A-5693-43A8-A03A-EEC10F9763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16400" y="15177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NLOS Throughput vs. Distanc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3600" y="1303200"/>
            <a:ext cx="318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per bound for throughput varies with distance from 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"/>
          <p:cNvSpPr/>
          <p:nvPr/>
        </p:nvSpPr>
        <p:spPr>
          <a:xfrm>
            <a:off x="4855680" y="2278080"/>
            <a:ext cx="11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0120" y="4286160"/>
            <a:ext cx="152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43520" y="26398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DM &amp;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8840" y="4430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13240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urban Path Loss Mod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88C27-FB63-4C7F-A797-C842AC0E14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35160" y="1467000"/>
            <a:ext cx="5651640" cy="419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Capacity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7800" y="1315800"/>
            <a:ext cx="30988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 capacity a function of cell size,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sign choices lead to different capacity and coverage characteristic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"/>
          <p:cNvSpPr/>
          <p:nvPr/>
        </p:nvSpPr>
        <p:spPr>
          <a:xfrm>
            <a:off x="5205960" y="2127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/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95240" y="3765600"/>
            <a:ext cx="9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E1643-586A-4228-B5B0-944032157B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800" y="4809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</a:t>
            </a:r>
            <a:br>
              <a:rPr sz="3200"/>
            </a:b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verage/Capacity Comparis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11400" y="1943280"/>
            <a:ext cx="670860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9240" y="2043000"/>
            <a:ext cx="620064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3822840"/>
            <a:ext cx="317988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6840" y="3935520"/>
            <a:ext cx="193500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2238480"/>
            <a:ext cx="204768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62480" y="2224080"/>
            <a:ext cx="176364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2227320"/>
            <a:ext cx="17766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90680" y="2238480"/>
            <a:ext cx="221760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1581120"/>
            <a:ext cx="0" cy="33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6080" y="1582560"/>
            <a:ext cx="0" cy="5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14414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2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58256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38000" y="1582560"/>
            <a:ext cx="114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3320" y="41911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4400" y="41922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9920" y="456552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- 2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1320" y="48513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– 3.5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84040" y="49798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2440" y="4979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14840" y="47070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47070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440" y="206388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00" y="39495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207648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7280" y="39625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240" y="39625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76480"/>
            <a:ext cx="10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2560" y="5761080"/>
            <a:ext cx="2541600" cy="517680"/>
            <a:chOff x="682560" y="5761080"/>
            <a:chExt cx="2541600" cy="517680"/>
          </a:xfrm>
        </p:grpSpPr>
        <p:grpSp>
          <p:nvGrpSpPr>
            <p:cNvPr id="143" name=""/>
            <p:cNvGrpSpPr/>
            <p:nvPr/>
          </p:nvGrpSpPr>
          <p:grpSpPr>
            <a:xfrm>
              <a:off x="682560" y="5761080"/>
              <a:ext cx="2541600" cy="276480"/>
              <a:chOff x="682560" y="5761080"/>
              <a:chExt cx="2541600" cy="276480"/>
            </a:xfrm>
          </p:grpSpPr>
          <p:sp>
            <p:nvSpPr>
              <p:cNvPr id="144" name=""/>
              <p:cNvSpPr/>
              <p:nvPr/>
            </p:nvSpPr>
            <p:spPr>
              <a:xfrm>
                <a:off x="682560" y="5829480"/>
                <a:ext cx="317520" cy="150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09800" y="5761080"/>
                <a:ext cx="221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Directional 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5520" y="6002280"/>
              <a:ext cx="2210760" cy="276480"/>
              <a:chOff x="695520" y="6002280"/>
              <a:chExt cx="2210760" cy="276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5520" y="6070320"/>
                <a:ext cx="317160" cy="150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22400" y="6002280"/>
                <a:ext cx="188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Omni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197320" y="5456160"/>
            <a:ext cx="209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h Throughput (D/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/ .87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470 / .213 Mb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1905120"/>
            <a:ext cx="139680" cy="349200"/>
          </a:xfrm>
          <a:prstGeom prst="can">
            <a:avLst>
              <a:gd name="adj" fmla="val 12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5481720"/>
            <a:ext cx="167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142884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 Antennas (52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9480" y="1552320"/>
            <a:ext cx="58572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0680" y="2228760"/>
            <a:ext cx="0" cy="22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0560" y="2222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1480" y="411480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8880" y="444024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er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72EA0-8E6B-4E9F-B1EE-2433A9AAC2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OFDM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de area NLOS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pectrum Efficienc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ular reuse with limited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acces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49154-2CAC-4925-9A79-D79B0999E7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Wide-Area Coverage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7440" y="1277640"/>
            <a:ext cx="35686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mall town/rural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0 dBi omni base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3 dBi subscriber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asured link margin for QPSK OFD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Yellow             &gt;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d             15 to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ght blue   10 to 15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reen            5 to 10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98840" y="1697040"/>
            <a:ext cx="3841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B7F96-C6DE-4E5C-90F1-AFB09D6DE6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3:51:25Z</dcterms:created>
  <dc:creator>Eric Dunn</dc:creator>
  <dc:description>Presented at WCA 2002 conference, Jan 2002, San Jose, California</dc:description>
  <dc:language>en-US</dc:language>
  <cp:lastModifiedBy>Property of</cp:lastModifiedBy>
  <cp:lastPrinted>1999-10-14T16:22:24Z</cp:lastPrinted>
  <dcterms:modified xsi:type="dcterms:W3CDTF">2002-02-14T22:00:10Z</dcterms:modified>
  <cp:revision>439</cp:revision>
  <dc:subject/>
  <dc:title>Advantages of OFDM for Mixed Service Second Generation NLOS Broadband Wireless Access</dc:title>
</cp:coreProperties>
</file>