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F291-3268-4C76-BCE6-562EF69D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B6BA-D27A-46F4-9E9D-10896709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F544-A0D6-4F39-830B-8EF64A58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FA70-EE9D-42CD-A8B7-1AB8552A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6D12-82C2-49CA-8A53-823DC366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8BE6-1F5B-4C88-92EE-40AABE7E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1C7E-E73F-4B4C-81F3-75083F99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E495-6B46-44A9-8845-39184DA4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319E-19D4-4979-8BDC-91D46BCC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0DB3-1ABD-4B6E-B8B5-148320E4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65F9-B924-4D2B-850A-1EE07AED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11ED-5B50-4DEA-A75D-5200E28E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D02C-3200-4591-B274-F27128A2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CD86-869D-4582-BF0D-F31E58EF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EC24-233E-47C2-9006-F112A700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E1E2-4BF4-4B0D-A294-CE5755C5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385D-535D-4459-B82F-15712745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7B2C-FFCA-4D68-BDAB-DD86646F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54A0-6574-4021-A548-B732254B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F93F-C6BF-40E1-885E-63F577D8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1858-89D2-4120-A020-AF6C4552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9475-9257-48C5-A976-3EC9F4EA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FB43-480E-4E29-9328-06A90416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FD6D-55FD-498F-B349-0491A2BB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C407-A251-45AC-B347-EAFA16D27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3a2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d5cf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d5c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0338-25D2-454F-B63F-7A782B3FB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57564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523880"/>
            <a:ext cx="7554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0165"/>
                </a:solidFill>
                <a:latin typeface="Arial"/>
              </a:rPr>
              <a:t>Ricochet –</a:t>
            </a:r>
            <a:r>
              <a:rPr b="0" lang="en-US" sz="4000" spc="-1" strike="noStrike">
                <a:solidFill>
                  <a:srgbClr val="0f016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0165"/>
                </a:solidFill>
                <a:latin typeface="Arial"/>
              </a:rPr>
              <a:t>Autopsy of a Wireless Carr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95680" y="5791320"/>
            <a:ext cx="4648320" cy="1066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3276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id It Happen &amp; How to Avoid the Same Resul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5029200"/>
          <a:ext cx="28195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29200"/>
                    <a:ext cx="2819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of the Road to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Be Paranoid, but Understand Competitive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stand the Difference between Evolutionary &amp; Disruptive Technolo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Define &amp; Deploy a Compelling Price Value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 Segment - Mobile Subscriber vs SME &amp; DSL Consumer Market Seg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Build Distribution from the Bottom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CI vs Small to Medium Regional/Local ISPs, SIs &amp; NSPs/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Don’t Scale Deployment Without: Tested Operations &amp; Distribu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Burn Rates &amp; Low Subscriber Ad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The Availability of Capital is not Endu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ize Burn Rates until Growth Takes O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438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Focus On One Thing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reless Carrier vs Technology Develop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) Hire the Best Employees You Can Afford &amp; List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alter the laws of Phys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rint – 40+ Markets - $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cochet – 40+ Markets 1.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) Watch Out for Economic Cy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Change Them &amp; They Can Hurt You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) Be agile – If Its Not Working – CHANGE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evaluate your Business Model Early &amp; Ofte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Willing to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) Go Back to Rule # 4 – LIVE BY IT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5909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21:10:11Z</dcterms:created>
  <dc:creator>IT Support</dc:creator>
  <dc:description/>
  <dc:language>en-US</dc:language>
  <cp:lastModifiedBy>Lee Gopadze</cp:lastModifiedBy>
  <dcterms:modified xsi:type="dcterms:W3CDTF">2002-02-08T16:09:59Z</dcterms:modified>
  <cp:revision>336</cp:revision>
  <dc:subject/>
  <dc:title>PowerPoint Presentation</dc:title>
</cp:coreProperties>
</file>