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.png" ContentType="image/png"/>
  <Override PartName="/ppt/media/image25.jpeg" ContentType="image/jpeg"/>
  <Override PartName="/ppt/media/image1.png" ContentType="image/png"/>
  <Override PartName="/ppt/media/image27.wmf" ContentType="image/x-wmf"/>
  <Override PartName="/ppt/media/image16.png" ContentType="image/png"/>
  <Override PartName="/ppt/media/image26.png" ContentType="image/png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481-8CB6-4329-A4BA-E9E91D97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DA5-DC55-47C6-B801-3FC9B5E2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C8F-9F24-4121-8C92-33E6962D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090-759E-4D48-B831-D3304799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6A18-0A34-4584-95D8-7F104073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F81A-9C15-4D16-BE6E-773DB369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8C2D-C335-4D1E-8662-7EDC8AF2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8CE5-D7A5-4855-B66D-D6902E7E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F826-9425-4169-8CDB-0F6AD727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AE9A-6296-405F-A8D0-FB754BB2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15E3-01B6-4763-9CC0-6C25D7C3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E63-C705-44C2-B38D-ED03D341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E281-AC34-47C0-94DD-8E2859B1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EB27-45C3-42EB-B4C2-711C4979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0B8A-95AD-4F4F-AAB1-352C1E1C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1F8B-83AC-4AEB-8D9D-B0B52783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791C-5764-47B0-802F-66A38826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34C-DD8A-47C6-AC45-0CC724A3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ACE-4890-4D6D-B1DB-2B4A9D93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CDA-7ECD-489F-9AD2-8F7C4179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418-C1B8-4BF7-846C-403B54CC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716-B295-4221-8565-054D6674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4BC-3A3C-4A9E-AD09-2BCFB7DC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34B-84EE-4B55-AD49-C9978B78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A4F8-384E-45F3-8235-8895DE6F5734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D9A4-5A85-4D9C-A2C4-E96ADB584CC6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Kontribusi Perpustakaan Pusat ITB:</a:t>
            </a:r>
            <a:br>
              <a:rPr sz="32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onsep, strategi, teknologi, dan jaringan Digital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MRG, AI3, CN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mail Fahmi - Ismail@itb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8AD3-96E5-4160-BC4F-2D86B9F7FF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stem WAIS-I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181840" cy="45669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32F-CB78-463B-B649-4FC8EEBD00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 server di ITB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ggot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1 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+40 buah database CDS/ISIS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ana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ll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33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419720" cy="39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F0E-B8AD-4495-A5B9-019C32A6E0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nline shopping &amp; ord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971800" cy="2073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552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2438640" cy="2023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908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2590920" cy="1984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45276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543400" cy="2489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45276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124080" y="4114800"/>
            <a:ext cx="2924280" cy="2451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527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152280" y="4114800"/>
            <a:ext cx="2847960" cy="243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48120" y="3352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32767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35053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A55-4C77-4B68-99B5-40FD6E35F9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Ganesha Digital Librar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62360" y="167652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jadi knowledgebase dari IC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ngan mengelola tacit &amp; explicit knowledge civitas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ggunakan TI yang tepat dan terjangkau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membuka akses bagi masyarakat secara lua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http://digital.lib.itb.ac.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CC5-6051-431E-AA29-E4099D0A11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plic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ourse mater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D87-6E42-4455-A80B-BEE1A159C7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Taci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Mailing list archiv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636-4361-44A9-A999-0618ABE743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Captur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555bad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5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4CD-96FE-4075-8E38-47936D6F2F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Access &amp; Dissemin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9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0" name=""/>
          <p:cNvCxnSpPr>
            <a:stCxn id="198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198" idx="4"/>
            <a:endCxn id="203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AA6-5C8D-4962-8BBC-DE553AC451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Pres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D63-6890-42A9-ACD0-B6547C7600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ampus Network Top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E4F-A91C-495B-A0C3-9BC39E975C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kilas tentang Knowledge Manag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KM di PP IT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ISNetwork, One Stop Shop for Libraries Servi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anesha Digital Libra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ringan Digital Library: Nasional &amp; Internas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Free-Software: GNU-Li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970-09BD-445F-AB72-CDCA7919F6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onfigurasi Serv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at ini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tium 1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4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9 GB H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IS-ISIS search eng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l ser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mail + Ezml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8840" y="1828800"/>
            <a:ext cx="283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00 GB HD (hingga TB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65F-A0F6-46A1-B1D0-3699AFE501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Jaringan Digital Library Nasiona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yek pembuatan sistem jaringan digital library nasional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husus mengelola laporan penelitian, thesis, dan disertas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34360" y="141120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DB0-C172-47DD-B155-022A71D59F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kus komunitas targ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hasiswa dan Peneli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omunitas yang kreatif dan inovatif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dusen knowled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nowledge manager, organis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adigma library sbg information cen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luang linka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DCF-44D8-438F-99B4-F2164DC3C6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si hasil penelitian terbuka dan mudah diak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blikasi hasil penelitian semakin cepat, mudah, dan murah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ualitas lulusan dan hasil penelitiannya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manfaatkan hasil penelitian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ksternalisasi tacit knowled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age dengan dunia bisnis, industri, dan masyara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7B1-C012-41AD-B6D8-BAE7BC5B52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laksana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MRG &amp; CN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nd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N ASIA/IDRC Singapo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yasan Litbang Telekomunikasi dan Informatik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NR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n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pport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ian Internet Interconnection Initiatives (AI3)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06E-DCE9-4118-BE1C-573B431234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rtner (pioneer)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EFA-7EAB-41FE-8B60-9216423A97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685800" y="228600"/>
          <a:ext cx="82296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2296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digital library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535-F80C-4EC5-B829-D71AA5D093F5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utput pro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 server Digital Library Netwo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ndard: metadata, naming, submission method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 pengelola di tiap partn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7F8-BCB9-4102-A4D7-98A2D043EB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Jaringan Digital Library Internasional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tukaran knowledgebase (laporan penelitian, tesis, dan disertas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rtner di luar negeri (confirmed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Groningen, Belan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Aalborg, Denma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B sebagai hub/gateway untuk Indones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imasi tahun 20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107-5A6E-4674-B13A-6123DD9773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DF3-2F53-4452-BC2A-44ACEB95EB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Knowledge Management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555b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90C-48E5-4DD6-A4C9-D920D3E76E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luang jaringan Internas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FA95-C024-4E78-B2FC-6484E4D8F9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a Self-Sustainab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ding hanya diperlukan diaw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anjutnya pola self-sustainabl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 akses ke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ualan CD-ROM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base sebagai modal barter dengan partner internasio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1EC-DF96-4AF5-9715-04EB1DBE5F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u Plagiatis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iap orang akan dengan mudah mengetahui hasil / laporan riset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setiap plagiat akan mudah dilacak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keinginan berbuat plagiat semakin keci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302-4E17-4ADA-A782-BD297F25CE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GNU-Lib, Free-Software Library Automation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-Softwar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erarti “freedom”, “bebas”, “liberty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ukan “gratis”, “harga 0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brary Automatio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orkflow aktifitas perpustakaan dengan bantuan TI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ncarian, peminjaman, pengembalian, denda, pemesanan, perpanjangan, pengadaan buku, keanggotaan, dll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NU-Lib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ject pembuatan Free-Software Library Automa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leh KM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3" name="gnu-head-sm" descr=""/>
          <p:cNvPicPr/>
          <p:nvPr/>
        </p:nvPicPr>
        <p:blipFill>
          <a:blip r:embed="rId1"/>
          <a:stretch/>
        </p:blipFill>
        <p:spPr>
          <a:xfrm>
            <a:off x="6553080" y="1447920"/>
            <a:ext cx="2362320" cy="2233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939000" y="5410080"/>
            <a:ext cx="120636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ahun in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A14-8004-4FEE-851A-D139CAC1D8C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eatu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gsi library automation pada umum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b akses: online search, pesan, perpanjangan, 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ail aler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code enabl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324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81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CC5-21F2-452D-8F06-A5243B8F05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ard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entium 100 MHz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32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4 GB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rocessor 48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16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No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Mod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et connection to ISP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8EB-BB4E-4774-BA2B-78D733B681D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perating system: Linux or Unix 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atabase server: 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Scripting language: Per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Web server: 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ail server: Qmai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OS with TCP/IP applica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for barcode printing, using Windows 95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4F3-7E90-4C60-B8BC-34BCB86856E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imakasi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74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B0E-E8C0-4629-B752-D7AE957DAD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 K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24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4D8-2C4E-4DBE-8E12-915DA88CEE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27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744e1d"/>
                </a:gs>
                <a:gs pos="50000">
                  <a:srgbClr val="fcab40"/>
                </a:gs>
                <a:gs pos="100000">
                  <a:srgbClr val="744e1d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ikator Keberhasil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1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74A-BEDE-4A09-B124-553FA76167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unci suks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daya “knowledge-friendl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ujuan dan Bahasa yang jel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 transfer dengan berbagai jal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kungan senior manajem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453-021B-4452-BF53-56BBBF571D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Project KM di PP ITB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uju masyarakat berbasis ilmu pengetahuan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lalui pengelolaan modal intelektual secara efektif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ggunakan teknologi informasi yang tepat dan terjangkau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B23-7266-4104-9C15-6C1F36ECB9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rateg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/Open-Sour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mbangun tool DL yang  “free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ngelola dan membuka akses ke IC IT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re teknologi DL dan membangun jaringan D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mosi komunitas “knowledge-sharing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84A-6FBC-4079-8F12-B61A2C5269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, One Stop Sho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81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934320" cy="5064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70240" y="2133720"/>
            <a:ext cx="3292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http://isisnetwork.lib.itb.ac.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FD3-788A-4A30-A577-C04055253A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8:51:05Z</dcterms:created>
  <dc:creator>Ismail Fahmi</dc:creator>
  <dc:description/>
  <dc:language>en-US</dc:language>
  <cp:lastModifiedBy>Ismail Fahmi</cp:lastModifiedBy>
  <dcterms:modified xsi:type="dcterms:W3CDTF">2000-06-30T01:13:32Z</dcterms:modified>
  <cp:revision>39</cp:revision>
  <dc:subject/>
  <dc:title>Leveraging Intellectual Capital Assets within Research &amp; Education Institutions</dc:title>
</cp:coreProperties>
</file>