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7CB-35D8-4A44-AB7D-8EAF07C4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A45-52C1-4780-8638-7F02A40B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BA4-6515-4AB1-8F86-1AAA3216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BE8-DF17-4845-B8CB-E48803F5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0DE0-DDBE-4216-83D9-622FBC73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F447-C3AF-443E-BB0B-474FA119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3D6B-9D1A-45DC-9CAB-3EBE74FE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05F1-47E1-4409-AE45-71AA66AA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4D14-F368-4F72-88C4-ACF7FC6E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BC03-1058-40A8-AB59-DBFF304F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F055-6AB9-4CF1-9DF6-3C57B6EB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EC6-C2CF-4116-BAAB-7B0E6CCD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80E4-B281-414A-9076-773CA19B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30C1-3309-405D-B243-2A3306EB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886F-DF69-4CD9-8D3A-D1F15B2B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3E0F-C351-4780-99AF-B4D0DE6A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F3B2-0E89-47FE-AACA-5C509E0A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85A-8B94-4CBB-B2F2-75FEDC0C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FAD-67B8-4978-8D31-99BBE70B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2123-6CB3-4877-A947-70633DED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E1A-1973-4340-BE61-CCC2B6D3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4E9-1CC8-457F-9551-4F05C2FA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42A-0000-47E5-A4E7-C60828FA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4BF-32B2-4710-934E-BF4CE77B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39F7-ABE2-4F7E-8D8A-C2672D4794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25DB-D953-4A5B-A30A-EBE6E7F4DE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isasi Internet dalam Meningkatkan Mutu Pendidik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mail Fahmi, Ir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smail@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ledge Management Research Group IT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ar Nasional STMIK Jabar 8 Agustus 2000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yakarta Hot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bih bersifat Sos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08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ang kopi (informal) lebih efektif untuk belajar dari pada ruang kelas (form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stanford_study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5259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Kompo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cloud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046920" cy="4235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7720" y="2792520"/>
            <a:ext cx="38120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many even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1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labbor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ency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tem manajemen “lear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 Manajemen “Learning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lms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029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eBisn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hubungan deng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-chain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langnya intermedi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bang perangkap (pitfal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si; penyedia eLearning bermil-mil dari monitor learner. Tanpa motivasi tak akan ada koneksi akhir ke pikiran lea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trasi; belajar melalui desktop, diantara berbagai ganggungan telepon, teman, tetangga, anak, tv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isi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ducational psychologist William Glasser mengatakan, kita belaj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% of what we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% of what we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0% of what we 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0% of what we see &amp;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0% of what we discus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80% of what we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95% of what we teach someone 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kegaga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ualitas dan intensitas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tersediaan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biasaan, sifat, dan buda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knologi pengiriman materi -- bandwidth, dl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la pembiay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kurangan dari model kolaborasi dig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ap dalam ri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alibrasi dari ekspekt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liott Masie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earning Briefing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January 2000, Seatt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en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ingkat kebutuhan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jemen berbasis standard (X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anj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i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bedded dalam perangk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l” learning menggunakan berbagai media (multimed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cok untu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usahaan &amp; pegaw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jangka pendek (ski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gaimana deng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jaran etika dan m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sialisasi, ber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um tergantikan oleh eLearn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Knowledge Managemen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di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 K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60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63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94d"/>
                </a:gs>
                <a:gs pos="50000">
                  <a:srgbClr val="00e4a8"/>
                </a:gs>
                <a:gs pos="100000">
                  <a:srgbClr val="00694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kator Keberhasi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unci suk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daya “knowledge-friendly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 dan Bahasa yang je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transfer dengan berbagai ja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an senior manaje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anesha Digital Librar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78280" y="201780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jadi knowledgebase dari IC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mengelola tacit &amp; explicit knowledge civitas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ggunakan TI yang tepat dan terjangkau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 membuka akses bagi masyarakat secara lu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http://digital.lib.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plic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rse related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Taci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iling list and archiv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Captu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Access &amp; Dissem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3" name=""/>
          <p:cNvCxnSpPr>
            <a:stCxn id="201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1" idx="4"/>
            <a:endCxn id="206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mpus Network To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di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pendidikan konvensional (class room) belum tergantikan (tatap muka, moral, etik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bisa sangat membantu pendidi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lam beberapa hal, Internet lebih baik dari pendidikan konvens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figurasi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at in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tium 10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 MB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GB 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B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 + 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S-ISIS search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mail + Ezml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5568480" y="1828800"/>
            <a:ext cx="290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GB HD (hingga T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ustering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Jaringan Digital Library Nasion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3313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yek pembuatan sistem jaringan digital library nasiona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husus mengelola laporan penelitian, thesis, dan disert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150200" y="175248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komunitas tar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hasiswa dan Penel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omunitas yang kreatif dan inovati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sen knowled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pustak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nowledge manager, organis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digma library sbg information ce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luang link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si hasil penelitian terbuka dan mudah diak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kasi hasil penelitian semakin cepat, mudah, dan mura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alitas lulusan dan hasil penelitiannya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manfaatkan hasil penelitian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sternalisasi tacit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age dengan dunia bisnis, industri, dan masyara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ksa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MRG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 ASIA/IDRC Singapor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yasan Litbang Telekomunikasi dan Informatik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n Internet Interconnection Initiatives (AI3)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N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(pioneer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28600" y="228600"/>
          <a:ext cx="86868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umulasi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6765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6765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2096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b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7432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32767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22096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Medical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27432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Phil, Religion, Agricultur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2767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38098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8098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Human Right,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3434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stern Un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8769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4100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43434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48769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4100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put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-Software server Digital Librar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: metadata, naming, submission method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 pengelola di tiap part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aringan Digital Library Internasio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tukaran knowledgebase (laporan penelitian, tesis, dan diserta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di luar neger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Groningen, Belanda (proposal in progre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Aalborg, Denmark (potens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B sebagai hub/gateway untuk Indones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si tahu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Era Bar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7325" t="28734" r="35011" b="12291"/>
          <a:stretch/>
        </p:blipFill>
        <p:spPr>
          <a:xfrm>
            <a:off x="1371600" y="2057400"/>
            <a:ext cx="6553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jaringan Internas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 Self-Sustain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ing hanya diperlukan diaw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anjutnya pola self-sustain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akses ke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jualan CD-ROM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base sebagai modal barter dengan partner internas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lagiatis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iap orang akan dengan mudah mengetahui hasil / laporan rise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setiap plagiat akan mudah dilacak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keinginan berbuat plagiat semakin kec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imakasi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proses belajar memanfaatkan internet (internet-enabled learning) – C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memanfaatkan kekuatan jaringan untuk belajar, kapan pun, dimana pun – Arista Knowledg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gabungan antara proses belajar dan internet – Bank of 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dinamis, real time, kolaboratif, individual, dan komprehensi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thd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ga sudut panda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osof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p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tif Filosof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mengubah segalanya; pendidikan dan training sedang berubah, radikal – Nicholas Negropo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olusio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aman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dalah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bih bersifat sos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er yang bertanggung jaw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olusio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inscentered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772080" cy="270504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5" name="learnercentered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5079960" cy="271800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6" name=""/>
          <p:cNvSpPr/>
          <p:nvPr/>
        </p:nvSpPr>
        <p:spPr>
          <a:xfrm rot="1888200">
            <a:off x="3962160" y="26668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120" y="495288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i berpus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a “instruc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68600" y="2743200"/>
            <a:ext cx="27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 berpusat 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amany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berkelanju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a 40-tahun (vs 4 tahu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setiap h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rja menjadi belaj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menjadi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 seorang pun pernah seles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0:33:28Z</dcterms:created>
  <dc:creator>Ismail Fahmi</dc:creator>
  <dc:description/>
  <dc:language>en-US</dc:language>
  <cp:lastModifiedBy>Ismail Fahmi</cp:lastModifiedBy>
  <dcterms:modified xsi:type="dcterms:W3CDTF">2000-08-07T02:26:35Z</dcterms:modified>
  <cp:revision>12</cp:revision>
  <dc:subject/>
  <dc:title>Optimalisasi Internet dalam Meningkatkan Mutu Pendidikan</dc:title>
</cp:coreProperties>
</file>