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DBA1-4CDA-4E60-9206-BE90F24D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C76D-A0DB-4599-BEB1-A65CACFD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0464-008E-4E44-81B9-9A33F633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8847-D2F7-4719-B0E5-4AFA9AB2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D47DA-7DCE-4929-BE64-53607D6B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EADC-7E79-4395-81F4-616A9BEA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75CC-C75A-4D50-B702-9A04BACA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EEAE-685F-42E5-BCCD-4F8F8452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8688-BB29-43D5-86EF-D5C00B94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778C-B2AA-4C8B-82F2-0887AE48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0A95-3264-48FA-8DBF-9411CD46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EC7-4357-492F-91A5-943DB982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0FF8-9038-46BF-9E7F-D98C20F0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7A74-C85E-40F0-B8F8-9F78B538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3E5C-BFFE-46D3-8D1E-A2921856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81A1-BF53-4E07-AD43-7C50AB09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E46D-82F1-4087-9C21-1FC8696F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785-2CF1-461C-9F01-1A6976BF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9EF-7F29-4424-8394-7405B723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E8C1-D08F-40A8-897C-8C56EDBF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1063-19B7-4085-B994-21AEC6E6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5D2A-9258-4771-96F3-1AF0665C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D4B-3307-4565-A2ED-A52FBBE6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79C5-C364-42CD-8745-66519BFA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4C43-84D6-4FED-8307-1535FB58D728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0386F-FEFB-44DE-8C1A-68E3A415E99E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r.org/diglib/about/strategic.htm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1 Bulan IndonesiaDLN dan Tantangan Di Depan It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3505320"/>
            <a:ext cx="6400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smail Fahmi &lt;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jen IndonesiaDLN (s/d 2002)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tua KMRG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1 April 2002, Savoy Homan, Bandung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ktif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a 4 aspek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ocie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mengelola forum IndonesiaDLN (lewat milis dan pertemuan tahun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olic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proaktif memberi masukan kepada pimpinan institusi-institusi untuk berbagi pengetahuan (belum terlalu diaktifkan)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rategi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standard metadata dan protokol, strategic business unit model, services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echnical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tools, arsitektur, network, hub server, instalasi, training, operasion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rtn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simpul/node dari jarin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penggu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lian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institusi kerjas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ekretaria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execu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tandard &amp; Too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metadata, protokol,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ub Serv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 the storages of knowled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silitas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kretariat; numpang bareng KMRG di Perpustakaan Pusat ITB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rver Hub; numpang bareng server KMR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neksi Internet, 2 mbps numpang bareng AI3 ITB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figurasi sebuah LAN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31478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gdl-lan" descr=""/>
          <p:cNvPicPr/>
          <p:nvPr/>
        </p:nvPicPr>
        <p:blipFill>
          <a:blip r:embed="rId1"/>
          <a:stretch/>
        </p:blipFill>
        <p:spPr>
          <a:xfrm>
            <a:off x="1676520" y="2057400"/>
            <a:ext cx="59436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rsitektur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2971800"/>
            <a:ext cx="1828800" cy="53352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3505320"/>
            <a:ext cx="1828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L-Eng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33520" y="2514600"/>
            <a:ext cx="1371600" cy="1143000"/>
            <a:chOff x="533520" y="2514600"/>
            <a:chExt cx="1371600" cy="1143000"/>
          </a:xfrm>
        </p:grpSpPr>
        <p:sp>
          <p:nvSpPr>
            <p:cNvPr id="142" name=""/>
            <p:cNvSpPr/>
            <p:nvPr/>
          </p:nvSpPr>
          <p:spPr>
            <a:xfrm>
              <a:off x="533520" y="251460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GDL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80880" y="4267080"/>
            <a:ext cx="1523880" cy="1143000"/>
            <a:chOff x="380880" y="4267080"/>
            <a:chExt cx="1523880" cy="1143000"/>
          </a:xfrm>
        </p:grpSpPr>
        <p:sp>
          <p:nvSpPr>
            <p:cNvPr id="145" name=""/>
            <p:cNvSpPr/>
            <p:nvPr/>
          </p:nvSpPr>
          <p:spPr>
            <a:xfrm>
              <a:off x="380880" y="4267080"/>
              <a:ext cx="1523880" cy="7621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uman Rights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80880" y="5029200"/>
              <a:ext cx="152388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7086600" y="2514600"/>
            <a:ext cx="1371600" cy="1143000"/>
            <a:chOff x="7086600" y="2514600"/>
            <a:chExt cx="1371600" cy="1143000"/>
          </a:xfrm>
        </p:grpSpPr>
        <p:sp>
          <p:nvSpPr>
            <p:cNvPr id="148" name=""/>
            <p:cNvSpPr/>
            <p:nvPr/>
          </p:nvSpPr>
          <p:spPr>
            <a:xfrm>
              <a:off x="7086600" y="2514600"/>
              <a:ext cx="1371600" cy="76212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gricul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86600" y="327672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086600" y="4267080"/>
            <a:ext cx="1371600" cy="1143000"/>
            <a:chOff x="7086600" y="4267080"/>
            <a:chExt cx="1371600" cy="1143000"/>
          </a:xfrm>
        </p:grpSpPr>
        <p:sp>
          <p:nvSpPr>
            <p:cNvPr id="151" name=""/>
            <p:cNvSpPr/>
            <p:nvPr/>
          </p:nvSpPr>
          <p:spPr>
            <a:xfrm>
              <a:off x="7086600" y="4267080"/>
              <a:ext cx="1371600" cy="7621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eritage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86600" y="50292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809880" y="4724280"/>
            <a:ext cx="1371600" cy="1143000"/>
            <a:chOff x="3809880" y="4724280"/>
            <a:chExt cx="1371600" cy="1143000"/>
          </a:xfrm>
        </p:grpSpPr>
        <p:sp>
          <p:nvSpPr>
            <p:cNvPr id="154" name=""/>
            <p:cNvSpPr/>
            <p:nvPr/>
          </p:nvSpPr>
          <p:spPr>
            <a:xfrm>
              <a:off x="3809880" y="4724280"/>
              <a:ext cx="1371600" cy="7621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iblio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9880" y="5486400"/>
              <a:ext cx="13716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905120" y="3429000"/>
            <a:ext cx="1676160" cy="15228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05120" y="3733920"/>
            <a:ext cx="167616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409360" y="3429000"/>
            <a:ext cx="1676520" cy="228600"/>
          </a:xfrm>
          <a:custGeom>
            <a:avLst/>
            <a:gdLst/>
            <a:ahLst/>
            <a:rect l="l" t="t" r="r" b="b"/>
            <a:pathLst>
              <a:path w="1056" h="96">
                <a:moveTo>
                  <a:pt x="0" y="0"/>
                </a:moveTo>
                <a:lnTo>
                  <a:pt x="480" y="0"/>
                </a:lnTo>
                <a:lnTo>
                  <a:pt x="480" y="96"/>
                </a:lnTo>
                <a:lnTo>
                  <a:pt x="1056" y="96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409360" y="3733920"/>
            <a:ext cx="1676520" cy="15238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685800" cy="1905120"/>
          </a:xfrm>
          <a:custGeom>
            <a:avLst/>
            <a:gdLst/>
            <a:ahLst/>
            <a:rect l="l" t="t" r="r" b="b"/>
            <a:pathLst>
              <a:path w="432" h="1200">
                <a:moveTo>
                  <a:pt x="0" y="1200"/>
                </a:moveTo>
                <a:lnTo>
                  <a:pt x="432" y="1200"/>
                </a:lnTo>
                <a:lnTo>
                  <a:pt x="432" y="0"/>
                </a:lnTo>
                <a:lnTo>
                  <a:pt x="144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38680" y="1752480"/>
            <a:ext cx="1371600" cy="7621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tfo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362320"/>
            <a:ext cx="762120" cy="12189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1056"/>
                </a:moveTo>
                <a:lnTo>
                  <a:pt x="480" y="1056"/>
                </a:lnTo>
                <a:lnTo>
                  <a:pt x="480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2057400" y="1828800"/>
            <a:ext cx="1904760" cy="914040"/>
            <a:chOff x="2057400" y="1828800"/>
            <a:chExt cx="1904760" cy="914040"/>
          </a:xfrm>
        </p:grpSpPr>
        <p:sp>
          <p:nvSpPr>
            <p:cNvPr id="164" name=""/>
            <p:cNvSpPr/>
            <p:nvPr/>
          </p:nvSpPr>
          <p:spPr>
            <a:xfrm>
              <a:off x="2057400" y="1828800"/>
              <a:ext cx="1904760" cy="60948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stance Learning-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57400" y="2438280"/>
              <a:ext cx="1904760" cy="304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DL-Engi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590920" y="2743200"/>
            <a:ext cx="990360" cy="609480"/>
          </a:xfrm>
          <a:custGeom>
            <a:avLst/>
            <a:gdLst/>
            <a:ahLst/>
            <a:rect l="l" t="t" r="r" b="b"/>
            <a:pathLst>
              <a:path w="624" h="384">
                <a:moveTo>
                  <a:pt x="0" y="0"/>
                </a:moveTo>
                <a:lnTo>
                  <a:pt x="0" y="384"/>
                </a:lnTo>
                <a:lnTo>
                  <a:pt x="624" y="384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5638680"/>
            <a:ext cx="1371600" cy="762120"/>
          </a:xfrm>
          <a:prstGeom prst="rect">
            <a:avLst/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3886200"/>
            <a:ext cx="761760" cy="19810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lnTo>
                  <a:pt x="480" y="912"/>
                </a:lnTo>
                <a:lnTo>
                  <a:pt x="480" y="0"/>
                </a:lnTo>
                <a:lnTo>
                  <a:pt x="1056" y="0"/>
                </a:lnTo>
              </a:path>
            </a:pathLst>
          </a:custGeom>
          <a:noFill/>
          <a:ln w="9360">
            <a:solidFill>
              <a:srgbClr val="ffffff"/>
            </a:solidFill>
            <a:round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arat Menjadi Partner/Nod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Memiliki sumber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n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bersedia berbagi pengetahuan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bagi kemajuan bangsa Indonesia.”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ngkah Menjadi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finisikan: knowledge source, type, user, dan servic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kan staf dan mekanisme pengelolaa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 server digital libr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strasikan server ke IndonesiaDL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kronisasi data (share and harve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service 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18960" y="2590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ni 2001 – April 2002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Hub Serv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umlah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itus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6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on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rn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t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7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de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ABBNA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A = Kode wilayah (menurut Indomar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sal: JB = Jawa Bara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B = Tipe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T = Perguruan Tingg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K = Perpustakaan Khus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N = Warn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E = Pers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AME = Singkatan nama perpustakaan/institu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oh: JBPTITBPP (Perpustakaan Pusat ITB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FOR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ktober 2000: Forum dibentuk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ni 2001: Jaringan DL diluncurk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ril 2002: Pertemuan Tahunan Ketig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ggota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divid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tertarik pada PENGEMBANGAN DL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stitu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yang ingin turut BERBAGI PENGETAHUAN bagi bangsa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rtner/Nodes (Institusi)</a:t>
            </a: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 6 April 200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ndisi Koneksi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l-up / temporar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dicat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ipe Cont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04920" y="2133720"/>
          <a:ext cx="8458200" cy="343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458200" cy="34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5488200" y="5715000"/>
            <a:ext cx="323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= 4023 meta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mat Fi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4920" y="1447920"/>
          <a:ext cx="8610480" cy="52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61048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5 Besar Kontributor Metadata &amp; F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219320" y="1371600"/>
          <a:ext cx="701028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7010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e Vs Harves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umlah Partne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metadat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fil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3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vest/downloa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4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aktif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 2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 / Us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1600200"/>
          <a:ext cx="609624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609624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7151760" y="1563840"/>
            <a:ext cx="124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ondi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il b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bi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egara Asal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1600" y="1981080"/>
          <a:ext cx="406728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81080"/>
                    <a:ext cx="406728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6159960" y="2021040"/>
            <a:ext cx="19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 juga 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ng dari 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file Memb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523880" y="1905120"/>
          <a:ext cx="401796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905120"/>
                    <a:ext cx="40179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6160320" y="1639800"/>
            <a:ext cx="216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1,5%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hasiswa S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isi kedu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i Priv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any 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atistik Akses GDL Hub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usage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010640" cy="35053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4200" y="5907240"/>
            <a:ext cx="73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bagian besar berupa sinkronisasi data dari Part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523880" y="3124080"/>
          <a:ext cx="6553440" cy="27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124080"/>
                    <a:ext cx="655344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3716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638680" y="2743200"/>
            <a:ext cx="2209680" cy="1447560"/>
            <a:chOff x="5638680" y="2743200"/>
            <a:chExt cx="2209680" cy="1447560"/>
          </a:xfrm>
        </p:grpSpPr>
        <p:sp>
          <p:nvSpPr>
            <p:cNvPr id="110" name=""/>
            <p:cNvSpPr/>
            <p:nvPr/>
          </p:nvSpPr>
          <p:spPr>
            <a:xfrm>
              <a:off x="5638680" y="3264120"/>
              <a:ext cx="1493280" cy="92664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13640" y="2743200"/>
              <a:ext cx="1134720" cy="127404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77360" y="3322440"/>
              <a:ext cx="298440" cy="5760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143000" y="25909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ss to our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ecenderungan Partn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dan melakukan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tetap aktif mengelola DLnya tapi tidak aktif sharing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aktif harvest/download metadata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tner hanya terdaftar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alis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cenderungan tsb mungkin disebabka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 adalah sesuatu yang baru dan ingin dicob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ukungan pimpinan institusi untuk mengelola DL kurang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ndard operasi sinkronisasi data belum ada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sialisasi aktif dan service bagi partner belum didefinisikan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definisi pasar, kebutuhan user, dan standard service bersam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Di Dep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8cs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55308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rtanyaan untuk Meeting Ketiga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are our users and what are their need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services we will provide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bout standard, protocol, and tool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 will lead the IndonesiaDLN next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to survive from the financial issue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8960" y="28191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ntangan Terbes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rasal dari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dalam diri kita sendiri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ur knowledg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n’t want to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UNLOCK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t,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et it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LOCK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172200" y="4191120"/>
            <a:ext cx="1494000" cy="1523880"/>
            <a:chOff x="6172200" y="4191120"/>
            <a:chExt cx="1494000" cy="1523880"/>
          </a:xfrm>
        </p:grpSpPr>
        <p:sp>
          <p:nvSpPr>
            <p:cNvPr id="117" name=""/>
            <p:cNvSpPr/>
            <p:nvPr/>
          </p:nvSpPr>
          <p:spPr>
            <a:xfrm>
              <a:off x="6172200" y="4788000"/>
              <a:ext cx="1494000" cy="92700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00800" y="4191120"/>
              <a:ext cx="1135080" cy="127476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it is locke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rena KIT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idak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perlu kita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apa yang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orang lain ingin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dak (mau?) tahu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cara memberi tah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ta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n seterusnya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to Unlock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ilah tugas KITA di IndonesiaDL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TA haru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TAHU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jadi SADAR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u BERBAGI, lal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are it ! Tunggu apa lagi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pa yang perlu dike-TAHU-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kayaan intelektual kit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nt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apa membutuhkan ap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mmun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gaimana menyampaikannya (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ulture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ooperation, commerce, capital, capacity, dan connectivit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hat: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http://idln.lib.itb.ac.id/Open.html?target= overview/delapan_kesenjangan.htm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ngapa Digital Librar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rupakan ‘storage of knowledge’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udah dan murah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line, anywhere, anytim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y (Perpustakaan) sudah lama dikenal masyaraka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 Digital Librar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"Digital libraries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rganization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at provide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sourc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ncluding the specialize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aff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to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lec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truct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ffe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llectua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cces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o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terpret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istribut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reserv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integrity of,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nsur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persistenc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ver time of collections of digital works so that they ar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readi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economicall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vailable f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use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y a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defined community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et of communitie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imes New Roman"/>
                <a:ea typeface="Times New Roman"/>
                <a:hlinkClick r:id="rId1"/>
              </a:rPr>
              <a:t>http://www.clir.org/diglib/about/strategic.ht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0T00:50:10Z</dcterms:created>
  <dc:creator>Ismail Fahmi</dc:creator>
  <dc:description/>
  <dc:language>en-US</dc:language>
  <cp:lastModifiedBy>Ismail Fahmi</cp:lastModifiedBy>
  <dcterms:modified xsi:type="dcterms:W3CDTF">2002-04-10T05:01:40Z</dcterms:modified>
  <cp:revision>14</cp:revision>
  <dc:subject/>
  <dc:title>11 Bulan IndonesiaDLN dan Tantangan Masa Depan</dc:title>
</cp:coreProperties>
</file>