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01A0-B2C1-4991-84B1-87C63BFD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1077-3B28-4E31-ACC7-527480C2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01F-60C7-441C-BFDE-890A9B45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B658-58B0-4738-9788-3AC9F40D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80D6-FE4E-41BF-AE2D-37CEDDF5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8B2B-BF94-43CD-8069-706EB1F3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97BB-A006-4254-BDD2-D6C971EC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AED8-CEF0-40F5-AEE5-9A45E676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E66C-506A-480D-97A1-B35E896E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511C-32AF-4AA6-8756-0CF9D4CF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A23E-015C-463E-8DD1-B9DD0DEA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660C-3967-46A4-888A-2FCB4D2F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E379-1594-456A-BE6E-FFE7D636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C66B-5B8E-4C16-882E-07175F58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E89AF-54CE-4D42-90F1-B3AD2C1E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4B51-F3A3-4D67-9896-20D6CAA5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C227-DA2A-4C1C-8D64-A6093B3A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B2F5-8A34-4692-A820-F2F8199B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ECFC-0649-47EE-B8D1-551F4AE1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411-5143-4ABC-9281-FF254AAC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7DAA-4428-48D2-9703-1B91460A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2634-5E02-4A99-88EB-CF728C5D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1873-B8F9-4C83-98EB-C5E98569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C80C-E796-4CBE-A438-267B13A4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2D96-45F2-42FF-87CE-F5FED4D14BE7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B302-FFBC-4A27-968C-47864A7EE7C9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4.wmf"/><Relationship Id="rId3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wmf"/><Relationship Id="rId14" Type="http://schemas.openxmlformats.org/officeDocument/2006/relationships/image" Target="../media/image4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: How It Work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0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28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33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46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62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64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6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6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169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173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187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93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14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16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218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219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7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229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0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1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245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247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48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49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251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5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3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55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56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66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67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277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278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288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289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299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00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10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11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321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322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325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328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334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335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45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46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56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57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67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70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0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391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94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399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421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422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3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5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5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8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9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455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457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8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459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60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61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2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474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496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9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542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575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578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0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2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8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4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58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6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58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8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58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0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59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2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59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4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59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6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59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98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599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02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0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4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0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06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10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16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621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62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650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652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653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1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663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665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4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679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681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8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83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84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685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87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689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690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693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696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9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02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06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10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0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21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2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723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24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2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26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727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771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72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3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774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75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7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9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6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90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15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17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819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820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823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826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32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836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838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3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40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41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842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843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1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853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854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864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6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868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70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884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887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R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890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893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896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33520" y="13716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905120" y="1981080"/>
            <a:ext cx="1676160" cy="152424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3:26:14Z</dcterms:created>
  <dc:creator>Ismail Fahmi</dc:creator>
  <dc:description/>
  <dc:language>en-US</dc:language>
  <cp:lastModifiedBy>Ismail Fahmi</cp:lastModifiedBy>
  <dcterms:modified xsi:type="dcterms:W3CDTF">2002-03-19T15:04:09Z</dcterms:modified>
  <cp:revision>59</cp:revision>
  <dc:subject/>
  <dc:title>IndonesiaDLN: How It Works?</dc:title>
</cp:coreProperties>
</file>